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7.png" ContentType="image/png"/>
  <Override PartName="/ppt/media/image34.jpeg" ContentType="image/jpeg"/>
  <Override PartName="/ppt/media/image38.wmf" ContentType="image/x-wmf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40.jpeg" ContentType="image/jpeg"/>
  <Override PartName="/ppt/media/image33.jpeg" ContentType="image/jpeg"/>
  <Override PartName="/ppt/media/image27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1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B3D7-DBB6-4F10-AA74-782E0D537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197D-27A9-431D-8884-145E3A99B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2B70-02A9-4652-8AD3-6C5243371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1B97-9544-438F-958A-014C2510B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96D1-589F-42B8-9A84-531E2694A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277C-DD5C-41EF-9F70-45BEA1A55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15E1-8E3A-4084-B4D0-829B62F24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F635-536F-4417-B323-183E694DF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B804-D35E-4797-BE7A-2ADE59B85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6586-AC93-4A4C-86D3-88EFCD2CA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2D9D-A4B3-471E-AA87-A22615395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CBE1-FD8E-44EB-A56F-F47C55DB2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E296-9C09-4770-980A-C5A8650CA2D9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Semantic Web Technololgy Show Case at ESTC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’07, </a:t>
            </a:r>
            <a:r>
              <a:rPr b="1" lang="en-US" sz="1500" spc="-1" strike="noStrike">
                <a:solidFill>
                  <a:srgbClr val="008484"/>
                </a:solidFill>
                <a:latin typeface="Arial"/>
              </a:rPr>
              <a:t>Vienna, Aust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4"/>
          <a:stretch/>
        </p:blipFill>
        <p:spPr>
          <a:xfrm>
            <a:off x="8508960" y="6249960"/>
            <a:ext cx="638280" cy="61128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7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61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59000"/>
            <a:ext cx="5854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0"/>
            <a:ext cx="0" cy="1359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3760" y="5492880"/>
            <a:ext cx="0" cy="1365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63760" y="5486400"/>
            <a:ext cx="5880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png"/><Relationship Id="rId7" Type="http://schemas.openxmlformats.org/officeDocument/2006/relationships/image" Target="../media/image18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20.wmf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5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5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5.png"/><Relationship Id="rId11" Type="http://schemas.openxmlformats.org/officeDocument/2006/relationships/image" Target="../media/image28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" Target="slide33.xml"/><Relationship Id="rId3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it.unitn.it/~knowdive/" TargetMode="External"/><Relationship Id="rId3" Type="http://schemas.openxmlformats.org/officeDocument/2006/relationships/hyperlink" Target="http://www.dit.unitn.it/~knowdive/" TargetMode="External"/><Relationship Id="rId4" Type="http://schemas.openxmlformats.org/officeDocument/2006/relationships/hyperlink" Target="http://www.dit.unitn.it/~knowdive/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ontologymatching.org/" TargetMode="External"/><Relationship Id="rId7" Type="http://schemas.openxmlformats.org/officeDocument/2006/relationships/hyperlink" Target="http://www.ontologymatching.org/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63360"/>
            <a:ext cx="9144000" cy="170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SCHEMA-BASED</a:t>
            </a: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610800"/>
            <a:ext cx="6108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avel Shvai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479760"/>
            <a:ext cx="118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4152960"/>
            <a:ext cx="454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joint work on “semantic matching”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Fausto Giunchiglia and Mikalai Yatskev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40280" y="4788000"/>
            <a:ext cx="383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joint work on “ontology matching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ith J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ô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e Euze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05160" y="5530680"/>
            <a:ext cx="58388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1st European Semantic Technology Conference (ESTC’07),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Semantic Web Technology Showc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31 May 2007, Vienna, Au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8360" y="6135840"/>
            <a:ext cx="75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Application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23600" y="1638360"/>
            <a:ext cx="7683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8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Traditional</a:t>
            </a:r>
            <a:endParaRPr b="1" lang="en-US" sz="2600" spc="-1" strike="noStrike">
              <a:solidFill>
                <a:srgbClr val="008484"/>
              </a:solidFill>
              <a:latin typeface="Arial"/>
            </a:endParaRPr>
          </a:p>
          <a:p>
            <a:pPr lvl="1" marL="565920" indent="-18864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8484"/>
                </a:solidFill>
                <a:latin typeface="Arial"/>
              </a:rPr>
              <a:t>Ontology evolution</a:t>
            </a: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lvl="1" marL="565920" indent="-18864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8484"/>
                </a:solidFill>
                <a:latin typeface="Arial"/>
              </a:rPr>
              <a:t>Schema integration</a:t>
            </a: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lvl="1" marL="565920" indent="-18864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8484"/>
                </a:solidFill>
                <a:latin typeface="Arial"/>
              </a:rPr>
              <a:t>Catalog integration</a:t>
            </a: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lvl="1" marL="565920" indent="-18864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8484"/>
                </a:solidFill>
                <a:latin typeface="Arial"/>
              </a:rPr>
              <a:t>Data integration</a:t>
            </a: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marL="1882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mergent</a:t>
            </a:r>
            <a:endParaRPr b="1" lang="en-US" sz="2600" spc="-1" strike="noStrike">
              <a:solidFill>
                <a:srgbClr val="008484"/>
              </a:solidFill>
              <a:latin typeface="Arial"/>
            </a:endParaRPr>
          </a:p>
          <a:p>
            <a:pPr lvl="1" marL="565920" indent="-18864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8484"/>
                </a:solidFill>
                <a:latin typeface="Arial"/>
              </a:rPr>
              <a:t>P2P information sharing</a:t>
            </a: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lvl="1" marL="565920" indent="-188640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8484"/>
                </a:solidFill>
                <a:latin typeface="Arial"/>
              </a:rPr>
              <a:t>Web service composition</a:t>
            </a: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lvl="1" marL="565920" indent="-188640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8484"/>
                </a:solidFill>
                <a:latin typeface="Arial"/>
              </a:rPr>
              <a:t>Agent communication</a:t>
            </a: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lvl="1" marL="565920" indent="-188640">
              <a:spcBef>
                <a:spcPts val="5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8484"/>
                </a:solidFill>
                <a:latin typeface="Arial"/>
              </a:rPr>
              <a:t>Query answering on the web</a:t>
            </a: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marL="188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F4A2-43DA-4046-8700-65E4D0D6E3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4143240" y="3005280"/>
            <a:ext cx="1805040" cy="349200"/>
            <a:chOff x="4143240" y="3005280"/>
            <a:chExt cx="1805040" cy="349200"/>
          </a:xfrm>
        </p:grpSpPr>
        <p:sp>
          <p:nvSpPr>
            <p:cNvPr id="182" name=""/>
            <p:cNvSpPr/>
            <p:nvPr/>
          </p:nvSpPr>
          <p:spPr>
            <a:xfrm>
              <a:off x="4143240" y="3005280"/>
              <a:ext cx="1805040" cy="349200"/>
            </a:xfrm>
            <a:prstGeom prst="ellipse">
              <a:avLst/>
            </a:prstGeom>
            <a:solidFill>
              <a:srgbClr val="ffffff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11720" y="3049560"/>
              <a:ext cx="15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ommon 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5041440" y="1906560"/>
            <a:ext cx="3240" cy="111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390680" y="1300320"/>
            <a:ext cx="7905600" cy="5216400"/>
            <a:chOff x="1390680" y="1300320"/>
            <a:chExt cx="7905600" cy="5216400"/>
          </a:xfrm>
        </p:grpSpPr>
        <p:grpSp>
          <p:nvGrpSpPr>
            <p:cNvPr id="186" name=""/>
            <p:cNvGrpSpPr/>
            <p:nvPr/>
          </p:nvGrpSpPr>
          <p:grpSpPr>
            <a:xfrm>
              <a:off x="1390680" y="4691160"/>
              <a:ext cx="1792080" cy="1811160"/>
              <a:chOff x="1390680" y="4691160"/>
              <a:chExt cx="1792080" cy="1811160"/>
            </a:xfrm>
          </p:grpSpPr>
          <p:sp>
            <p:nvSpPr>
              <p:cNvPr id="187" name=""/>
              <p:cNvSpPr/>
              <p:nvPr/>
            </p:nvSpPr>
            <p:spPr>
              <a:xfrm>
                <a:off x="1390680" y="4691160"/>
                <a:ext cx="1792080" cy="349200"/>
              </a:xfrm>
              <a:prstGeom prst="ellipse">
                <a:avLst/>
              </a:prstGeom>
              <a:solidFill>
                <a:srgbClr val="ffffff"/>
              </a:solidFill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cal Ontology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2560" y="5861160"/>
                <a:ext cx="1408320" cy="6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546200" y="5334120"/>
                <a:ext cx="1432080" cy="276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wrapper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158920" y="5045040"/>
                <a:ext cx="180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2351160" y="5044680"/>
                <a:ext cx="144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60720" y="5634000"/>
                <a:ext cx="1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2352240" y="5633640"/>
                <a:ext cx="1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00440" y="6235560"/>
                <a:ext cx="382320" cy="26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14520" y="5278320"/>
                <a:ext cx="433440" cy="40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"/>
            <p:cNvGrpSpPr/>
            <p:nvPr/>
          </p:nvGrpSpPr>
          <p:grpSpPr>
            <a:xfrm>
              <a:off x="7095960" y="4653000"/>
              <a:ext cx="1792440" cy="1863720"/>
              <a:chOff x="7095960" y="4653000"/>
              <a:chExt cx="1792440" cy="1863720"/>
            </a:xfrm>
          </p:grpSpPr>
          <p:sp>
            <p:nvSpPr>
              <p:cNvPr id="197" name=""/>
              <p:cNvSpPr/>
              <p:nvPr/>
            </p:nvSpPr>
            <p:spPr>
              <a:xfrm>
                <a:off x="7095960" y="4653000"/>
                <a:ext cx="1792440" cy="349200"/>
              </a:xfrm>
              <a:prstGeom prst="ellipse">
                <a:avLst/>
              </a:prstGeom>
              <a:solidFill>
                <a:srgbClr val="ffffff"/>
              </a:solidFill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cal Ontology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26480" y="5006880"/>
                <a:ext cx="144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8118000" y="5006880"/>
                <a:ext cx="180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23040" y="5875200"/>
                <a:ext cx="1471680" cy="5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7926480" y="5584680"/>
                <a:ext cx="144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8118000" y="5584320"/>
                <a:ext cx="180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3" name=""/>
              <p:cNvGraphicFramePr/>
              <p:nvPr/>
            </p:nvGraphicFramePr>
            <p:xfrm>
              <a:off x="8439120" y="6230880"/>
              <a:ext cx="384120" cy="285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0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439120" y="6230880"/>
                        <a:ext cx="384120" cy="28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5" name=""/>
              <p:cNvSpPr/>
              <p:nvPr/>
            </p:nvSpPr>
            <p:spPr>
              <a:xfrm>
                <a:off x="7326360" y="5289480"/>
                <a:ext cx="1398600" cy="276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wrapper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159760" y="5241960"/>
                <a:ext cx="433440" cy="4096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07" name=""/>
            <p:cNvGraphicFramePr/>
            <p:nvPr/>
          </p:nvGraphicFramePr>
          <p:xfrm>
            <a:off x="7751880" y="1300320"/>
            <a:ext cx="1544400" cy="1150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751880" y="1300320"/>
                      <a:ext cx="1544400" cy="11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5365800" y="1460520"/>
            <a:ext cx="2265480" cy="459000"/>
            <a:chOff x="5365800" y="1460520"/>
            <a:chExt cx="2265480" cy="459000"/>
          </a:xfrm>
        </p:grpSpPr>
        <p:sp>
          <p:nvSpPr>
            <p:cNvPr id="210" name=""/>
            <p:cNvSpPr/>
            <p:nvPr/>
          </p:nvSpPr>
          <p:spPr>
            <a:xfrm>
              <a:off x="5587920" y="1460520"/>
              <a:ext cx="204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5760" indent="-18576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: find an article about   Ontology Match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0"/>
            <a:stretch/>
          </p:blipFill>
          <p:spPr>
            <a:xfrm>
              <a:off x="5365800" y="1517760"/>
              <a:ext cx="38412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 flipH="1">
            <a:off x="5047920" y="1906560"/>
            <a:ext cx="2546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121360" y="2001960"/>
            <a:ext cx="3047760" cy="1019160"/>
            <a:chOff x="5121360" y="2001960"/>
            <a:chExt cx="3047760" cy="1019160"/>
          </a:xfrm>
        </p:grpSpPr>
        <p:sp>
          <p:nvSpPr>
            <p:cNvPr id="214" name=""/>
            <p:cNvSpPr/>
            <p:nvPr/>
          </p:nvSpPr>
          <p:spPr>
            <a:xfrm>
              <a:off x="5149800" y="2001960"/>
              <a:ext cx="2468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130720" y="2001960"/>
              <a:ext cx="6480" cy="101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21360" y="2028960"/>
              <a:ext cx="30477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: “Discovering missing background knowledge in ontology matching” by                  F. Giunchiglia, P. Shvaiko, M. Yatskevich.  In Proceedings of ECAI, 2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525400" y="3346560"/>
            <a:ext cx="5019120" cy="1336680"/>
            <a:chOff x="2525400" y="3346560"/>
            <a:chExt cx="5019120" cy="1336680"/>
          </a:xfrm>
        </p:grpSpPr>
        <p:sp>
          <p:nvSpPr>
            <p:cNvPr id="218" name=""/>
            <p:cNvSpPr/>
            <p:nvPr/>
          </p:nvSpPr>
          <p:spPr>
            <a:xfrm flipH="1">
              <a:off x="2525400" y="3346560"/>
              <a:ext cx="211284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5376960" y="3352680"/>
              <a:ext cx="2167560" cy="13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919840" y="3041640"/>
            <a:ext cx="2068560" cy="1601280"/>
            <a:chOff x="5919840" y="3041640"/>
            <a:chExt cx="2068560" cy="1601280"/>
          </a:xfrm>
        </p:grpSpPr>
        <p:sp>
          <p:nvSpPr>
            <p:cNvPr id="221" name=""/>
            <p:cNvSpPr/>
            <p:nvPr/>
          </p:nvSpPr>
          <p:spPr>
            <a:xfrm>
              <a:off x="6222960" y="3041640"/>
              <a:ext cx="10288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c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52960" y="3168720"/>
              <a:ext cx="26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19760" y="3360600"/>
              <a:ext cx="504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19840" y="3886200"/>
              <a:ext cx="1319040" cy="36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ignment 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50040" y="315612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986600" y="3155760"/>
              <a:ext cx="1800" cy="14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Applications: Information integration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82760" y="3063960"/>
            <a:ext cx="1887480" cy="1607760"/>
            <a:chOff x="2282760" y="3063960"/>
            <a:chExt cx="1887480" cy="1607760"/>
          </a:xfrm>
        </p:grpSpPr>
        <p:sp>
          <p:nvSpPr>
            <p:cNvPr id="229" name=""/>
            <p:cNvSpPr/>
            <p:nvPr/>
          </p:nvSpPr>
          <p:spPr>
            <a:xfrm>
              <a:off x="2881440" y="3063960"/>
              <a:ext cx="1027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c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76440" y="3395520"/>
              <a:ext cx="180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284560" y="3191040"/>
              <a:ext cx="598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906360" y="3179880"/>
              <a:ext cx="23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282760" y="3195360"/>
              <a:ext cx="1800" cy="14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51200" y="3882960"/>
              <a:ext cx="131904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ignment 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D88C-E067-4ECB-9896-7423730BC3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Applications: summary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62120" y="1562040"/>
          <a:ext cx="8229600" cy="4559400"/>
        </p:xfrm>
        <a:graphic>
          <a:graphicData uri="http://schemas.openxmlformats.org/drawingml/2006/table">
            <a:tbl>
              <a:tblPr/>
              <a:tblGrid>
                <a:gridCol w="3530520"/>
                <a:gridCol w="393840"/>
                <a:gridCol w="399960"/>
                <a:gridCol w="399960"/>
                <a:gridCol w="409680"/>
                <a:gridCol w="404640"/>
                <a:gridCol w="2691000"/>
              </a:tblGrid>
              <a:tr h="136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ntology ev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Arial"/>
                        </a:rPr>
                        <a:t>trans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chema integ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Arial"/>
                        </a:rPr>
                        <a:t>mer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talog integ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Arial"/>
                        </a:rPr>
                        <a:t>data trans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a integ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Arial"/>
                        </a:rPr>
                        <a:t>query answ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2P information sh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Arial"/>
                        </a:rPr>
                        <a:t>query answ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eb service com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Arial"/>
                        </a:rPr>
                        <a:t>data me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ulti-agent 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Arial"/>
                        </a:rPr>
                        <a:t>data trans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uery answ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484"/>
                          </a:solidFill>
                          <a:latin typeface="Arial"/>
                        </a:rPr>
                        <a:t>query reform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rot="16200000">
            <a:off x="3782160" y="206460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90440" indent="-1904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4188600" y="2047680"/>
            <a:ext cx="13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90440" indent="-1904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556160" y="2048040"/>
            <a:ext cx="14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90440" indent="-1904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949640" y="2063880"/>
            <a:ext cx="14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90440" indent="-1904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5356080" y="2063880"/>
            <a:ext cx="14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90440" indent="-1904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ED69-70AE-494A-8F8C-B5201F582E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9160" y="1739880"/>
            <a:ext cx="778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Part I: The matching problem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Part II: State of the art in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tology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assification of matching technique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Overview of matching system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Part III: Schema-based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art IV: Evaluation (technology showcase)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art V: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Conclus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5AA8-A06D-4C50-BD80-BA7FC49880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lassification of basic technique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3960" y="1638360"/>
            <a:ext cx="75312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ree layer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The upper layer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5400" indent="-1904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Granularity of match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5400" indent="-1904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erpretation of the input information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The middle layer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represents classes of elementary (basic) matching techniqu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The lower layer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is based on the kind of input which is used by elementary matching techniqu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66BF-C1B0-4BD2-9BCD-6C028F543B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359000"/>
            <a:ext cx="9144000" cy="549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lassification of techniques (simplified)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413000" y="1358640"/>
            <a:ext cx="6534000" cy="792000"/>
            <a:chOff x="1413000" y="1358640"/>
            <a:chExt cx="6534000" cy="792000"/>
          </a:xfrm>
        </p:grpSpPr>
        <p:sp>
          <p:nvSpPr>
            <p:cNvPr id="249" name=""/>
            <p:cNvSpPr/>
            <p:nvPr/>
          </p:nvSpPr>
          <p:spPr>
            <a:xfrm>
              <a:off x="1413000" y="1727280"/>
              <a:ext cx="17366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 Narrow"/>
                </a:rPr>
                <a:t>Element</a:t>
              </a:r>
              <a:r>
                <a:rPr b="1" lang="it-IT" sz="2100" spc="-1" strike="noStrike">
                  <a:solidFill>
                    <a:srgbClr val="000000"/>
                  </a:solidFill>
                  <a:latin typeface="Arial Narrow"/>
                </a:rPr>
                <a:t> leve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59600" y="1736640"/>
              <a:ext cx="17874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000000"/>
                  </a:solidFill>
                  <a:latin typeface="Arial Narrow"/>
                </a:rPr>
                <a:t>Structure leve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46" idx="0"/>
              <a:endCxn id="249" idx="0"/>
            </p:cNvCxnSpPr>
            <p:nvPr/>
          </p:nvCxnSpPr>
          <p:spPr>
            <a:xfrm flipH="1">
              <a:off x="2280600" y="1358640"/>
              <a:ext cx="229140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"/>
            <p:cNvCxnSpPr>
              <a:stCxn id="246" idx="0"/>
              <a:endCxn id="250" idx="0"/>
            </p:cNvCxnSpPr>
            <p:nvPr/>
          </p:nvCxnSpPr>
          <p:spPr>
            <a:xfrm>
              <a:off x="4572000" y="1358640"/>
              <a:ext cx="2481840" cy="378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53" name=""/>
          <p:cNvGrpSpPr/>
          <p:nvPr/>
        </p:nvGrpSpPr>
        <p:grpSpPr>
          <a:xfrm>
            <a:off x="257040" y="2139480"/>
            <a:ext cx="8877600" cy="766800"/>
            <a:chOff x="257040" y="2139480"/>
            <a:chExt cx="8877600" cy="766800"/>
          </a:xfrm>
        </p:grpSpPr>
        <p:sp>
          <p:nvSpPr>
            <p:cNvPr id="254" name=""/>
            <p:cNvSpPr/>
            <p:nvPr/>
          </p:nvSpPr>
          <p:spPr>
            <a:xfrm>
              <a:off x="257040" y="2460600"/>
              <a:ext cx="11937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000099"/>
                  </a:solidFill>
                  <a:latin typeface="Arial Narrow"/>
                </a:rPr>
                <a:t>Syntacti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7960" y="2492280"/>
              <a:ext cx="13082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000099"/>
                  </a:solidFill>
                  <a:latin typeface="Arial Narrow"/>
                </a:rPr>
                <a:t>Syntacti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44720" y="2479680"/>
              <a:ext cx="1054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000099"/>
                  </a:solidFill>
                  <a:latin typeface="Arial Narrow"/>
                </a:rPr>
                <a:t>Externa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15320" y="2492280"/>
              <a:ext cx="12193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99"/>
                  </a:solidFill>
                  <a:latin typeface="Arial Narrow"/>
                </a:rPr>
                <a:t>Semanti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07080" y="2489040"/>
              <a:ext cx="1104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000099"/>
                  </a:solidFill>
                  <a:latin typeface="Arial Narrow"/>
                </a:rPr>
                <a:t>Externa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49" idx="2"/>
              <a:endCxn id="254" idx="0"/>
            </p:cNvCxnSpPr>
            <p:nvPr/>
          </p:nvCxnSpPr>
          <p:spPr>
            <a:xfrm flipH="1">
              <a:off x="853200" y="2139480"/>
              <a:ext cx="1428120" cy="32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"/>
            <p:cNvCxnSpPr>
              <a:stCxn id="256" idx="0"/>
              <a:endCxn id="249" idx="2"/>
            </p:cNvCxnSpPr>
            <p:nvPr/>
          </p:nvCxnSpPr>
          <p:spPr>
            <a:xfrm flipH="1" flipV="1">
              <a:off x="2280600" y="2139840"/>
              <a:ext cx="1091160" cy="340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1" name=""/>
            <p:cNvCxnSpPr>
              <a:stCxn id="250" idx="2"/>
              <a:endCxn id="255" idx="0"/>
            </p:cNvCxnSpPr>
            <p:nvPr/>
          </p:nvCxnSpPr>
          <p:spPr>
            <a:xfrm flipH="1">
              <a:off x="5841720" y="2149560"/>
              <a:ext cx="12117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50" idx="2"/>
              <a:endCxn id="258" idx="0"/>
            </p:cNvCxnSpPr>
            <p:nvPr/>
          </p:nvCxnSpPr>
          <p:spPr>
            <a:xfrm>
              <a:off x="7053120" y="2149200"/>
              <a:ext cx="107280" cy="340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50" idx="2"/>
              <a:endCxn id="257" idx="0"/>
            </p:cNvCxnSpPr>
            <p:nvPr/>
          </p:nvCxnSpPr>
          <p:spPr>
            <a:xfrm>
              <a:off x="7053120" y="2149560"/>
              <a:ext cx="14724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64" name=""/>
          <p:cNvGrpSpPr/>
          <p:nvPr/>
        </p:nvGrpSpPr>
        <p:grpSpPr>
          <a:xfrm>
            <a:off x="-76320" y="2873160"/>
            <a:ext cx="9207720" cy="1319040"/>
            <a:chOff x="-76320" y="2873160"/>
            <a:chExt cx="9207720" cy="1319040"/>
          </a:xfrm>
        </p:grpSpPr>
        <p:sp>
          <p:nvSpPr>
            <p:cNvPr id="265" name=""/>
            <p:cNvSpPr/>
            <p:nvPr/>
          </p:nvSpPr>
          <p:spPr>
            <a:xfrm>
              <a:off x="-76320" y="3517920"/>
              <a:ext cx="98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 Narrow"/>
                </a:rPr>
                <a:t>String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49760" y="3543480"/>
              <a:ext cx="98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 Narrow"/>
                </a:rPr>
                <a:t>Graph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05200" y="3527280"/>
              <a:ext cx="122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 Narrow"/>
                </a:rPr>
                <a:t>Constraint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28800" y="3527280"/>
              <a:ext cx="117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 </a:t>
              </a: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Linguistic re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07080" y="3546360"/>
              <a:ext cx="151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  </a:t>
              </a: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Repository of struc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21800" y="354960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  </a:t>
              </a: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Model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4" idx="2"/>
              <a:endCxn id="265" idx="0"/>
            </p:cNvCxnSpPr>
            <p:nvPr/>
          </p:nvCxnSpPr>
          <p:spPr>
            <a:xfrm flipH="1">
              <a:off x="413640" y="2873520"/>
              <a:ext cx="440280" cy="64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2" name=""/>
            <p:cNvCxnSpPr>
              <a:stCxn id="254" idx="2"/>
              <a:endCxn id="273" idx="0"/>
            </p:cNvCxnSpPr>
            <p:nvPr/>
          </p:nvCxnSpPr>
          <p:spPr>
            <a:xfrm>
              <a:off x="853560" y="2873160"/>
              <a:ext cx="551520" cy="632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4" name=""/>
            <p:cNvCxnSpPr>
              <a:stCxn id="256" idx="2"/>
              <a:endCxn id="268" idx="0"/>
            </p:cNvCxnSpPr>
            <p:nvPr/>
          </p:nvCxnSpPr>
          <p:spPr>
            <a:xfrm flipH="1">
              <a:off x="2417400" y="2892240"/>
              <a:ext cx="954720" cy="635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"/>
            <p:cNvCxnSpPr>
              <a:stCxn id="255" idx="2"/>
              <a:endCxn id="266" idx="0"/>
            </p:cNvCxnSpPr>
            <p:nvPr/>
          </p:nvCxnSpPr>
          <p:spPr>
            <a:xfrm>
              <a:off x="5841720" y="2904840"/>
              <a:ext cx="199080" cy="63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"/>
            <p:cNvCxnSpPr>
              <a:stCxn id="258" idx="2"/>
              <a:endCxn id="269" idx="0"/>
            </p:cNvCxnSpPr>
            <p:nvPr/>
          </p:nvCxnSpPr>
          <p:spPr>
            <a:xfrm>
              <a:off x="7159320" y="2901960"/>
              <a:ext cx="205560" cy="64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"/>
            <p:cNvCxnSpPr>
              <a:stCxn id="257" idx="2"/>
              <a:endCxn id="270" idx="0"/>
            </p:cNvCxnSpPr>
            <p:nvPr/>
          </p:nvCxnSpPr>
          <p:spPr>
            <a:xfrm>
              <a:off x="8524440" y="2905200"/>
              <a:ext cx="2520" cy="64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819000" y="3505320"/>
              <a:ext cx="11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Language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8" name=""/>
            <p:cNvCxnSpPr>
              <a:stCxn id="254" idx="2"/>
              <a:endCxn id="267" idx="0"/>
            </p:cNvCxnSpPr>
            <p:nvPr/>
          </p:nvCxnSpPr>
          <p:spPr>
            <a:xfrm>
              <a:off x="853920" y="2873520"/>
              <a:ext cx="2663280" cy="654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"/>
            <p:cNvCxnSpPr>
              <a:stCxn id="256" idx="2"/>
              <a:endCxn id="280" idx="0"/>
            </p:cNvCxnSpPr>
            <p:nvPr/>
          </p:nvCxnSpPr>
          <p:spPr>
            <a:xfrm>
              <a:off x="3371760" y="2892240"/>
              <a:ext cx="1488240" cy="362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"/>
            <p:cNvSpPr/>
            <p:nvPr/>
          </p:nvSpPr>
          <p:spPr>
            <a:xfrm>
              <a:off x="3975120" y="3254400"/>
              <a:ext cx="176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Upper, domain specific formal ont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-15840" y="4076640"/>
            <a:ext cx="9096480" cy="905760"/>
            <a:chOff x="-15840" y="4076640"/>
            <a:chExt cx="9096480" cy="905760"/>
          </a:xfrm>
        </p:grpSpPr>
        <p:sp>
          <p:nvSpPr>
            <p:cNvPr id="282" name=""/>
            <p:cNvSpPr/>
            <p:nvPr/>
          </p:nvSpPr>
          <p:spPr>
            <a:xfrm>
              <a:off x="-15840" y="4200480"/>
              <a:ext cx="787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- Na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-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25800" y="4219560"/>
              <a:ext cx="101268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- Dataty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-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59120" y="4216320"/>
              <a:ext cx="102528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buClr>
                  <a:srgbClr val="000099"/>
                </a:buClr>
                <a:buSzPct val="80000"/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99"/>
                  </a:solidFill>
                  <a:latin typeface="Arial Narrow"/>
                </a:rPr>
                <a:t>Thesau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99"/>
                  </a:solidFill>
                  <a:latin typeface="Arial Narrow"/>
                </a:rPr>
                <a:t>-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65600" y="4076640"/>
              <a:ext cx="115272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i="1" lang="it-IT" sz="1400" spc="-1" strike="noStrike">
                  <a:solidFill>
                    <a:srgbClr val="000099"/>
                  </a:solidFill>
                  <a:latin typeface="Arial Narrow"/>
                </a:rPr>
                <a:t>Taxonomic strcu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72320" y="4124160"/>
              <a:ext cx="112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99"/>
                  </a:solidFill>
                  <a:latin typeface="Arial Narrow"/>
                </a:rPr>
                <a:t>-  Strcuture’s meta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09000" y="4168800"/>
              <a:ext cx="9716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99"/>
                  </a:solidFill>
                  <a:latin typeface="Arial Narrow"/>
                </a:rPr>
                <a:t>-</a:t>
              </a:r>
              <a:r>
                <a:rPr b="1" i="1" lang="it-IT" sz="1400" spc="-1" strike="noStrike">
                  <a:solidFill>
                    <a:srgbClr val="000099"/>
                  </a:solidFill>
                  <a:latin typeface="Arial Narrow"/>
                </a:rPr>
                <a:t> S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99"/>
                  </a:solidFill>
                  <a:latin typeface="Arial Narrow"/>
                </a:rPr>
                <a:t>-</a:t>
              </a:r>
              <a:r>
                <a:rPr b="1" i="1" lang="it-IT" sz="1400" spc="-1" strike="noStrike">
                  <a:solidFill>
                    <a:srgbClr val="000099"/>
                  </a:solidFill>
                  <a:latin typeface="Arial Narrow"/>
                </a:rPr>
                <a:t> DL b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9800" y="4200480"/>
              <a:ext cx="1257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99"/>
                  </a:solidFill>
                  <a:latin typeface="Arial Narrow"/>
                </a:rPr>
                <a:t>- Token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99"/>
                  </a:solidFill>
                  <a:latin typeface="Arial Narrow"/>
                </a:rPr>
                <a:t>-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95880" y="4219560"/>
              <a:ext cx="9745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99"/>
                  </a:solidFill>
                  <a:latin typeface="Arial Narrow"/>
                </a:rPr>
                <a:t>- F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99"/>
                  </a:solidFill>
                  <a:latin typeface="Arial Narrow"/>
                </a:rPr>
                <a:t>-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60280" y="5908680"/>
            <a:ext cx="7311960" cy="949680"/>
            <a:chOff x="260280" y="5908680"/>
            <a:chExt cx="7311960" cy="949680"/>
          </a:xfrm>
        </p:grpSpPr>
        <p:cxnSp>
          <p:nvCxnSpPr>
            <p:cNvPr id="291" name=""/>
            <p:cNvCxnSpPr>
              <a:stCxn id="292" idx="2"/>
              <a:endCxn id="246" idx="2"/>
            </p:cNvCxnSpPr>
            <p:nvPr/>
          </p:nvCxnSpPr>
          <p:spPr>
            <a:xfrm flipH="1">
              <a:off x="4571280" y="6333840"/>
              <a:ext cx="2391480" cy="52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3" name=""/>
            <p:cNvCxnSpPr>
              <a:stCxn id="294" idx="2"/>
              <a:endCxn id="246" idx="2"/>
            </p:cNvCxnSpPr>
            <p:nvPr/>
          </p:nvCxnSpPr>
          <p:spPr>
            <a:xfrm>
              <a:off x="1263600" y="6321600"/>
              <a:ext cx="3309120" cy="536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4" name=""/>
            <p:cNvSpPr/>
            <p:nvPr/>
          </p:nvSpPr>
          <p:spPr>
            <a:xfrm>
              <a:off x="260280" y="5908680"/>
              <a:ext cx="20066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000099"/>
                  </a:solidFill>
                  <a:latin typeface="Arial Narrow"/>
                </a:rPr>
                <a:t>Terminologica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3280" y="5921280"/>
              <a:ext cx="1218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99"/>
                  </a:solidFill>
                  <a:latin typeface="Arial Narrow"/>
                </a:rPr>
                <a:t>Semanti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44840" y="5918040"/>
              <a:ext cx="1536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000099"/>
                  </a:solidFill>
                  <a:latin typeface="Arial Narrow"/>
                </a:rPr>
                <a:t>Structura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5" idx="2"/>
              <a:endCxn id="246" idx="2"/>
            </p:cNvCxnSpPr>
            <p:nvPr/>
          </p:nvCxnSpPr>
          <p:spPr>
            <a:xfrm>
              <a:off x="4212720" y="6330960"/>
              <a:ext cx="359640" cy="527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378000" y="4641840"/>
            <a:ext cx="8216280" cy="1279440"/>
            <a:chOff x="378000" y="4641840"/>
            <a:chExt cx="8216280" cy="1279440"/>
          </a:xfrm>
        </p:grpSpPr>
        <p:sp>
          <p:nvSpPr>
            <p:cNvPr id="298" name=""/>
            <p:cNvSpPr/>
            <p:nvPr/>
          </p:nvSpPr>
          <p:spPr>
            <a:xfrm>
              <a:off x="1231920" y="5032440"/>
              <a:ext cx="13971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000099"/>
                  </a:solidFill>
                  <a:latin typeface="Arial Narrow"/>
                </a:rPr>
                <a:t>Linguisti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8" idx="2"/>
            </p:cNvCxnSpPr>
            <p:nvPr/>
          </p:nvCxnSpPr>
          <p:spPr>
            <a:xfrm flipH="1">
              <a:off x="1263240" y="5445000"/>
              <a:ext cx="667440" cy="46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"/>
            <p:cNvCxnSpPr>
              <a:stCxn id="284" idx="2"/>
            </p:cNvCxnSpPr>
            <p:nvPr/>
          </p:nvCxnSpPr>
          <p:spPr>
            <a:xfrm flipH="1">
              <a:off x="1929960" y="4754520"/>
              <a:ext cx="542160" cy="27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"/>
            <p:cNvCxnSpPr/>
            <p:nvPr/>
          </p:nvCxnSpPr>
          <p:spPr>
            <a:xfrm>
              <a:off x="1368000" y="4738680"/>
              <a:ext cx="562680" cy="294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"/>
            <p:cNvCxnSpPr>
              <a:stCxn id="282" idx="2"/>
            </p:cNvCxnSpPr>
            <p:nvPr/>
          </p:nvCxnSpPr>
          <p:spPr>
            <a:xfrm>
              <a:off x="378000" y="4738680"/>
              <a:ext cx="886320" cy="1170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"/>
            <p:cNvCxnSpPr>
              <a:stCxn id="304" idx="2"/>
              <a:endCxn id="295" idx="0"/>
            </p:cNvCxnSpPr>
            <p:nvPr/>
          </p:nvCxnSpPr>
          <p:spPr>
            <a:xfrm>
              <a:off x="3638520" y="5445000"/>
              <a:ext cx="575280" cy="473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4" name=""/>
            <p:cNvSpPr/>
            <p:nvPr/>
          </p:nvSpPr>
          <p:spPr>
            <a:xfrm>
              <a:off x="3086280" y="5032440"/>
              <a:ext cx="1104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000099"/>
                  </a:solidFill>
                  <a:latin typeface="Arial Narrow"/>
                </a:rPr>
                <a:t>Interna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84800" y="5045040"/>
              <a:ext cx="1371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99"/>
                  </a:solidFill>
                  <a:latin typeface="Arial Narrow"/>
                </a:rPr>
                <a:t>Relationa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6" name=""/>
            <p:cNvCxnSpPr>
              <a:stCxn id="295" idx="0"/>
              <a:endCxn id="305" idx="2"/>
            </p:cNvCxnSpPr>
            <p:nvPr/>
          </p:nvCxnSpPr>
          <p:spPr>
            <a:xfrm flipV="1">
              <a:off x="4213080" y="5457600"/>
              <a:ext cx="2657880" cy="46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7" name=""/>
            <p:cNvCxnSpPr>
              <a:stCxn id="287" idx="2"/>
            </p:cNvCxnSpPr>
            <p:nvPr/>
          </p:nvCxnSpPr>
          <p:spPr>
            <a:xfrm flipH="1">
              <a:off x="6962040" y="4706640"/>
              <a:ext cx="1632600" cy="1215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"/>
            <p:cNvCxnSpPr>
              <a:stCxn id="304" idx="0"/>
              <a:endCxn id="283" idx="2"/>
            </p:cNvCxnSpPr>
            <p:nvPr/>
          </p:nvCxnSpPr>
          <p:spPr>
            <a:xfrm flipH="1" flipV="1">
              <a:off x="3531600" y="4757040"/>
              <a:ext cx="106920" cy="275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9" name=""/>
            <p:cNvCxnSpPr>
              <a:stCxn id="305" idx="0"/>
              <a:endCxn id="285" idx="2"/>
            </p:cNvCxnSpPr>
            <p:nvPr/>
          </p:nvCxnSpPr>
          <p:spPr>
            <a:xfrm flipH="1" flipV="1">
              <a:off x="6141600" y="4975200"/>
              <a:ext cx="729360" cy="70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"/>
            <p:cNvCxnSpPr>
              <a:stCxn id="286" idx="2"/>
              <a:endCxn id="305" idx="0"/>
            </p:cNvCxnSpPr>
            <p:nvPr/>
          </p:nvCxnSpPr>
          <p:spPr>
            <a:xfrm flipH="1">
              <a:off x="6870240" y="4641840"/>
              <a:ext cx="465840" cy="403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1" name=""/>
            <p:cNvCxnSpPr>
              <a:stCxn id="292" idx="0"/>
              <a:endCxn id="289" idx="2"/>
            </p:cNvCxnSpPr>
            <p:nvPr/>
          </p:nvCxnSpPr>
          <p:spPr>
            <a:xfrm flipH="1" flipV="1">
              <a:off x="4782240" y="4757400"/>
              <a:ext cx="2180520" cy="116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12" name=""/>
          <p:cNvSpPr/>
          <p:nvPr/>
        </p:nvSpPr>
        <p:spPr>
          <a:xfrm>
            <a:off x="0" y="303516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12600" y="490212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F3F5-C962-46D4-A7F6-3752651578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Basic techniques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23960" y="1638360"/>
            <a:ext cx="75312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tring-based</a:t>
            </a:r>
            <a:endParaRPr b="1" lang="en-US" sz="26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Edit distance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5400" indent="-1904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t takes as input two strings and calculates the number of </a:t>
            </a:r>
            <a:r>
              <a:rPr b="1" i="1" lang="it-IT" sz="2400" spc="-1" strike="noStrike">
                <a:solidFill>
                  <a:srgbClr val="008484"/>
                </a:solidFill>
                <a:latin typeface="Arial"/>
              </a:rPr>
              <a:t>insertions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it-IT" sz="2400" spc="-1" strike="noStrike">
                <a:solidFill>
                  <a:srgbClr val="008484"/>
                </a:solidFill>
                <a:latin typeface="Arial"/>
              </a:rPr>
              <a:t>deletions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, and </a:t>
            </a:r>
            <a:r>
              <a:rPr b="1" i="1" lang="it-IT" sz="2400" spc="-1" strike="noStrike">
                <a:solidFill>
                  <a:srgbClr val="008484"/>
                </a:solidFill>
                <a:latin typeface="Arial"/>
              </a:rPr>
              <a:t>substitutions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of characters required to transform one string into another, normalized by </a:t>
            </a:r>
            <a:r>
              <a:rPr b="1" i="1" lang="it-IT" sz="2400" spc="-1" strike="noStrike">
                <a:solidFill>
                  <a:srgbClr val="008484"/>
                </a:solidFill>
                <a:latin typeface="Arial"/>
              </a:rPr>
              <a:t>max(length(string1), length(string2))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5400" indent="-1904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EditDistance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(</a:t>
            </a:r>
            <a:r>
              <a:rPr b="1" lang="it-IT" sz="2400" spc="-1" strike="noStrike">
                <a:solidFill>
                  <a:srgbClr val="777777"/>
                </a:solidFill>
                <a:latin typeface="Arial"/>
              </a:rPr>
              <a:t>NKN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it-IT" sz="2400" spc="-1" strike="noStrike">
                <a:solidFill>
                  <a:srgbClr val="777777"/>
                </a:solidFill>
                <a:latin typeface="Arial"/>
              </a:rPr>
              <a:t>Nikon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) = </a:t>
            </a:r>
            <a:r>
              <a:rPr b="1" lang="it-IT" sz="2400" spc="-1" strike="noStrike">
                <a:solidFill>
                  <a:srgbClr val="777777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E598-735B-4264-BFF3-66B956726D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77580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Basic techniqu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(cont’d)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560" y="1638000"/>
            <a:ext cx="858492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inguistic resources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dNet</a:t>
            </a:r>
            <a:endParaRPr b="1" lang="en-US" sz="2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It computes relations between ontology entities by  using (lexical) relationships of WordNet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008484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B if A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hyponym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or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meronym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of B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and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ame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008484"/>
                </a:solidFill>
                <a:latin typeface="Symbol"/>
                <a:ea typeface="Symbol"/>
              </a:rPr>
              <a:t>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B if A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hypernym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holonym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of B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urop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Greece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 = B if they ar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ynonyms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tity = Amount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008484"/>
                </a:solidFill>
                <a:latin typeface="Symbol"/>
                <a:ea typeface="Symbol"/>
              </a:rPr>
              <a:t>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B if they ar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antonym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ibling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in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part of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hierarchy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roprocessors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C Board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B7CF-B40A-4763-B4F4-29F91197C2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ystems: a</a:t>
            </a: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nalytical comparison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1520" y="2070000"/>
          <a:ext cx="8940960" cy="4716720"/>
        </p:xfrm>
        <a:graphic>
          <a:graphicData uri="http://schemas.openxmlformats.org/drawingml/2006/table">
            <a:tbl>
              <a:tblPr/>
              <a:tblGrid>
                <a:gridCol w="304920"/>
                <a:gridCol w="303120"/>
                <a:gridCol w="1246320"/>
                <a:gridCol w="1270080"/>
                <a:gridCol w="1257120"/>
                <a:gridCol w="1282680"/>
                <a:gridCol w="1041480"/>
                <a:gridCol w="1181160"/>
                <a:gridCol w="1054080"/>
              </a:tblGrid>
              <a:tr h="37332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8484"/>
                          </a:solidFill>
                          <a:latin typeface="Arial Narrow"/>
                          <a:ea typeface="Times New Roman"/>
                        </a:rPr>
                        <a:t>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8484"/>
                          </a:solidFill>
                          <a:latin typeface="Arial Narrow"/>
                          <a:ea typeface="Times New Roman"/>
                        </a:rPr>
                        <a:t>Arte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8484"/>
                          </a:solidFill>
                          <a:latin typeface="Arial Narrow"/>
                          <a:ea typeface="Times New Roman"/>
                        </a:rPr>
                        <a:t>Cu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8484"/>
                          </a:solidFill>
                          <a:latin typeface="Arial Narrow"/>
                          <a:ea typeface="Times New Roman"/>
                        </a:rPr>
                        <a:t>C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8484"/>
                          </a:solidFill>
                          <a:latin typeface="Arial Narrow"/>
                          <a:ea typeface="Times New Roman"/>
                        </a:rPr>
                        <a:t>Promp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4"/>
                          </a:solidFill>
                          <a:latin typeface="Arial Narrow"/>
                          <a:ea typeface="Times New Roman"/>
                        </a:rPr>
                        <a:t>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8484"/>
                          </a:solidFill>
                          <a:latin typeface="Arial Narrow"/>
                          <a:ea typeface="Times New Roman"/>
                        </a:rPr>
                        <a:t>S-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 rowSpan="2">
                  <a:txBody>
                    <a:bodyPr lIns="0" rIns="0" tIns="0" bIns="0" anchor="ctr" anchorCtr="1" vert="eaVert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ring-base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ata type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proper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main compatibility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anguag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ring-base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anguage-base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ata type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proper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ring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anguag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base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ata 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ring-base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mains and rang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ring-base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ata type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anguage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ring-based, languag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m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hesaurus  (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xiliary diction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xiliary diction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Word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Word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240">
                <a:tc rowSpan="2">
                  <a:txBody>
                    <a:bodyPr lIns="0" rIns="0" tIns="0" bIns="0" anchor="ctr" anchorCtr="1" vert="eaVert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terativ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x-point compu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ching of neighb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a 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ee matching weighted by lea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AG (tree) matching with a bias towards leaf or children struc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und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at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ch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arbitrary links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s-a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link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terativ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x-poi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putation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ching of neighb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90440" indent="-190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-101520" y="1536840"/>
            <a:ext cx="87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50 matching systems exist,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…we consider som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5440" y="2489040"/>
            <a:ext cx="673200" cy="4330440"/>
            <a:chOff x="55440" y="2489040"/>
            <a:chExt cx="673200" cy="4330440"/>
          </a:xfrm>
        </p:grpSpPr>
        <p:sp>
          <p:nvSpPr>
            <p:cNvPr id="323" name=""/>
            <p:cNvSpPr/>
            <p:nvPr/>
          </p:nvSpPr>
          <p:spPr>
            <a:xfrm rot="16200000">
              <a:off x="-649080" y="32698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Element-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-641160" y="547956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Structure-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17280" y="2819160"/>
              <a:ext cx="10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Syntac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17280" y="4952880"/>
              <a:ext cx="10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Syntac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6200000">
              <a:off x="29880" y="3809880"/>
              <a:ext cx="10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Exte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30240" y="6121080"/>
              <a:ext cx="10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Arial Narrow"/>
                </a:rPr>
                <a:t>Seman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D9B7-AE72-4280-8D2C-57C8149610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49160" y="1701360"/>
            <a:ext cx="7785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8080"/>
                </a:solidFill>
                <a:latin typeface="Arial"/>
              </a:rPr>
              <a:t>Part I: The matching problem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8080"/>
                </a:solidFill>
                <a:latin typeface="Arial"/>
              </a:rPr>
              <a:t>Part II: State of the art in 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ontology matching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99"/>
                </a:solidFill>
                <a:latin typeface="Arial"/>
              </a:rPr>
              <a:t>Part III: Schema-based semantic matching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99"/>
                </a:solidFill>
                <a:latin typeface="Arial"/>
              </a:rPr>
              <a:t>Semantic matching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Iterative semantic matching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Part IV: Evaluation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(technology showcase)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Part V:</a:t>
            </a: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 Conclusions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E794-B2E7-49C6-AF7A-31011C21C9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9160" y="1773360"/>
            <a:ext cx="77853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Part I: The matching problem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Part II: State of the art in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ontology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Part III: Schema-based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art IV: Evaluation (technology showcase)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art V: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Conclus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FE47-3DE2-4ED4-8D6A-8ABA825BA7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Generic matching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0040" y="1434960"/>
            <a:ext cx="89139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2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source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(classifications, XML schemas, …) can be viewed 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ph-like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structures containing terms and their inter-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6000" y="200664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260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ing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takes two graph-like structures and produce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espondences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between the nodes of the graphs that are supposed to correspond to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623960" y="2798640"/>
            <a:ext cx="6723000" cy="369756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3098880" y="2933640"/>
            <a:ext cx="4228920" cy="3441600"/>
            <a:chOff x="3098880" y="2933640"/>
            <a:chExt cx="4228920" cy="3441600"/>
          </a:xfrm>
        </p:grpSpPr>
        <p:sp>
          <p:nvSpPr>
            <p:cNvPr id="336" name=""/>
            <p:cNvSpPr/>
            <p:nvPr/>
          </p:nvSpPr>
          <p:spPr>
            <a:xfrm>
              <a:off x="3149640" y="2933640"/>
              <a:ext cx="361944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80040" y="3200400"/>
              <a:ext cx="304776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98880" y="6134040"/>
              <a:ext cx="3809880" cy="24120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78240" y="5867280"/>
              <a:ext cx="3289320" cy="22860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74840" y="5587920"/>
              <a:ext cx="364500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4800" y="3454560"/>
              <a:ext cx="23367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54480" y="5105520"/>
              <a:ext cx="1587600" cy="126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254480" y="4762080"/>
              <a:ext cx="1434960" cy="26676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2536-FC57-4E1C-9FE9-028EF1497E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emantic matching in a nutshell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4600" y="1689120"/>
            <a:ext cx="821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: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Given two graphs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for any 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find the strongest semantic relation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R’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holding with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44600" y="2435400"/>
            <a:ext cx="7683480" cy="1694520"/>
            <a:chOff x="444600" y="2435400"/>
            <a:chExt cx="7683480" cy="1694520"/>
          </a:xfrm>
        </p:grpSpPr>
        <p:sp>
          <p:nvSpPr>
            <p:cNvPr id="347" name=""/>
            <p:cNvSpPr/>
            <p:nvPr/>
          </p:nvSpPr>
          <p:spPr>
            <a:xfrm>
              <a:off x="444600" y="2435400"/>
              <a:ext cx="76834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mputed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i="1" lang="en-GB" sz="1800" spc="-1" strike="noStrike">
                  <a:solidFill>
                    <a:srgbClr val="777777"/>
                  </a:solidFill>
                  <a:latin typeface="Arial"/>
                </a:rPr>
                <a:t>R’s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, listed in the decreasing binding strength orde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equivalence { =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ore general/specific {    ,    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disjointness { </a:t>
              </a:r>
              <a:r>
                <a:rPr b="1" lang="en-GB" sz="18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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I don’t know {idk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4938840" y="3219480"/>
              <a:ext cx="501480" cy="158040"/>
              <a:chOff x="4938840" y="3219480"/>
              <a:chExt cx="501480" cy="15804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4938840" y="3219480"/>
                <a:ext cx="108000" cy="156240"/>
                <a:chOff x="4938840" y="3219480"/>
                <a:chExt cx="108000" cy="156240"/>
              </a:xfrm>
            </p:grpSpPr>
            <p:grpSp>
              <p:nvGrpSpPr>
                <p:cNvPr id="350" name=""/>
                <p:cNvGrpSpPr/>
                <p:nvPr/>
              </p:nvGrpSpPr>
              <p:grpSpPr>
                <a:xfrm>
                  <a:off x="4938840" y="3219480"/>
                  <a:ext cx="107640" cy="123120"/>
                  <a:chOff x="4938840" y="3219480"/>
                  <a:chExt cx="107640" cy="1231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4941000" y="3342600"/>
                    <a:ext cx="10512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938840" y="3219480"/>
                    <a:ext cx="10728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5046120" y="3219840"/>
                    <a:ext cx="360" cy="11700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"/>
                <p:cNvSpPr/>
                <p:nvPr/>
              </p:nvSpPr>
              <p:spPr>
                <a:xfrm>
                  <a:off x="4938840" y="3375720"/>
                  <a:ext cx="108000" cy="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330880" y="3221280"/>
                <a:ext cx="109440" cy="156240"/>
                <a:chOff x="5330880" y="3221280"/>
                <a:chExt cx="109440" cy="15624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5331240" y="3221280"/>
                  <a:ext cx="109080" cy="123120"/>
                  <a:chOff x="5331240" y="3221280"/>
                  <a:chExt cx="109080" cy="1231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flipH="1">
                    <a:off x="5331600" y="3221280"/>
                    <a:ext cx="10656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>
                    <a:off x="5331600" y="3344400"/>
                    <a:ext cx="10872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flipV="1">
                    <a:off x="5331240" y="3227040"/>
                    <a:ext cx="360" cy="11700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 flipH="1">
                  <a:off x="5330880" y="3377520"/>
                  <a:ext cx="109440" cy="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"/>
          <p:cNvSpPr/>
          <p:nvPr/>
        </p:nvSpPr>
        <p:spPr>
          <a:xfrm>
            <a:off x="482760" y="4254480"/>
            <a:ext cx="8127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e compute semantic relations by analyz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anin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ncepts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not labels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hich 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is codified in the elements and the structures of 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84200" y="5067360"/>
            <a:ext cx="75056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ly, labels at nodes written in natural language are translated into propositional logical formulas which explicitly codify the labels’ intended meaning. This allows us to codify the matching problem into a propositional validity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8FBD-BAA3-4804-8005-8673A4F480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55400" y="9954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oncept of a label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&amp;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ncept at a nod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54080" y="4038480"/>
            <a:ext cx="8089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1720" y="3919680"/>
            <a:ext cx="783432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ncept of a label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propositional formula which stands for the set of documents that one would classify unde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t en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cept at a node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propositional formula which represents the set of documents which one would classify under a node, given that it has a certain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nd that it is in a cert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in a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023920" y="1558800"/>
            <a:ext cx="5672160" cy="2070720"/>
            <a:chOff x="2023920" y="1558800"/>
            <a:chExt cx="5672160" cy="2070720"/>
          </a:xfrm>
        </p:grpSpPr>
        <p:sp>
          <p:nvSpPr>
            <p:cNvPr id="367" name=""/>
            <p:cNvSpPr/>
            <p:nvPr/>
          </p:nvSpPr>
          <p:spPr>
            <a:xfrm>
              <a:off x="5176800" y="2260440"/>
              <a:ext cx="251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Cameras and Pho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23920" y="3225600"/>
              <a:ext cx="196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PC bo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92520" y="1558800"/>
              <a:ext cx="15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Electron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71" idx="4"/>
              <a:endCxn id="372" idx="0"/>
            </p:cNvCxnSpPr>
            <p:nvPr/>
          </p:nvCxnSpPr>
          <p:spPr>
            <a:xfrm>
              <a:off x="3911040" y="2747880"/>
              <a:ext cx="1080" cy="573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3" name=""/>
            <p:cNvCxnSpPr>
              <a:stCxn id="374" idx="4"/>
              <a:endCxn id="371" idx="0"/>
            </p:cNvCxnSpPr>
            <p:nvPr/>
          </p:nvCxnSpPr>
          <p:spPr>
            <a:xfrm flipH="1">
              <a:off x="3911040" y="2133000"/>
              <a:ext cx="572400" cy="383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5" name=""/>
            <p:cNvSpPr/>
            <p:nvPr/>
          </p:nvSpPr>
          <p:spPr>
            <a:xfrm>
              <a:off x="4825800" y="3230640"/>
              <a:ext cx="273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Digital  Camer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" name=""/>
            <p:cNvCxnSpPr>
              <a:stCxn id="377" idx="4"/>
              <a:endCxn id="378" idx="0"/>
            </p:cNvCxnSpPr>
            <p:nvPr/>
          </p:nvCxnSpPr>
          <p:spPr>
            <a:xfrm>
              <a:off x="5108400" y="2747880"/>
              <a:ext cx="13680" cy="573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9" name=""/>
            <p:cNvSpPr/>
            <p:nvPr/>
          </p:nvSpPr>
          <p:spPr>
            <a:xfrm>
              <a:off x="3041640" y="2436840"/>
              <a:ext cx="89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4" idx="4"/>
              <a:endCxn id="377" idx="0"/>
            </p:cNvCxnSpPr>
            <p:nvPr/>
          </p:nvCxnSpPr>
          <p:spPr>
            <a:xfrm>
              <a:off x="4482720" y="2133000"/>
              <a:ext cx="626040" cy="383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>
              <a:off x="4368600" y="1901880"/>
              <a:ext cx="228600" cy="23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97280" y="2516040"/>
              <a:ext cx="22860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95720" y="2516040"/>
              <a:ext cx="22716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97280" y="3321000"/>
              <a:ext cx="22860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05440" y="3321000"/>
              <a:ext cx="23004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43C5-A58E-4033-92D1-433DB0FF6C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79884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labels in T1 and T2 compute </a:t>
            </a: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nodes in T1 and T2 compute </a:t>
            </a:r>
            <a:r>
              <a:rPr b="1" i="1" lang="it-IT" sz="20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labels in T1 and T2 compute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relations between concepts at labels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background knowledge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nodes in T1 and T2 compute 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relations between 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1 and 2 constitute the preprocessing phase, and are executed once and each time after the ontology is chang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FF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3 and 4 constitute the matching phase, and are executed every time two ontologies are to be matched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N 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175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Four macro step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3" name="">
            <a:hlinkClick r:id="rId1" action="ppaction://hlinksldjump"/>
          </p:cNvPr>
          <p:cNvSpPr/>
          <p:nvPr/>
        </p:nvSpPr>
        <p:spPr>
          <a:xfrm>
            <a:off x="444600" y="176688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ven two labeled trees T1 and T2,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CF02-1520-4BBF-919F-F094B96FA9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compute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9040" y="1658520"/>
            <a:ext cx="853272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ranslate labels at nodes written in natural language into propositional logical formulas which explicitly codify the labels’ intended meaning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processing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Tokenization.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Labels (according to punctuation, spaces, etc.) are parsed into tokens. E.g.,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</a:rPr>
              <a:t>Photo and Cameras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</a:rPr>
              <a:t>&lt;Photo, and, Cameras&gt;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Lemmatization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. Tokens are morphologically analyzed in order to find all their possible basic forms. E.g.,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</a:rPr>
              <a:t>Cameras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Camera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  <a:ea typeface="Arial"/>
              </a:rPr>
              <a:t>Building atomic concepts.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 An oracle (WordNet) is used to extract senses of lemmas. E.g.,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Camera has 2 senses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  <a:ea typeface="Arial"/>
              </a:rPr>
              <a:t>Building complex concepts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. Prepositions, conjunctions are translated into logical connectives and used to build complex concepts</a:t>
            </a:r>
            <a:br>
              <a:rPr sz="1700"/>
            </a:b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out of the atomic concepts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  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E.g.,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1" i="1" lang="en-US" sz="1700" spc="-1" strike="noStrike">
                <a:solidFill>
                  <a:srgbClr val="000099"/>
                </a:solidFill>
                <a:latin typeface="Arial"/>
                <a:ea typeface="Arial"/>
              </a:rPr>
              <a:t>C</a:t>
            </a:r>
            <a:r>
              <a:rPr b="1" i="1" lang="en-US" sz="17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Cameras</a:t>
            </a:r>
            <a:r>
              <a:rPr b="1" i="1" lang="it-IT" sz="17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_</a:t>
            </a:r>
            <a:r>
              <a:rPr b="1" i="1" lang="en-US" sz="17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and_Photo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  =  &lt;Cameras, {WN</a:t>
            </a:r>
            <a:r>
              <a:rPr b="1" lang="en-US" sz="17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Camera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}</a:t>
            </a:r>
            <a:r>
              <a:rPr b="1" lang="en-US" sz="17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&gt;    &lt;Photo, {WN</a:t>
            </a:r>
            <a:r>
              <a:rPr b="1" lang="en-US" sz="17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Photo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}&gt;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908320" y="5613480"/>
            <a:ext cx="176400" cy="187560"/>
            <a:chOff x="5908320" y="5613480"/>
            <a:chExt cx="176400" cy="187560"/>
          </a:xfrm>
        </p:grpSpPr>
        <p:sp>
          <p:nvSpPr>
            <p:cNvPr id="387" name=""/>
            <p:cNvSpPr/>
            <p:nvPr/>
          </p:nvSpPr>
          <p:spPr>
            <a:xfrm flipV="1">
              <a:off x="6084360" y="5613480"/>
              <a:ext cx="0" cy="1843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908320" y="5613480"/>
              <a:ext cx="0" cy="1843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7" idx="0"/>
              <a:endCxn id="388" idx="0"/>
            </p:cNvCxnSpPr>
            <p:nvPr/>
          </p:nvCxnSpPr>
          <p:spPr>
            <a:xfrm flipH="1" flipV="1">
              <a:off x="5908320" y="5800320"/>
              <a:ext cx="176760" cy="10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199D-17E5-46E0-B917-F7DDF53BE0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mpute concepts at nodes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95000" y="1514520"/>
            <a:ext cx="806436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he idea</a:t>
            </a: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Extend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by capturing the knowledge residing in a structure of a tree in order to define a context in which the given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concept at a label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occur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Computation</a:t>
            </a: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Concept at a node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for some node </a:t>
            </a:r>
            <a:r>
              <a:rPr b="1" i="1" lang="it-IT" sz="20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is computed as a conjunction of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located above the given node, including the node itself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04720" y="3984480"/>
            <a:ext cx="8918640" cy="2385000"/>
            <a:chOff x="504720" y="3984480"/>
            <a:chExt cx="8918640" cy="2385000"/>
          </a:xfrm>
        </p:grpSpPr>
        <p:grpSp>
          <p:nvGrpSpPr>
            <p:cNvPr id="393" name=""/>
            <p:cNvGrpSpPr/>
            <p:nvPr/>
          </p:nvGrpSpPr>
          <p:grpSpPr>
            <a:xfrm>
              <a:off x="976320" y="5024520"/>
              <a:ext cx="3784680" cy="475200"/>
              <a:chOff x="976320" y="5024520"/>
              <a:chExt cx="3784680" cy="475200"/>
            </a:xfrm>
          </p:grpSpPr>
          <p:sp>
            <p:nvSpPr>
              <p:cNvPr id="394" name=""/>
              <p:cNvSpPr/>
              <p:nvPr/>
            </p:nvSpPr>
            <p:spPr>
              <a:xfrm>
                <a:off x="976320" y="5024520"/>
                <a:ext cx="37846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200" spc="-1" strike="noStrike">
                    <a:solidFill>
                      <a:srgbClr val="800000"/>
                    </a:solidFill>
                    <a:latin typeface="Arial"/>
                  </a:rPr>
                  <a:t>    </a:t>
                </a:r>
                <a:r>
                  <a:rPr b="1" i="1" lang="it-IT" sz="2200" spc="-1" strike="noStrike">
                    <a:solidFill>
                      <a:srgbClr val="800000"/>
                    </a:solidFill>
                    <a:latin typeface="Arial"/>
                  </a:rPr>
                  <a:t>C</a:t>
                </a:r>
                <a:r>
                  <a:rPr b="1" i="1" lang="it-IT" sz="2200" spc="-1" strike="noStrike" baseline="-25000">
                    <a:solidFill>
                      <a:srgbClr val="800000"/>
                    </a:solidFill>
                    <a:latin typeface="Arial"/>
                  </a:rPr>
                  <a:t>2</a:t>
                </a:r>
                <a:r>
                  <a:rPr b="1" lang="it-IT" sz="2200" spc="-1" strike="noStrike" baseline="-25000">
                    <a:solidFill>
                      <a:srgbClr val="777777"/>
                    </a:solidFill>
                    <a:latin typeface="Arial"/>
                  </a:rPr>
                  <a:t> </a:t>
                </a:r>
                <a:r>
                  <a:rPr b="1" lang="it-IT" sz="2200" spc="-1" strike="noStrike">
                    <a:solidFill>
                      <a:srgbClr val="777777"/>
                    </a:solidFill>
                    <a:latin typeface="Arial"/>
                  </a:rPr>
                  <a:t>= 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Electronics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      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PC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225240" y="5163840"/>
                <a:ext cx="227520" cy="211320"/>
                <a:chOff x="3225240" y="5163840"/>
                <a:chExt cx="227520" cy="21132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225600" y="516744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452760" y="516744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98" name=""/>
                <p:cNvCxnSpPr>
                  <a:stCxn id="396" idx="0"/>
                  <a:endCxn id="397" idx="0"/>
                </p:cNvCxnSpPr>
                <p:nvPr/>
              </p:nvCxnSpPr>
              <p:spPr>
                <a:xfrm>
                  <a:off x="3225240" y="5163840"/>
                  <a:ext cx="22788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</p:grpSp>
        <p:sp>
          <p:nvSpPr>
            <p:cNvPr id="399" name=""/>
            <p:cNvSpPr/>
            <p:nvPr/>
          </p:nvSpPr>
          <p:spPr>
            <a:xfrm>
              <a:off x="762120" y="4589640"/>
              <a:ext cx="38271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8484"/>
                  </a:solidFill>
                  <a:latin typeface="Arial"/>
                </a:rPr>
                <a:t>Conjun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560" y="5484960"/>
              <a:ext cx="38275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it-IT" sz="2000" spc="-1" strike="noStrike">
                  <a:solidFill>
                    <a:srgbClr val="008484"/>
                  </a:solidFill>
                  <a:latin typeface="Arial"/>
                </a:rPr>
                <a:t>Disjun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1017720" y="5894280"/>
              <a:ext cx="7162560" cy="475200"/>
              <a:chOff x="1017720" y="5894280"/>
              <a:chExt cx="7162560" cy="475200"/>
            </a:xfrm>
          </p:grpSpPr>
          <p:sp>
            <p:nvSpPr>
              <p:cNvPr id="402" name=""/>
              <p:cNvSpPr/>
              <p:nvPr/>
            </p:nvSpPr>
            <p:spPr>
              <a:xfrm>
                <a:off x="1017720" y="5894280"/>
                <a:ext cx="71625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200" spc="-1" strike="noStrike">
                    <a:solidFill>
                      <a:srgbClr val="800000"/>
                    </a:solidFill>
                    <a:latin typeface="Arial"/>
                  </a:rPr>
                  <a:t>    </a:t>
                </a:r>
                <a:r>
                  <a:rPr b="1" i="1" lang="it-IT" sz="2200" spc="-1" strike="noStrike">
                    <a:solidFill>
                      <a:srgbClr val="800000"/>
                    </a:solidFill>
                    <a:latin typeface="Arial"/>
                  </a:rPr>
                  <a:t>C</a:t>
                </a:r>
                <a:r>
                  <a:rPr b="1" i="1" lang="it-IT" sz="22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r>
                  <a:rPr b="1" lang="it-IT" sz="2200" spc="-1" strike="noStrike" baseline="-25000">
                    <a:solidFill>
                      <a:srgbClr val="777777"/>
                    </a:solidFill>
                    <a:latin typeface="Arial"/>
                  </a:rPr>
                  <a:t> </a:t>
                </a:r>
                <a:r>
                  <a:rPr b="1" lang="it-IT" sz="2200" spc="-1" strike="noStrike">
                    <a:solidFill>
                      <a:srgbClr val="777777"/>
                    </a:solidFill>
                    <a:latin typeface="Arial"/>
                  </a:rPr>
                  <a:t>= 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Electronics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      </a:t>
                </a:r>
                <a:r>
                  <a:rPr b="0" lang="it-IT" sz="2200" spc="-1" strike="noStrike">
                    <a:solidFill>
                      <a:srgbClr val="000099"/>
                    </a:solidFill>
                    <a:latin typeface="Arial"/>
                  </a:rPr>
                  <a:t>(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Cameras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      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Photo</a:t>
                </a:r>
                <a:r>
                  <a:rPr b="0" lang="it-IT" sz="2200" spc="-1" strike="noStrike">
                    <a:solidFill>
                      <a:srgbClr val="000099"/>
                    </a:solidFill>
                    <a:latin typeface="Arial"/>
                  </a:rPr>
                  <a:t>)    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Digital Camera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3238200" y="6060600"/>
                <a:ext cx="259200" cy="211680"/>
                <a:chOff x="3238200" y="6060600"/>
                <a:chExt cx="259200" cy="2116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238560" y="6064200"/>
                  <a:ext cx="0" cy="2080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97400" y="6064200"/>
                  <a:ext cx="0" cy="2080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06" name=""/>
                <p:cNvCxnSpPr>
                  <a:stCxn id="404" idx="0"/>
                  <a:endCxn id="405" idx="0"/>
                </p:cNvCxnSpPr>
                <p:nvPr/>
              </p:nvCxnSpPr>
              <p:spPr>
                <a:xfrm>
                  <a:off x="3238200" y="6060600"/>
                  <a:ext cx="25956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  <p:grpSp>
            <p:nvGrpSpPr>
              <p:cNvPr id="407" name=""/>
              <p:cNvGrpSpPr/>
              <p:nvPr/>
            </p:nvGrpSpPr>
            <p:grpSpPr>
              <a:xfrm>
                <a:off x="5967000" y="6033600"/>
                <a:ext cx="259200" cy="211680"/>
                <a:chOff x="5967000" y="6033600"/>
                <a:chExt cx="259200" cy="2116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967360" y="6037200"/>
                  <a:ext cx="0" cy="2080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226200" y="6037200"/>
                  <a:ext cx="0" cy="2080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10" name=""/>
                <p:cNvCxnSpPr>
                  <a:stCxn id="408" idx="0"/>
                  <a:endCxn id="409" idx="0"/>
                </p:cNvCxnSpPr>
                <p:nvPr/>
              </p:nvCxnSpPr>
              <p:spPr>
                <a:xfrm>
                  <a:off x="5967000" y="6033600"/>
                  <a:ext cx="25956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  <p:grpSp>
            <p:nvGrpSpPr>
              <p:cNvPr id="411" name=""/>
              <p:cNvGrpSpPr/>
              <p:nvPr/>
            </p:nvGrpSpPr>
            <p:grpSpPr>
              <a:xfrm>
                <a:off x="4773240" y="6046920"/>
                <a:ext cx="259200" cy="211320"/>
                <a:chOff x="4773240" y="6046920"/>
                <a:chExt cx="259200" cy="211320"/>
              </a:xfrm>
            </p:grpSpPr>
            <p:sp>
              <p:nvSpPr>
                <p:cNvPr id="412" name=""/>
                <p:cNvSpPr/>
                <p:nvPr/>
              </p:nvSpPr>
              <p:spPr>
                <a:xfrm flipV="1">
                  <a:off x="5032080" y="604692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4773240" y="604692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14" name=""/>
                <p:cNvCxnSpPr>
                  <a:stCxn id="412" idx="0"/>
                  <a:endCxn id="413" idx="0"/>
                </p:cNvCxnSpPr>
                <p:nvPr/>
              </p:nvCxnSpPr>
              <p:spPr>
                <a:xfrm flipH="1" flipV="1">
                  <a:off x="4773240" y="6257520"/>
                  <a:ext cx="25956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</p:grpSp>
        <p:sp>
          <p:nvSpPr>
            <p:cNvPr id="415" name=""/>
            <p:cNvSpPr/>
            <p:nvPr/>
          </p:nvSpPr>
          <p:spPr>
            <a:xfrm>
              <a:off x="504720" y="4143240"/>
              <a:ext cx="4905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Two types of concepts of nod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487840" y="3984480"/>
              <a:ext cx="3935520" cy="2187360"/>
              <a:chOff x="5487840" y="3984480"/>
              <a:chExt cx="3935520" cy="2187360"/>
            </a:xfrm>
          </p:grpSpPr>
          <p:sp>
            <p:nvSpPr>
              <p:cNvPr id="417" name=""/>
              <p:cNvSpPr/>
              <p:nvPr/>
            </p:nvSpPr>
            <p:spPr>
              <a:xfrm>
                <a:off x="7462800" y="4686120"/>
                <a:ext cx="1770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Cameras and Pho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70600" y="3984480"/>
                <a:ext cx="158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Electronic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9" name=""/>
              <p:cNvCxnSpPr>
                <a:stCxn id="420" idx="4"/>
                <a:endCxn id="421" idx="0"/>
              </p:cNvCxnSpPr>
              <p:nvPr/>
            </p:nvCxnSpPr>
            <p:spPr>
              <a:xfrm flipH="1">
                <a:off x="6187680" y="4558680"/>
                <a:ext cx="568800" cy="3834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422" name=""/>
              <p:cNvSpPr/>
              <p:nvPr/>
            </p:nvSpPr>
            <p:spPr>
              <a:xfrm>
                <a:off x="7554960" y="5529240"/>
                <a:ext cx="1868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Digital  Camer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3" name=""/>
              <p:cNvCxnSpPr>
                <a:stCxn id="424" idx="4"/>
                <a:endCxn id="425" idx="0"/>
              </p:cNvCxnSpPr>
              <p:nvPr/>
            </p:nvCxnSpPr>
            <p:spPr>
              <a:xfrm>
                <a:off x="7378200" y="5173560"/>
                <a:ext cx="13320" cy="5738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426" name=""/>
              <p:cNvSpPr/>
              <p:nvPr/>
            </p:nvSpPr>
            <p:spPr>
              <a:xfrm>
                <a:off x="5487840" y="4811760"/>
                <a:ext cx="88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P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7" name=""/>
              <p:cNvCxnSpPr>
                <a:stCxn id="420" idx="4"/>
                <a:endCxn id="424" idx="0"/>
              </p:cNvCxnSpPr>
              <p:nvPr/>
            </p:nvCxnSpPr>
            <p:spPr>
              <a:xfrm>
                <a:off x="6756480" y="4558680"/>
                <a:ext cx="622800" cy="3834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420" name=""/>
              <p:cNvSpPr/>
              <p:nvPr/>
            </p:nvSpPr>
            <p:spPr>
              <a:xfrm>
                <a:off x="6642000" y="4327560"/>
                <a:ext cx="228600" cy="231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73560" y="4941720"/>
                <a:ext cx="227160" cy="23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65880" y="4941720"/>
                <a:ext cx="227160" cy="23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75240" y="5746680"/>
                <a:ext cx="230400" cy="23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CD49-E256-45FA-BE28-167FCA595A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71240" y="419040"/>
            <a:ext cx="71629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mpute relations between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(atomic) 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600200" y="2759040"/>
            <a:ext cx="6786720" cy="20858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52600" y="1508040"/>
            <a:ext cx="823896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xploit a priori knowledge, e.g., lexical, domain knowledge, with the help of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lement level semantic mat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257480" y="2984400"/>
            <a:ext cx="7556400" cy="368280"/>
            <a:chOff x="1257480" y="2984400"/>
            <a:chExt cx="7556400" cy="368280"/>
          </a:xfrm>
        </p:grpSpPr>
        <p:sp>
          <p:nvSpPr>
            <p:cNvPr id="432" name=""/>
            <p:cNvSpPr/>
            <p:nvPr/>
          </p:nvSpPr>
          <p:spPr>
            <a:xfrm>
              <a:off x="1257480" y="2984400"/>
              <a:ext cx="5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29600" y="298440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213000" y="3454560"/>
            <a:ext cx="4432320" cy="951840"/>
            <a:chOff x="3213000" y="3454560"/>
            <a:chExt cx="4432320" cy="951840"/>
          </a:xfrm>
        </p:grpSpPr>
        <p:sp>
          <p:nvSpPr>
            <p:cNvPr id="435" name=""/>
            <p:cNvSpPr/>
            <p:nvPr/>
          </p:nvSpPr>
          <p:spPr>
            <a:xfrm>
              <a:off x="3213000" y="3733560"/>
              <a:ext cx="1206720" cy="380880"/>
            </a:xfrm>
            <a:prstGeom prst="ellipse">
              <a:avLst/>
            </a:prstGeom>
            <a:noFill/>
            <a:ln w="316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87920" y="3454560"/>
              <a:ext cx="1206720" cy="380880"/>
            </a:xfrm>
            <a:prstGeom prst="ellipse">
              <a:avLst/>
            </a:prstGeom>
            <a:noFill/>
            <a:ln w="316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83080" y="3975120"/>
              <a:ext cx="1066680" cy="215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7880" y="3695760"/>
              <a:ext cx="1079280" cy="19008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51640" y="3975120"/>
              <a:ext cx="1993680" cy="431280"/>
            </a:xfrm>
            <a:prstGeom prst="ellipse">
              <a:avLst/>
            </a:prstGeom>
            <a:noFill/>
            <a:ln w="316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0" name=""/>
          <p:cNvGraphicFramePr/>
          <p:nvPr/>
        </p:nvGraphicFramePr>
        <p:xfrm>
          <a:off x="1447920" y="5259240"/>
          <a:ext cx="7092720" cy="1190520"/>
        </p:xfrm>
        <a:graphic>
          <a:graphicData uri="http://schemas.openxmlformats.org/drawingml/2006/table">
            <a:tbl>
              <a:tblPr/>
              <a:tblGrid>
                <a:gridCol w="1406160"/>
                <a:gridCol w="1414440"/>
                <a:gridCol w="1609920"/>
                <a:gridCol w="266220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ras</a:t>
                      </a:r>
                      <a:r>
                        <a:rPr b="1" lang="it-IT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</a:t>
                      </a:r>
                      <a:r>
                        <a:rPr b="1" lang="it-IT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_Cameras</a:t>
                      </a:r>
                      <a:r>
                        <a:rPr b="1" lang="it-IT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</a:t>
                      </a:r>
                      <a:r>
                        <a:rPr b="1" lang="it-IT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ras</a:t>
                      </a:r>
                      <a:r>
                        <a:rPr b="1" lang="it-IT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1" name=""/>
          <p:cNvGrpSpPr/>
          <p:nvPr/>
        </p:nvGrpSpPr>
        <p:grpSpPr>
          <a:xfrm>
            <a:off x="7148520" y="6143400"/>
            <a:ext cx="146160" cy="169920"/>
            <a:chOff x="7148520" y="6143400"/>
            <a:chExt cx="146160" cy="169920"/>
          </a:xfrm>
        </p:grpSpPr>
        <p:grpSp>
          <p:nvGrpSpPr>
            <p:cNvPr id="442" name=""/>
            <p:cNvGrpSpPr/>
            <p:nvPr/>
          </p:nvGrpSpPr>
          <p:grpSpPr>
            <a:xfrm>
              <a:off x="7148520" y="6143400"/>
              <a:ext cx="145800" cy="133560"/>
              <a:chOff x="7148520" y="6143400"/>
              <a:chExt cx="145800" cy="133560"/>
            </a:xfrm>
          </p:grpSpPr>
          <p:sp>
            <p:nvSpPr>
              <p:cNvPr id="443" name=""/>
              <p:cNvSpPr/>
              <p:nvPr/>
            </p:nvSpPr>
            <p:spPr>
              <a:xfrm>
                <a:off x="7151400" y="627696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148520" y="6143400"/>
                <a:ext cx="14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93600" y="6143760"/>
                <a:ext cx="720" cy="12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148520" y="6313320"/>
              <a:ext cx="14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338120" y="4838760"/>
            <a:ext cx="446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absMatrix 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(result of Step 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F4E6-12C0-470A-9DA5-D441ECCDAB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240" y="571680"/>
            <a:ext cx="716292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lement level semantic matcher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se-based matcher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have two WordNet senses in input and produce semantic relations exploiting (direct) lexical relations of WordNet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ing-based matcher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have two labels in input and produce semantic relations exploiting string comparison techniques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749160" y="3798720"/>
          <a:ext cx="8140680" cy="2323800"/>
        </p:xfrm>
        <a:graphic>
          <a:graphicData uri="http://schemas.openxmlformats.org/drawingml/2006/table">
            <a:tbl>
              <a:tblPr/>
              <a:tblGrid>
                <a:gridCol w="1569960"/>
                <a:gridCol w="1309680"/>
                <a:gridCol w="1819440"/>
                <a:gridCol w="1498680"/>
                <a:gridCol w="194292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er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im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er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ma 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-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Net se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-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-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 di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-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-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398D-A71A-42AA-B566-2F570F869F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57200" y="525600"/>
            <a:ext cx="7134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mpute relations between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2600" y="1508040"/>
            <a:ext cx="794700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Decompose the tree matching problem into the set of 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node matching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Translate each node matching problem, namely pairs of nodes with possible relations between them, into a propositional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heck the propositional formula for val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AB19-D6DD-42CF-BBAB-DB7B36E479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4: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ample of a node matching task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11560" y="1790640"/>
            <a:ext cx="546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xioms </a:t>
            </a:r>
            <a:r>
              <a:rPr b="1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8a800"/>
                </a:solidFill>
                <a:latin typeface="Arial"/>
              </a:rPr>
              <a:t>re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context</a:t>
            </a:r>
            <a:r>
              <a:rPr b="1" i="1" lang="en-US" sz="24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context</a:t>
            </a:r>
            <a:r>
              <a:rPr b="1" i="1" lang="en-U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442880" y="2619360"/>
            <a:ext cx="7578720" cy="1300320"/>
          </a:xfrm>
          <a:prstGeom prst="rect">
            <a:avLst/>
          </a:prstGeom>
          <a:ln w="0">
            <a:noFill/>
          </a:ln>
        </p:spPr>
      </p:pic>
      <p:grpSp>
        <p:nvGrpSpPr>
          <p:cNvPr id="456" name=""/>
          <p:cNvGrpSpPr/>
          <p:nvPr/>
        </p:nvGrpSpPr>
        <p:grpSpPr>
          <a:xfrm>
            <a:off x="1434960" y="2819520"/>
            <a:ext cx="7556400" cy="368280"/>
            <a:chOff x="1434960" y="2819520"/>
            <a:chExt cx="7556400" cy="368280"/>
          </a:xfrm>
        </p:grpSpPr>
        <p:sp>
          <p:nvSpPr>
            <p:cNvPr id="457" name=""/>
            <p:cNvSpPr/>
            <p:nvPr/>
          </p:nvSpPr>
          <p:spPr>
            <a:xfrm>
              <a:off x="1434960" y="2819520"/>
              <a:ext cx="5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07080" y="281952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724280" y="2629080"/>
            <a:ext cx="240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171880" y="2654280"/>
            <a:ext cx="6260760" cy="520200"/>
            <a:chOff x="2171880" y="2654280"/>
            <a:chExt cx="6260760" cy="520200"/>
          </a:xfrm>
        </p:grpSpPr>
        <p:sp>
          <p:nvSpPr>
            <p:cNvPr id="461" name=""/>
            <p:cNvSpPr/>
            <p:nvPr/>
          </p:nvSpPr>
          <p:spPr>
            <a:xfrm>
              <a:off x="2171880" y="2831760"/>
              <a:ext cx="2450880" cy="342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213680" y="2819160"/>
              <a:ext cx="1218960" cy="342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37240" y="2984400"/>
              <a:ext cx="238752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86400" y="265428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8a8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571680" y="4737240"/>
            <a:ext cx="820404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lectronic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ersonal_Computer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33440" y="5295960"/>
            <a:ext cx="781056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lectronic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al_Computer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8a800"/>
                </a:solidFill>
                <a:latin typeface="Symbol"/>
                <a:ea typeface="Symbol"/>
              </a:rPr>
              <a:t></a:t>
            </a:r>
            <a:r>
              <a:rPr b="1" lang="en-US" sz="2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lectronic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5400000">
            <a:off x="4323960" y="933120"/>
            <a:ext cx="304560" cy="7556760"/>
          </a:xfrm>
          <a:custGeom>
            <a:avLst/>
            <a:gdLst>
              <a:gd name="textAreaLeft" fmla="*/ 194760 w 304560"/>
              <a:gd name="textAreaRight" fmla="*/ 304920 w 304560"/>
              <a:gd name="textAreaTop" fmla="*/ 196920 h 7556760"/>
              <a:gd name="textAreaBottom" fmla="*/ 7359840 h 755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48040" y="417816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3721320" y="3530160"/>
            <a:ext cx="164880" cy="4610160"/>
          </a:xfrm>
          <a:custGeom>
            <a:avLst/>
            <a:gdLst>
              <a:gd name="textAreaLeft" fmla="*/ 0 w 164880"/>
              <a:gd name="textAreaRight" fmla="*/ 59400 w 164880"/>
              <a:gd name="textAreaTop" fmla="*/ 120240 h 4610160"/>
              <a:gd name="textAreaBottom" fmla="*/ 4489920 h 461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7720920" y="4647960"/>
            <a:ext cx="139680" cy="2374920"/>
          </a:xfrm>
          <a:custGeom>
            <a:avLst/>
            <a:gdLst>
              <a:gd name="textAreaLeft" fmla="*/ 0 w 139680"/>
              <a:gd name="textAreaRight" fmla="*/ 50400 w 13968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87800" y="5931000"/>
            <a:ext cx="12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ntext</a:t>
            </a:r>
            <a:r>
              <a:rPr b="1" i="1" lang="en-US" sz="18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188120" y="5905440"/>
            <a:ext cx="12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ntext</a:t>
            </a:r>
            <a:r>
              <a:rPr b="1" i="1" lang="en-US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CF55-189C-4FC9-A106-F88BC76135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9160" y="1773360"/>
            <a:ext cx="77853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Part I: The matching problem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Problem statement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Part II: State of the art in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ontology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Part III: Schema-based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art IV: Evaluation (technology showcase)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art V: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Conclus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326E-DC20-46B2-81D6-B235161D92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57200" y="982800"/>
            <a:ext cx="71344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fficient semantic matching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8200" y="1579680"/>
            <a:ext cx="826596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Conjunctive concepts at n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Matching formula is H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atisfiability can be determined in linear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AT solver requires quadratic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developed ad hoc linear time reasoning procedure</a:t>
            </a: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void conversion to propositional fo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Reason on the axioms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junctive concepts at n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Matching formula is not in CNF by constr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Most SAT solvers require the input formula to be in C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Conversion to CNF may lead to exponential space explo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xploit structure preserving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ize of formula in CNF is linear with respect to original fo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3D84-3885-40A7-A048-2BFE00BDA8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4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9160" y="1714320"/>
            <a:ext cx="778536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8080"/>
                </a:solidFill>
                <a:latin typeface="Arial"/>
              </a:rPr>
              <a:t>Part I: The matching problem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8080"/>
                </a:solidFill>
                <a:latin typeface="Arial"/>
              </a:rPr>
              <a:t>Part II: State of the art in 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ontology matching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99"/>
                </a:solidFill>
                <a:latin typeface="Arial"/>
              </a:rPr>
              <a:t>Part III: Schema-based semantic matching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8080"/>
                </a:solidFill>
                <a:latin typeface="Arial"/>
              </a:rPr>
              <a:t>Semantic matching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99"/>
                </a:solidFill>
                <a:latin typeface="Arial"/>
              </a:rPr>
              <a:t>Iterative semantic matching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Part IV: Evaluation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(technology showcase)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89"/>
              </a:spcBef>
              <a:spcAft>
                <a:spcPts val="68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Part V:</a:t>
            </a: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 Conclusions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FFA4-7C1E-4FD8-BC6A-6A6937CD03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71240" y="545760"/>
            <a:ext cx="71629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Motivation: </a:t>
            </a:r>
            <a:br>
              <a:rPr sz="3000"/>
            </a:b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Problem of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low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recall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(incompletness) - I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498320"/>
            <a:ext cx="825516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1" lang="en-US" sz="2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Matching (usually) has two components: element level matching and structure level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trarily to many other systems, the semantic matching structure level algorithm is correct and complete  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till, the quality of results is not very good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95360" y="4851360"/>
            <a:ext cx="773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1" i="1" lang="it-IT" sz="2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it-IT" sz="2600" spc="-1" strike="noStrike">
                <a:solidFill>
                  <a:srgbClr val="800000"/>
                </a:solidFill>
                <a:latin typeface="Arial"/>
              </a:rPr>
              <a:t>... the problem of lack of knowledg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4" action="ppaction://hlinksldjump"/>
          </p:cNvPr>
          <p:cNvSpPr/>
          <p:nvPr/>
        </p:nvSpPr>
        <p:spPr>
          <a:xfrm>
            <a:off x="4191120" y="914400"/>
            <a:ext cx="123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reca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F850-337F-4825-AD0A-AB5ACB7EC2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520560"/>
            <a:ext cx="7162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Motivation: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3000"/>
            </a:b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Problem of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low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recall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(incompletness) - II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-360" y="1397160"/>
            <a:ext cx="5156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liminary (analytical) evalua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3389400"/>
            <a:ext cx="7186680" cy="346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4" name=""/>
          <p:cNvGraphicFramePr/>
          <p:nvPr/>
        </p:nvGraphicFramePr>
        <p:xfrm>
          <a:off x="101520" y="1866960"/>
          <a:ext cx="6896160" cy="1403280"/>
        </p:xfrm>
        <a:graphic>
          <a:graphicData uri="http://schemas.openxmlformats.org/drawingml/2006/table">
            <a:tbl>
              <a:tblPr/>
              <a:tblGrid>
                <a:gridCol w="2463840"/>
                <a:gridCol w="1117440"/>
                <a:gridCol w="1409760"/>
                <a:gridCol w="19051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tching tas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#nod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x dept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#labels per tr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vs Looksma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/10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/17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vs Yaho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1/6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/9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hoo vs Looksma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/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/2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7010280" y="210816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Dataset               [P. Avesani et al., ISWC’0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2" action="ppaction://hlinksldjump"/>
          </p:cNvPr>
          <p:cNvSpPr/>
          <p:nvPr/>
        </p:nvSpPr>
        <p:spPr>
          <a:xfrm>
            <a:off x="8737560" y="649116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9258-CB63-40BD-BA79-2EB9FEF1D0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n increasing the 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recall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: an overview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3880" y="1695600"/>
            <a:ext cx="8013600" cy="41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Strengthen element level matc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Reuse of previous match results from the same domain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0840" indent="-351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PO = Purchase Order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Use general knowledge sources (unlikely to hel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0840" indent="-3510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Use, if available (!), domain specific sources of knowled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0840" indent="-3510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UMLS, F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CC3C-F932-4349-8273-15A549246A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Iterative semantic matching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M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0160" y="1730520"/>
            <a:ext cx="83930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d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Repeat </a:t>
            </a: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Step 3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Step 4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of the matching algorithm for som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critical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(hard) matching ta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76240" y="3098880"/>
            <a:ext cx="78361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M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macro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8484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Discover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critical point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in the matching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8484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Generate candidate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missing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axiom(s)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8484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Re-run SAT solver on a critical task taking into account the new axiom(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8484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If SAT returns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alse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, save the newly discovered axiom(s)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for future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B72B-B61F-4C27-ACEE-F3C8729464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1346040"/>
            <a:ext cx="9144000" cy="551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71240" y="558720"/>
            <a:ext cx="716292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M: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Discovering critical points -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ample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606680" y="1914480"/>
            <a:ext cx="6296040" cy="30718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095560" y="153828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gle (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08720" y="1538280"/>
            <a:ext cx="19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oksmart (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33480" y="5130720"/>
            <a:ext cx="384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absMatrix 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(result of Step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52920" y="5118120"/>
            <a:ext cx="40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NodesMatrix 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(result of Step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519200" y="2905200"/>
            <a:ext cx="6298920" cy="520560"/>
            <a:chOff x="1519200" y="2905200"/>
            <a:chExt cx="6298920" cy="520560"/>
          </a:xfrm>
        </p:grpSpPr>
        <p:sp>
          <p:nvSpPr>
            <p:cNvPr id="500" name=""/>
            <p:cNvSpPr/>
            <p:nvPr/>
          </p:nvSpPr>
          <p:spPr>
            <a:xfrm>
              <a:off x="1519200" y="3176640"/>
              <a:ext cx="2293920" cy="24912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33680" y="2905200"/>
              <a:ext cx="2584440" cy="30456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H="1" flipV="1">
            <a:off x="4071600" y="3587400"/>
            <a:ext cx="1870200" cy="2271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3276360" y="3306600"/>
            <a:ext cx="2679480" cy="503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88920" y="5511960"/>
          <a:ext cx="4460760" cy="1282680"/>
        </p:xfrm>
        <a:graphic>
          <a:graphicData uri="http://schemas.openxmlformats.org/drawingml/2006/table">
            <a:tbl>
              <a:tblPr/>
              <a:tblGrid>
                <a:gridCol w="1473120"/>
                <a:gridCol w="635040"/>
                <a:gridCol w="876240"/>
                <a:gridCol w="14763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</a:t>
                      </a:r>
                      <a:r>
                        <a:rPr b="1" lang="it-IT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es</a:t>
                      </a:r>
                      <a:r>
                        <a:rPr b="1" lang="it-IT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_Games</a:t>
                      </a:r>
                      <a:r>
                        <a:rPr b="1" lang="it-IT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</a:t>
                      </a:r>
                      <a:r>
                        <a:rPr b="1" lang="it-IT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tainment</a:t>
                      </a:r>
                      <a:r>
                        <a:rPr b="1" lang="it-IT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es</a:t>
                      </a:r>
                      <a:r>
                        <a:rPr b="1" lang="it-IT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4686480" y="5513400"/>
          <a:ext cx="4394160" cy="97632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20560"/>
                <a:gridCol w="507960"/>
                <a:gridCol w="520920"/>
                <a:gridCol w="546120"/>
                <a:gridCol w="584280"/>
                <a:gridCol w="59688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1</a:t>
                      </a:r>
                      <a:r>
                        <a:rPr b="1" i="1" lang="it-IT" sz="1500" spc="-1" strike="noStrike" baseline="-25000">
                          <a:solidFill>
                            <a:srgbClr val="8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1</a:t>
                      </a:r>
                      <a:r>
                        <a:rPr b="1" i="1" lang="it-IT" sz="1500" spc="-1" strike="noStrike" baseline="-25000">
                          <a:solidFill>
                            <a:srgbClr val="8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1</a:t>
                      </a:r>
                      <a:r>
                        <a:rPr b="1" i="1" lang="it-IT" sz="1500" spc="-1" strike="noStrike" baseline="-25000">
                          <a:solidFill>
                            <a:srgbClr val="8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1</a:t>
                      </a:r>
                      <a:r>
                        <a:rPr b="1" i="1" lang="it-IT" sz="1500" spc="-1" strike="noStrike" baseline="-25000">
                          <a:solidFill>
                            <a:srgbClr val="8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1</a:t>
                      </a:r>
                      <a:r>
                        <a:rPr b="1" i="1" lang="it-IT" sz="1500" spc="-1" strike="noStrike" baseline="-25000">
                          <a:solidFill>
                            <a:srgbClr val="8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1</a:t>
                      </a:r>
                      <a:r>
                        <a:rPr b="1" i="1" lang="it-IT" sz="1500" spc="-1" strike="noStrike" baseline="-25000">
                          <a:solidFill>
                            <a:srgbClr val="8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1</a:t>
                      </a:r>
                      <a:r>
                        <a:rPr b="1" i="1" lang="it-IT" sz="1500" spc="-1" strike="noStrike" baseline="-25000">
                          <a:solidFill>
                            <a:srgbClr val="800000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2</a:t>
                      </a:r>
                      <a:r>
                        <a:rPr b="1" i="1" lang="it-IT" sz="1500" spc="-1" strike="noStrike" baseline="-25000">
                          <a:solidFill>
                            <a:srgbClr val="8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2</a:t>
                      </a:r>
                      <a:r>
                        <a:rPr b="1" i="1" lang="it-IT" sz="1500" spc="-1" strike="noStrike" baseline="-25000">
                          <a:solidFill>
                            <a:srgbClr val="8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06" name=""/>
          <p:cNvGrpSpPr/>
          <p:nvPr/>
        </p:nvGrpSpPr>
        <p:grpSpPr>
          <a:xfrm>
            <a:off x="8672400" y="5914800"/>
            <a:ext cx="146160" cy="169920"/>
            <a:chOff x="8672400" y="5914800"/>
            <a:chExt cx="146160" cy="169920"/>
          </a:xfrm>
        </p:grpSpPr>
        <p:grpSp>
          <p:nvGrpSpPr>
            <p:cNvPr id="507" name=""/>
            <p:cNvGrpSpPr/>
            <p:nvPr/>
          </p:nvGrpSpPr>
          <p:grpSpPr>
            <a:xfrm>
              <a:off x="8672400" y="5914800"/>
              <a:ext cx="145800" cy="133560"/>
              <a:chOff x="8672400" y="5914800"/>
              <a:chExt cx="145800" cy="133560"/>
            </a:xfrm>
          </p:grpSpPr>
          <p:sp>
            <p:nvSpPr>
              <p:cNvPr id="508" name=""/>
              <p:cNvSpPr/>
              <p:nvPr/>
            </p:nvSpPr>
            <p:spPr>
              <a:xfrm>
                <a:off x="8675280" y="604836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672400" y="5914800"/>
                <a:ext cx="14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817480" y="5915160"/>
                <a:ext cx="720" cy="12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8672400" y="6084720"/>
              <a:ext cx="14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034040" y="5927400"/>
            <a:ext cx="146160" cy="170280"/>
            <a:chOff x="7034040" y="5927400"/>
            <a:chExt cx="146160" cy="170280"/>
          </a:xfrm>
        </p:grpSpPr>
        <p:grpSp>
          <p:nvGrpSpPr>
            <p:cNvPr id="513" name=""/>
            <p:cNvGrpSpPr/>
            <p:nvPr/>
          </p:nvGrpSpPr>
          <p:grpSpPr>
            <a:xfrm>
              <a:off x="7034040" y="5927400"/>
              <a:ext cx="145800" cy="133560"/>
              <a:chOff x="7034040" y="5927400"/>
              <a:chExt cx="145800" cy="133560"/>
            </a:xfrm>
          </p:grpSpPr>
          <p:sp>
            <p:nvSpPr>
              <p:cNvPr id="514" name=""/>
              <p:cNvSpPr/>
              <p:nvPr/>
            </p:nvSpPr>
            <p:spPr>
              <a:xfrm>
                <a:off x="7036920" y="606096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34040" y="5927400"/>
                <a:ext cx="14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79120" y="5927760"/>
                <a:ext cx="720" cy="12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034040" y="6097680"/>
              <a:ext cx="14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7580160" y="5927400"/>
            <a:ext cx="146160" cy="170280"/>
            <a:chOff x="7580160" y="5927400"/>
            <a:chExt cx="146160" cy="170280"/>
          </a:xfrm>
        </p:grpSpPr>
        <p:grpSp>
          <p:nvGrpSpPr>
            <p:cNvPr id="519" name=""/>
            <p:cNvGrpSpPr/>
            <p:nvPr/>
          </p:nvGrpSpPr>
          <p:grpSpPr>
            <a:xfrm>
              <a:off x="7580160" y="5927400"/>
              <a:ext cx="145800" cy="133560"/>
              <a:chOff x="7580160" y="5927400"/>
              <a:chExt cx="145800" cy="133560"/>
            </a:xfrm>
          </p:grpSpPr>
          <p:sp>
            <p:nvSpPr>
              <p:cNvPr id="520" name=""/>
              <p:cNvSpPr/>
              <p:nvPr/>
            </p:nvSpPr>
            <p:spPr>
              <a:xfrm>
                <a:off x="7583040" y="606096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80160" y="5927400"/>
                <a:ext cx="14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25240" y="5927760"/>
                <a:ext cx="720" cy="12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7580160" y="6097680"/>
              <a:ext cx="14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8113680" y="5927400"/>
            <a:ext cx="146160" cy="170280"/>
            <a:chOff x="8113680" y="5927400"/>
            <a:chExt cx="146160" cy="170280"/>
          </a:xfrm>
        </p:grpSpPr>
        <p:grpSp>
          <p:nvGrpSpPr>
            <p:cNvPr id="525" name=""/>
            <p:cNvGrpSpPr/>
            <p:nvPr/>
          </p:nvGrpSpPr>
          <p:grpSpPr>
            <a:xfrm>
              <a:off x="8113680" y="5927400"/>
              <a:ext cx="145800" cy="133560"/>
              <a:chOff x="8113680" y="5927400"/>
              <a:chExt cx="145800" cy="133560"/>
            </a:xfrm>
          </p:grpSpPr>
          <p:sp>
            <p:nvSpPr>
              <p:cNvPr id="526" name=""/>
              <p:cNvSpPr/>
              <p:nvPr/>
            </p:nvSpPr>
            <p:spPr>
              <a:xfrm>
                <a:off x="8116560" y="606096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13680" y="5927400"/>
                <a:ext cx="14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258760" y="5927760"/>
                <a:ext cx="720" cy="12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8113680" y="6097680"/>
              <a:ext cx="14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539040" y="5927400"/>
            <a:ext cx="145800" cy="170280"/>
            <a:chOff x="6539040" y="5927400"/>
            <a:chExt cx="145800" cy="170280"/>
          </a:xfrm>
        </p:grpSpPr>
        <p:grpSp>
          <p:nvGrpSpPr>
            <p:cNvPr id="531" name=""/>
            <p:cNvGrpSpPr/>
            <p:nvPr/>
          </p:nvGrpSpPr>
          <p:grpSpPr>
            <a:xfrm>
              <a:off x="6539040" y="5927400"/>
              <a:ext cx="145440" cy="133560"/>
              <a:chOff x="6539040" y="5927400"/>
              <a:chExt cx="145440" cy="133560"/>
            </a:xfrm>
          </p:grpSpPr>
          <p:sp>
            <p:nvSpPr>
              <p:cNvPr id="532" name=""/>
              <p:cNvSpPr/>
              <p:nvPr/>
            </p:nvSpPr>
            <p:spPr>
              <a:xfrm>
                <a:off x="6541920" y="6060960"/>
                <a:ext cx="14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39040" y="5927400"/>
                <a:ext cx="14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83760" y="5927760"/>
                <a:ext cx="720" cy="12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6539040" y="6097680"/>
              <a:ext cx="14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005520" y="5940000"/>
            <a:ext cx="146160" cy="170280"/>
            <a:chOff x="6005520" y="5940000"/>
            <a:chExt cx="146160" cy="170280"/>
          </a:xfrm>
        </p:grpSpPr>
        <p:grpSp>
          <p:nvGrpSpPr>
            <p:cNvPr id="537" name=""/>
            <p:cNvGrpSpPr/>
            <p:nvPr/>
          </p:nvGrpSpPr>
          <p:grpSpPr>
            <a:xfrm>
              <a:off x="6005520" y="5940000"/>
              <a:ext cx="145800" cy="133560"/>
              <a:chOff x="6005520" y="5940000"/>
              <a:chExt cx="145800" cy="133560"/>
            </a:xfrm>
          </p:grpSpPr>
          <p:sp>
            <p:nvSpPr>
              <p:cNvPr id="538" name=""/>
              <p:cNvSpPr/>
              <p:nvPr/>
            </p:nvSpPr>
            <p:spPr>
              <a:xfrm>
                <a:off x="6008400" y="607356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05520" y="5940000"/>
                <a:ext cx="14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150600" y="5940360"/>
                <a:ext cx="720" cy="12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6005520" y="6110280"/>
              <a:ext cx="14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445000" y="6243480"/>
            <a:ext cx="147600" cy="169920"/>
            <a:chOff x="5445000" y="6243480"/>
            <a:chExt cx="147600" cy="169920"/>
          </a:xfrm>
        </p:grpSpPr>
        <p:grpSp>
          <p:nvGrpSpPr>
            <p:cNvPr id="543" name=""/>
            <p:cNvGrpSpPr/>
            <p:nvPr/>
          </p:nvGrpSpPr>
          <p:grpSpPr>
            <a:xfrm>
              <a:off x="5445360" y="6243480"/>
              <a:ext cx="147240" cy="133560"/>
              <a:chOff x="5445360" y="6243480"/>
              <a:chExt cx="147240" cy="133560"/>
            </a:xfrm>
          </p:grpSpPr>
          <p:sp>
            <p:nvSpPr>
              <p:cNvPr id="544" name=""/>
              <p:cNvSpPr/>
              <p:nvPr/>
            </p:nvSpPr>
            <p:spPr>
              <a:xfrm flipH="1">
                <a:off x="5446080" y="6243480"/>
                <a:ext cx="14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446080" y="6377040"/>
                <a:ext cx="14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flipV="1">
                <a:off x="5445360" y="6249960"/>
                <a:ext cx="720" cy="12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 flipH="1">
              <a:off x="5445000" y="641340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3732120" y="6536880"/>
            <a:ext cx="146160" cy="170280"/>
            <a:chOff x="3732120" y="6536880"/>
            <a:chExt cx="146160" cy="170280"/>
          </a:xfrm>
        </p:grpSpPr>
        <p:grpSp>
          <p:nvGrpSpPr>
            <p:cNvPr id="549" name=""/>
            <p:cNvGrpSpPr/>
            <p:nvPr/>
          </p:nvGrpSpPr>
          <p:grpSpPr>
            <a:xfrm>
              <a:off x="3732120" y="6536880"/>
              <a:ext cx="145800" cy="133560"/>
              <a:chOff x="3732120" y="6536880"/>
              <a:chExt cx="145800" cy="133560"/>
            </a:xfrm>
          </p:grpSpPr>
          <p:sp>
            <p:nvSpPr>
              <p:cNvPr id="550" name=""/>
              <p:cNvSpPr/>
              <p:nvPr/>
            </p:nvSpPr>
            <p:spPr>
              <a:xfrm>
                <a:off x="3735000" y="667044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732120" y="6536880"/>
                <a:ext cx="14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877200" y="6537240"/>
                <a:ext cx="720" cy="12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3732120" y="6707160"/>
              <a:ext cx="14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195640" y="6413400"/>
            <a:ext cx="869760" cy="4190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63840" y="6413400"/>
            <a:ext cx="870120" cy="4190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21520" y="6121440"/>
            <a:ext cx="742680" cy="4190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213600" y="6049800"/>
            <a:ext cx="698400" cy="552600"/>
            <a:chOff x="6213600" y="6049800"/>
            <a:chExt cx="698400" cy="552600"/>
          </a:xfrm>
        </p:grpSpPr>
        <p:sp>
          <p:nvSpPr>
            <p:cNvPr id="558" name=""/>
            <p:cNvSpPr/>
            <p:nvPr/>
          </p:nvSpPr>
          <p:spPr>
            <a:xfrm>
              <a:off x="6346800" y="6049800"/>
              <a:ext cx="56520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213600" y="6151320"/>
              <a:ext cx="682560" cy="43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340000" y="6075360"/>
            <a:ext cx="545760" cy="438120"/>
            <a:chOff x="2340000" y="6075360"/>
            <a:chExt cx="545760" cy="438120"/>
          </a:xfrm>
        </p:grpSpPr>
        <p:sp>
          <p:nvSpPr>
            <p:cNvPr id="561" name=""/>
            <p:cNvSpPr/>
            <p:nvPr/>
          </p:nvSpPr>
          <p:spPr>
            <a:xfrm>
              <a:off x="2444040" y="6075360"/>
              <a:ext cx="44172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2340000" y="6155640"/>
              <a:ext cx="533520" cy="34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209680" y="5460840"/>
            <a:ext cx="86364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760" y="6095880"/>
            <a:ext cx="1536840" cy="4194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EB14-53B6-4800-BEA3-D556BD25ED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240" y="434520"/>
            <a:ext cx="71629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M: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Generating candidate axiom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6880" y="1668600"/>
            <a:ext cx="786132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ense-bas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have two WordNet senses in input and produce semantic relations exploiting structural properties of WordNet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777777"/>
                </a:solidFill>
                <a:latin typeface="Arial"/>
              </a:rPr>
              <a:t>Hierarchy Distance (H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Gloss-bas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have two WordNet senses as input and produce relations exploiting gloss compariso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777777"/>
                </a:solidFill>
                <a:latin typeface="Arial"/>
              </a:rPr>
              <a:t>WordNet Gloss (W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777777"/>
                </a:solidFill>
                <a:latin typeface="Arial"/>
              </a:rPr>
              <a:t>Extended WordNet Gloss (EW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777777"/>
                </a:solidFill>
                <a:latin typeface="Arial"/>
              </a:rPr>
              <a:t>Gloss Comparison (G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E147-936F-4E54-912B-A55A19163C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71160" y="52236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M: generating candidate axioms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 Hierarchy Distanc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470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7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archy distanc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returns the equivalence relation if the distance between two input senses in WordNet hierarchy is less than a given threshold value (e.g.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) and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idk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otherwise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9200" y="3863880"/>
            <a:ext cx="467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58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istance between these concepts is 2 (1 more general link and 1 less general). Thus, we can conclude that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games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entertainment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re close in their meaning and return the equivalence 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13320" y="3309840"/>
            <a:ext cx="20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575400" y="3801960"/>
            <a:ext cx="565200" cy="63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139160" y="3814920"/>
            <a:ext cx="1058760" cy="12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64200" y="454176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764480" y="519120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93560" y="2946240"/>
            <a:ext cx="503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here is no direct relation between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games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entertainment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n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ord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6650-8E75-4243-8070-3C994C59D9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9160" y="1181160"/>
            <a:ext cx="7785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Part I: The matching problem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Part II: State of the art in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ontology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Part III: Schema-based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rt IV: Evaluation (technology showcase)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Evaluation setup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Evaluation result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art V: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Conclus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FA21-DC45-4E9A-BD16-4147FF14A14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Matching operation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879560"/>
            <a:ext cx="789948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2600">
              <a:lnSpc>
                <a:spcPct val="100000"/>
              </a:lnSpc>
              <a:spcBef>
                <a:spcPts val="649"/>
              </a:spcBef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ching</a:t>
            </a:r>
            <a:r>
              <a:rPr b="1" lang="en-US" sz="2600" spc="-1" strike="noStrike">
                <a:solidFill>
                  <a:srgbClr val="008484"/>
                </a:solidFill>
                <a:latin typeface="Arial"/>
              </a:rPr>
              <a:t> operation takes as input</a:t>
            </a:r>
            <a:r>
              <a:rPr b="0" lang="en-US" sz="2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8484"/>
                </a:solidFill>
                <a:latin typeface="Arial"/>
              </a:rPr>
              <a:t>ontologies, each consisting of a set of discrete entities (e.g., tables, XML elements, classes, properties) and determines as output the relationships (e.g., equivalence, subsumption) holding between these ent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2600">
              <a:lnSpc>
                <a:spcPct val="100000"/>
              </a:lnSpc>
              <a:spcBef>
                <a:spcPts val="649"/>
              </a:spcBef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AE66-650F-4715-BDA1-C45D4B634D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1359000"/>
            <a:ext cx="9144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11560" y="4091040"/>
            <a:ext cx="119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negatives (T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3560" y="1481040"/>
            <a:ext cx="208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al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44680" y="1660680"/>
            <a:ext cx="18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60240" y="2676600"/>
            <a:ext cx="4330800" cy="14842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2305080" y="3011400"/>
            <a:ext cx="107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positives (T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10000" y="2998800"/>
            <a:ext cx="116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positives (F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49320" y="3011400"/>
            <a:ext cx="112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negatives (F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530360" y="2166840"/>
            <a:ext cx="558720" cy="53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3576600" y="2093760"/>
            <a:ext cx="571680" cy="6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14480" y="2403360"/>
            <a:ext cx="5406840" cy="2495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73040" y="5205240"/>
            <a:ext cx="298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set of correspon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90800" y="490212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7160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valuation (quality) measu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873760" y="1855800"/>
                <a:ext cx="2965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P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918040" y="2984400"/>
                <a:ext cx="2664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794120" y="4684680"/>
                <a:ext cx="4291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-measure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ecision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sion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809960" y="5616720"/>
                <a:ext cx="41673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verall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call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ecisio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0" name="">
            <a:hlinkClick r:id="rId2" action="ppaction://hlinksldjump"/>
          </p:cNvPr>
          <p:cNvSpPr/>
          <p:nvPr/>
        </p:nvSpPr>
        <p:spPr>
          <a:xfrm>
            <a:off x="0" y="6489720"/>
            <a:ext cx="635040" cy="368280"/>
          </a:xfrm>
          <a:custGeom>
            <a:avLst/>
            <a:gdLst>
              <a:gd name="textAreaLeft" fmla="*/ 23760 w 635040"/>
              <a:gd name="textAreaRight" fmla="*/ 611280 w 6350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37230" h="21600">
                <a:moveTo>
                  <a:pt x="0" y="0"/>
                </a:moveTo>
                <a:lnTo>
                  <a:pt x="37230" y="0"/>
                </a:lnTo>
                <a:lnTo>
                  <a:pt x="37230" y="21600"/>
                </a:lnTo>
                <a:lnTo>
                  <a:pt x="0" y="21600"/>
                </a:lnTo>
                <a:close/>
              </a:path>
              <a:path fill="lightenLess" w="37230" h="21600">
                <a:moveTo>
                  <a:pt x="0" y="0"/>
                </a:moveTo>
                <a:lnTo>
                  <a:pt x="37230" y="0"/>
                </a:lnTo>
                <a:lnTo>
                  <a:pt x="35830" y="1400"/>
                </a:lnTo>
                <a:lnTo>
                  <a:pt x="1400" y="1400"/>
                </a:lnTo>
                <a:close/>
              </a:path>
              <a:path fill="darken" w="37230" h="21600">
                <a:moveTo>
                  <a:pt x="37230" y="0"/>
                </a:moveTo>
                <a:lnTo>
                  <a:pt x="37230" y="21600"/>
                </a:lnTo>
                <a:lnTo>
                  <a:pt x="35830" y="20200"/>
                </a:lnTo>
                <a:lnTo>
                  <a:pt x="35830" y="1400"/>
                </a:lnTo>
                <a:close/>
              </a:path>
              <a:path fill="darkenLess" w="37230" h="21600">
                <a:moveTo>
                  <a:pt x="37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30" y="20200"/>
                </a:lnTo>
                <a:close/>
              </a:path>
              <a:path fill="lighten" w="37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30" h="21600">
                <a:moveTo>
                  <a:pt x="18615" y="3837"/>
                </a:moveTo>
                <a:lnTo>
                  <a:pt x="21192" y="6448"/>
                </a:lnTo>
                <a:lnTo>
                  <a:pt x="21192" y="4707"/>
                </a:lnTo>
                <a:lnTo>
                  <a:pt x="22967" y="4707"/>
                </a:lnTo>
                <a:lnTo>
                  <a:pt x="22967" y="8224"/>
                </a:lnTo>
                <a:lnTo>
                  <a:pt x="25578" y="10800"/>
                </a:lnTo>
                <a:lnTo>
                  <a:pt x="23924" y="10800"/>
                </a:lnTo>
                <a:lnTo>
                  <a:pt x="23924" y="17989"/>
                </a:lnTo>
                <a:lnTo>
                  <a:pt x="13306" y="17989"/>
                </a:lnTo>
                <a:lnTo>
                  <a:pt x="13306" y="10800"/>
                </a:lnTo>
                <a:lnTo>
                  <a:pt x="11652" y="10800"/>
                </a:lnTo>
                <a:close/>
              </a:path>
              <a:path fill="darkenLess" w="37230" h="21600">
                <a:moveTo>
                  <a:pt x="21192" y="6448"/>
                </a:moveTo>
                <a:lnTo>
                  <a:pt x="21192" y="4707"/>
                </a:lnTo>
                <a:lnTo>
                  <a:pt x="22967" y="4707"/>
                </a:lnTo>
                <a:lnTo>
                  <a:pt x="22967" y="8224"/>
                </a:lnTo>
                <a:close/>
              </a:path>
              <a:path fill="darkenLess" w="37230" h="21600">
                <a:moveTo>
                  <a:pt x="17693" y="14299"/>
                </a:moveTo>
                <a:lnTo>
                  <a:pt x="19538" y="14299"/>
                </a:lnTo>
                <a:lnTo>
                  <a:pt x="19538" y="17989"/>
                </a:lnTo>
                <a:lnTo>
                  <a:pt x="23924" y="17989"/>
                </a:lnTo>
                <a:lnTo>
                  <a:pt x="23924" y="10800"/>
                </a:lnTo>
                <a:lnTo>
                  <a:pt x="13306" y="10800"/>
                </a:lnTo>
                <a:lnTo>
                  <a:pt x="13306" y="17989"/>
                </a:lnTo>
                <a:lnTo>
                  <a:pt x="17693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5099-5E88-4409-829E-FBB641B346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est cases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041480" y="1677960"/>
          <a:ext cx="8001000" cy="3667320"/>
        </p:xfrm>
        <a:graphic>
          <a:graphicData uri="http://schemas.openxmlformats.org/drawingml/2006/table">
            <a:tbl>
              <a:tblPr/>
              <a:tblGrid>
                <a:gridCol w="322200"/>
                <a:gridCol w="3220920"/>
                <a:gridCol w="1181160"/>
                <a:gridCol w="1325520"/>
                <a:gridCol w="19512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tching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#n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x dep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#labels per t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s vs Eur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sch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hoo Finance vs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ll vs Washing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/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/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DX vs Ex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/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/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vs Looksm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/1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/17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vs Yaho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1/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/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hoo vs Looksm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/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/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onclass vs 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/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8/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DD33-F9FF-4EF0-9393-84C05CE4EB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Matching system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06440" y="1587600"/>
            <a:ext cx="81532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-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A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milarity Flooding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as implemented in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AEI-2005 and OAEI-2006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were used in default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: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IV 1,7Ghz; 512Mb. RAM; Win 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2D7C-7C96-4EEA-B06C-D0C459419DD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49160" y="1206360"/>
            <a:ext cx="7785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Part I: The matching problem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Part II: State of the art in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ontology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Part III: Schema-based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rt IV: Evaluation (technology showcase)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77777"/>
                </a:solidFill>
                <a:latin typeface="Arial"/>
              </a:rPr>
              <a:t>Evaluation setup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Evaluation result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art V: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Conclus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85AB-9DD2-4B67-8BBE-851863A2B1E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1359000"/>
            <a:ext cx="9144000" cy="549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perimental results, test case #4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5360" y="3556080"/>
            <a:ext cx="125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22440" y="1731960"/>
            <a:ext cx="7897680" cy="451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B2CE-D43B-4D56-8011-CB642F05C5D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1359000"/>
            <a:ext cx="9144000" cy="549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perimental results, test case #5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360" y="3556080"/>
            <a:ext cx="125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22280" y="1832040"/>
            <a:ext cx="8273880" cy="41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E615-E95C-49E5-B216-EE961DE9E5D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371240" y="495360"/>
            <a:ext cx="716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perimental results, #3,6,7,8: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fficiency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4687920" y="1494000"/>
            <a:ext cx="4456080" cy="2419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495360" y="3556080"/>
            <a:ext cx="125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0" y="1469880"/>
            <a:ext cx="4495680" cy="24386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"/>
          <a:stretch/>
        </p:blipFill>
        <p:spPr>
          <a:xfrm>
            <a:off x="0" y="4056120"/>
            <a:ext cx="4767120" cy="25099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4"/>
          <a:stretch/>
        </p:blipFill>
        <p:spPr>
          <a:xfrm>
            <a:off x="4673520" y="4087800"/>
            <a:ext cx="4432320" cy="24750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295280" y="1397160"/>
            <a:ext cx="2133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hoo-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49760" y="1422360"/>
            <a:ext cx="331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smart -Yah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257480" y="3962520"/>
            <a:ext cx="2133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gle-Yah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6400" y="4025880"/>
            <a:ext cx="341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gle-Looksm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6217-9E5E-43E4-8442-949F5FE263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71240" y="482400"/>
            <a:ext cx="71629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perimental results, #6,7,8: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incompletenes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76320" y="1803240"/>
            <a:ext cx="8978760" cy="4265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495360" y="3556080"/>
            <a:ext cx="125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2" action="ppaction://hlinksldjump"/>
          </p:cNvPr>
          <p:cNvSpPr/>
          <p:nvPr/>
        </p:nvSpPr>
        <p:spPr>
          <a:xfrm>
            <a:off x="7696080" y="641520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AEI-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44E7-2F67-472B-8293-20362E1F2C5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71240" y="507600"/>
            <a:ext cx="716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perimental results, #6,7,8: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incompleteness (OAEI-2006 comparison)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95360" y="3556080"/>
            <a:ext cx="125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139680" y="1692360"/>
            <a:ext cx="8852040" cy="466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081D-06F5-47FC-BE8E-63C97B281E2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Preliminary results, test case #9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6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5360" y="3556080"/>
            <a:ext cx="125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1498680" y="1639800"/>
          <a:ext cx="6881760" cy="1100160"/>
        </p:xfrm>
        <a:graphic>
          <a:graphicData uri="http://schemas.openxmlformats.org/drawingml/2006/table">
            <a:tbl>
              <a:tblPr/>
              <a:tblGrid>
                <a:gridCol w="2095560"/>
                <a:gridCol w="1676160"/>
                <a:gridCol w="1397160"/>
                <a:gridCol w="171288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ecision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call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-measure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ive S-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"/>
          <p:cNvSpPr/>
          <p:nvPr/>
        </p:nvSpPr>
        <p:spPr>
          <a:xfrm>
            <a:off x="584280" y="2806560"/>
            <a:ext cx="81532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The dataset is hard and chal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Why do we have such a low reca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Gloss-like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11280" y="4737240"/>
            <a:ext cx="735336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ia: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orie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wel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conclass: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, world as celestial body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 types; minerals and metals; soil type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 type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us and semiprecious stone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us and semiprecious stones (with NAME)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us and semiprecious stones: emera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023A-9245-4A1F-8FCC-5A6200DD5DA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ample: two XML schema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33520" y="1770120"/>
            <a:ext cx="6723000" cy="36972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2908440" y="1905120"/>
            <a:ext cx="4228920" cy="3441600"/>
            <a:chOff x="2908440" y="1905120"/>
            <a:chExt cx="4228920" cy="3441600"/>
          </a:xfrm>
        </p:grpSpPr>
        <p:sp>
          <p:nvSpPr>
            <p:cNvPr id="121" name=""/>
            <p:cNvSpPr/>
            <p:nvPr/>
          </p:nvSpPr>
          <p:spPr>
            <a:xfrm>
              <a:off x="2959200" y="1905120"/>
              <a:ext cx="361944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89600" y="2171880"/>
              <a:ext cx="304776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8440" y="5105520"/>
              <a:ext cx="3809880" cy="24120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87800" y="4838760"/>
              <a:ext cx="3289320" cy="22860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84400" y="4559400"/>
              <a:ext cx="364500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24360" y="2426040"/>
              <a:ext cx="23367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64040" y="4077000"/>
              <a:ext cx="1587600" cy="126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064040" y="3733560"/>
              <a:ext cx="1434960" cy="26676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12800" y="5867280"/>
            <a:ext cx="6515280" cy="393840"/>
            <a:chOff x="1612800" y="5867280"/>
            <a:chExt cx="6515280" cy="393840"/>
          </a:xfrm>
        </p:grpSpPr>
        <p:sp>
          <p:nvSpPr>
            <p:cNvPr id="130" name=""/>
            <p:cNvSpPr/>
            <p:nvPr/>
          </p:nvSpPr>
          <p:spPr>
            <a:xfrm>
              <a:off x="1612800" y="6083280"/>
              <a:ext cx="55908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949200" y="6083280"/>
              <a:ext cx="546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45120" y="6083280"/>
              <a:ext cx="5716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4480" y="5892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ival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58802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80160" y="58672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joint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FB06-25C8-4312-A1A6-2DBBCB8A14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49160" y="1231920"/>
            <a:ext cx="7785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Thesis contribut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Part I: The matching problem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Part II: State of the art in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ontology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Part III: Schema-based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Part IV: Evaluation 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(technology showcase)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rt V: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Conclus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9E9F-BD93-46C2-ABA1-D5D8F3194D6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9880" y="1599840"/>
            <a:ext cx="74552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Ontology matching applications and their  requirement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Overview of the state of the art, including classification of matching techniques and system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emantic matching approach, including algorithms for basic, efficient and iterative semantic matching 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Evaluation of the approach on various data sets with encouraging result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3360-219A-4EC0-9EE7-0E68104267A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635040" y="1599840"/>
            <a:ext cx="7772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01"/>
              </a:spcBef>
              <a:buClr>
                <a:srgbClr val="008484"/>
              </a:buClr>
              <a:buSzPct val="140000"/>
              <a:buFont typeface="Arial"/>
              <a:buChar char="•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Automated reasoning techniques (e.g.,  SAT) provide good performance for industrial-strength matching task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8484"/>
              </a:buClr>
              <a:buSzPct val="140000"/>
              <a:buFont typeface="Arial"/>
              <a:buChar char="•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The issue is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not efficiency but rather missing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omain knowledge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396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his problem on the industrial size matching  tasks is very hard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72396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have investigated it by examples of light weight ontologies, such as Google and Yahoo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72396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Partial solution 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by applying semantic matching iteratively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ummary (cont’d)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F4EC-FA4B-4E03-9C14-209A75F9DC2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Future challenge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53720" y="1599840"/>
            <a:ext cx="74804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Missing background knowledge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eractive approach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Explanations of matching result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ocial and collaborative ontology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Large-scale evalua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frastructur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1917-CB15-409A-886E-7E9D40384CF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uture challenges: scalability of visualization 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546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DB5E-C5A9-4BA1-84E7-F0D68452A23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240" y="8762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Reference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5360" y="1358640"/>
            <a:ext cx="8394480" cy="50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Project website - KNOWDIVE: 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ww.dit.unitn.it/~knowdive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/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Ontology Matching website: 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www.OntologyMatching.org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F. Giunchiglia, M. Yatskevich, P. Shvaiko: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Semantic matching: algorithms and implementation</a:t>
            </a: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. Journal on Data Semantics, IX, 2007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F. Giunchiglia, P. Shvaiko, M. Yatskevich: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Discovering missing background knowledge in ontology matching</a:t>
            </a: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.  In Proceedings of </a:t>
            </a:r>
            <a:r>
              <a:rPr b="1" i="1" lang="en-GB" sz="1600" spc="-1" strike="noStrike">
                <a:solidFill>
                  <a:srgbClr val="008484"/>
                </a:solidFill>
                <a:latin typeface="Arial"/>
              </a:rPr>
              <a:t>ECAI'06.</a:t>
            </a: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P. Shvaiko and J. Euzenat: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A survey of schema-based matching approaches</a:t>
            </a: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. Journal on Data Semantics, IV, 2005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P. Shvaiko, J. Euzenat, N. Noy, H. Stuckenschmidt, R. Benjamins, M. Uschold. Proceedings of the ISWC International Workshop on Ontology Matching, 2006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P. Avesani, F. Giunchiglia, M. Yatskevich: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A large scale taxonomy mapping evaluation</a:t>
            </a: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In Proceedings of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ISWC'05</a:t>
            </a: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B. Magnini, M. Speranza, C. Girardi.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A semantic-based approach to interoperability of classification hierarchies: Evaluation of linguistic techniqu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 In Proceedings of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COLING'04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P. Bouquet, L. Serafini, S. Zanobini: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Semantic coordination: a new approach and an application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 In Proceedings of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ISWC'03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C. Ghidini, F. Giunchiglia: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Local models semantics, or contextual reasoning = locality + compatibility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 Artificial Intelligence Journal, 127(3), 2001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7C7F-865D-453B-A7D4-651F6886A9F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1104840"/>
            <a:ext cx="91440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ntology Matching @ ISWC’07+ASWC’07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http://om2007.OntologyMatching.or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3633840" y="2489040"/>
            <a:ext cx="2217600" cy="48132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-12600" y="3349800"/>
            <a:ext cx="91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ntology Alignment Evaluation Initiative OAEI–2007 campa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http://oaei.OntologyMatching.org/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359000" y="6413400"/>
            <a:ext cx="714996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3879720" y="4930920"/>
            <a:ext cx="1951200" cy="192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7911-AC0F-465B-9735-AF309F70899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371600" y="6451560"/>
            <a:ext cx="713736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2844720" y="0"/>
            <a:ext cx="4559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C01F-39CA-45D6-BF2A-8A75F6DB4A1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1359000" y="1917720"/>
            <a:ext cx="77356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Thank you 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or your attention and interest!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4F19-BC96-4DF0-8209-DA84B6B268D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ample: two ontologies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14560" y="1689120"/>
            <a:ext cx="5648400" cy="40622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612800" y="5867280"/>
            <a:ext cx="6515280" cy="393840"/>
            <a:chOff x="1612800" y="5867280"/>
            <a:chExt cx="6515280" cy="393840"/>
          </a:xfrm>
        </p:grpSpPr>
        <p:sp>
          <p:nvSpPr>
            <p:cNvPr id="139" name=""/>
            <p:cNvSpPr/>
            <p:nvPr/>
          </p:nvSpPr>
          <p:spPr>
            <a:xfrm>
              <a:off x="1612800" y="6083280"/>
              <a:ext cx="55908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949200" y="6083280"/>
              <a:ext cx="546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45120" y="6083280"/>
              <a:ext cx="5716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84480" y="5892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ival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58802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80160" y="58672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joint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895480" y="1917720"/>
            <a:ext cx="3861000" cy="3619080"/>
            <a:chOff x="2895480" y="1917720"/>
            <a:chExt cx="3861000" cy="3619080"/>
          </a:xfrm>
        </p:grpSpPr>
        <p:sp>
          <p:nvSpPr>
            <p:cNvPr id="146" name=""/>
            <p:cNvSpPr/>
            <p:nvPr/>
          </p:nvSpPr>
          <p:spPr>
            <a:xfrm>
              <a:off x="3187800" y="3479760"/>
              <a:ext cx="331452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2336760"/>
              <a:ext cx="379728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01920" y="1917720"/>
              <a:ext cx="29718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606840" y="4571640"/>
              <a:ext cx="2476440" cy="96516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060720"/>
              <a:ext cx="386100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67080" y="2108160"/>
              <a:ext cx="93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year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22560" y="2692440"/>
              <a:ext cx="3568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0D7F-6273-49DB-9BA8-F33BB3DD90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tatement of the problem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3600" y="1638360"/>
            <a:ext cx="7823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2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8484"/>
                </a:solidFill>
                <a:latin typeface="Arial"/>
              </a:rPr>
              <a:t>Reducing heterogeneity can be performed in two steps:</a:t>
            </a:r>
            <a:endParaRPr b="1" lang="en-US" sz="2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99"/>
                </a:solidFill>
                <a:latin typeface="Arial"/>
              </a:rPr>
              <a:t>Match, thereby determine the alignment</a:t>
            </a:r>
            <a:endParaRPr b="0" lang="en-US" sz="2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8484"/>
                </a:solidFill>
                <a:latin typeface="Arial"/>
              </a:rPr>
              <a:t>Process the alignment (merge, transform, translate...)</a:t>
            </a:r>
            <a:endParaRPr b="0" lang="en-US" sz="2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0F59-CD5F-47E1-B215-A75E9FF7CC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tatement of the problem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3600" y="1574280"/>
            <a:ext cx="782316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rrespondence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s a 5-tupl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0099"/>
                </a:solidFill>
                <a:latin typeface="Arial"/>
              </a:rPr>
              <a:t>&lt;id, e1, e2, R, n&gt;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is a unique identifier of the given correspondence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Arial"/>
              </a:rPr>
              <a:t>e1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it-IT" sz="2400" spc="-1" strike="noStrike">
                <a:solidFill>
                  <a:srgbClr val="000099"/>
                </a:solidFill>
                <a:latin typeface="Arial"/>
              </a:rPr>
              <a:t>e2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are entities (XML elements, classes,...)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is a relation (equivalence, more general, disjointness,...)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is a confidence measure, typically in the [0,1] range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6560" y="5037120"/>
            <a:ext cx="78231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ignment (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is a set of correspondences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with some cardinality: 1-1, 1-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ome other properties (compl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5FE4-E0C1-4D92-8E2C-A4DCC3CE5C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tatement of the problem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573200" y="3848040"/>
            <a:ext cx="3119400" cy="431640"/>
            <a:chOff x="1573200" y="3848040"/>
            <a:chExt cx="3119400" cy="431640"/>
          </a:xfrm>
        </p:grpSpPr>
        <p:sp>
          <p:nvSpPr>
            <p:cNvPr id="160" name=""/>
            <p:cNvSpPr/>
            <p:nvPr/>
          </p:nvSpPr>
          <p:spPr>
            <a:xfrm>
              <a:off x="1573200" y="3848040"/>
              <a:ext cx="2016000" cy="431640"/>
            </a:xfrm>
            <a:prstGeom prst="ellipse">
              <a:avLst/>
            </a:prstGeom>
            <a:solidFill>
              <a:srgbClr val="ffffff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ignment  </a:t>
              </a: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9720" y="4064040"/>
              <a:ext cx="10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387680" y="2419200"/>
            <a:ext cx="2441520" cy="854280"/>
            <a:chOff x="4387680" y="2419200"/>
            <a:chExt cx="2441520" cy="854280"/>
          </a:xfrm>
        </p:grpSpPr>
        <p:sp>
          <p:nvSpPr>
            <p:cNvPr id="163" name=""/>
            <p:cNvSpPr/>
            <p:nvPr/>
          </p:nvSpPr>
          <p:spPr>
            <a:xfrm>
              <a:off x="4387680" y="2419200"/>
              <a:ext cx="2441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8484"/>
                  </a:solidFill>
                  <a:latin typeface="Arial"/>
                </a:rPr>
                <a:t>p</a:t>
              </a:r>
              <a:r>
                <a:rPr b="1" i="1" lang="en-US" sz="2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weights, .. 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45000" y="290196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429080" y="4857840"/>
            <a:ext cx="2232000" cy="857520"/>
            <a:chOff x="4429080" y="4857840"/>
            <a:chExt cx="2232000" cy="857520"/>
          </a:xfrm>
        </p:grpSpPr>
        <p:sp>
          <p:nvSpPr>
            <p:cNvPr id="166" name=""/>
            <p:cNvSpPr/>
            <p:nvPr/>
          </p:nvSpPr>
          <p:spPr>
            <a:xfrm>
              <a:off x="4429080" y="5286240"/>
              <a:ext cx="22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8484"/>
                  </a:solidFill>
                  <a:latin typeface="Arial"/>
                </a:rPr>
                <a:t>r</a:t>
              </a:r>
              <a:r>
                <a:rPr b="1" i="1" lang="en-US" sz="2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WordNet, …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454720" y="485784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683240" y="3333600"/>
            <a:ext cx="1523880" cy="1448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613320" y="3032280"/>
            <a:ext cx="1050840" cy="1973880"/>
            <a:chOff x="3613320" y="3032280"/>
            <a:chExt cx="1050840" cy="1973880"/>
          </a:xfrm>
        </p:grpSpPr>
        <p:sp>
          <p:nvSpPr>
            <p:cNvPr id="170" name=""/>
            <p:cNvSpPr/>
            <p:nvPr/>
          </p:nvSpPr>
          <p:spPr>
            <a:xfrm>
              <a:off x="3613320" y="3032280"/>
              <a:ext cx="105084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635280" y="4263480"/>
              <a:ext cx="1028520" cy="74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13600" y="3835440"/>
            <a:ext cx="2737800" cy="431640"/>
            <a:chOff x="6213600" y="3835440"/>
            <a:chExt cx="2737800" cy="431640"/>
          </a:xfrm>
        </p:grpSpPr>
        <p:sp>
          <p:nvSpPr>
            <p:cNvPr id="173" name=""/>
            <p:cNvSpPr/>
            <p:nvPr/>
          </p:nvSpPr>
          <p:spPr>
            <a:xfrm>
              <a:off x="6935760" y="3835440"/>
              <a:ext cx="2015640" cy="431640"/>
            </a:xfrm>
            <a:prstGeom prst="ellipse">
              <a:avLst/>
            </a:prstGeom>
            <a:solidFill>
              <a:srgbClr val="ffffff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ignment  </a:t>
              </a: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13600" y="4051080"/>
              <a:ext cx="7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471680" y="2771640"/>
            <a:ext cx="2168280" cy="2502000"/>
            <a:chOff x="1471680" y="2771640"/>
            <a:chExt cx="2168280" cy="2502000"/>
          </a:xfrm>
        </p:grpSpPr>
        <p:sp>
          <p:nvSpPr>
            <p:cNvPr id="176" name=""/>
            <p:cNvSpPr/>
            <p:nvPr/>
          </p:nvSpPr>
          <p:spPr>
            <a:xfrm>
              <a:off x="1471680" y="2771640"/>
              <a:ext cx="2130120" cy="558720"/>
            </a:xfrm>
            <a:prstGeom prst="ellipse">
              <a:avLst/>
            </a:prstGeom>
            <a:solidFill>
              <a:srgbClr val="ffffff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ntology  </a:t>
              </a:r>
              <a:r>
                <a:rPr b="1" i="1" lang="en-US" sz="2200" spc="-1" strike="noStrike">
                  <a:solidFill>
                    <a:srgbClr val="000099"/>
                  </a:solidFill>
                  <a:latin typeface="Arial"/>
                </a:rPr>
                <a:t>O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09480" y="4714920"/>
              <a:ext cx="2130480" cy="558720"/>
            </a:xfrm>
            <a:prstGeom prst="ellipse">
              <a:avLst/>
            </a:prstGeom>
            <a:solidFill>
              <a:srgbClr val="ffffff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ntology  </a:t>
              </a:r>
              <a:r>
                <a:rPr b="1" i="1" lang="en-US" sz="2200" spc="-1" strike="noStrike">
                  <a:solidFill>
                    <a:srgbClr val="000099"/>
                  </a:solidFill>
                  <a:latin typeface="Arial"/>
                </a:rPr>
                <a:t>O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3600" y="1574640"/>
            <a:ext cx="78231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tching proces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9338-44D8-4243-A627-B89C486C58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Pavel Shvaiko</dc:creator>
  <dc:description/>
  <dc:language>en-US</dc:language>
  <cp:lastModifiedBy>server</cp:lastModifiedBy>
  <dcterms:modified xsi:type="dcterms:W3CDTF">2007-05-31T06:54:30Z</dcterms:modified>
  <cp:revision>1325</cp:revision>
  <dc:subject/>
  <dc:title>S-Match ESTC'07</dc:title>
</cp:coreProperties>
</file>