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17"/>
          </p:nvPr>
        </p:nvSpPr>
        <p:spPr>
          <a:xfrm>
            <a:off x="388728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18"/>
          </p:nvPr>
        </p:nvSpPr>
        <p:spPr>
          <a:xfrm>
            <a:off x="-36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19"/>
          </p:nvPr>
        </p:nvSpPr>
        <p:spPr>
          <a:xfrm>
            <a:off x="388728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188B03-326E-4D54-B46E-A790EA0805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30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6272E7-C861-4F68-B6A5-3C8330A182D0}" type="slidenum">
              <a:rPr b="0" lang="it-IT" sz="1200" spc="-1" strike="noStrike">
                <a:solidFill>
                  <a:srgbClr val="00848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30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82F499-CA8D-465B-85CA-B633531B25C3}" type="slidenum">
              <a:rPr b="0" lang="it-IT" sz="1200" spc="-1" strike="noStrike">
                <a:solidFill>
                  <a:srgbClr val="00848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30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B1170B-B403-4EA2-82F7-8369D67B0D3D}" type="slidenum">
              <a:rPr b="0" lang="it-IT" sz="1200" spc="-1" strike="noStrike">
                <a:solidFill>
                  <a:srgbClr val="00848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3EE2-EDD7-429F-A6D4-5C1742D69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283C-786E-40E4-B18D-03BABCFC5D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23131-183F-4274-A739-19324C317C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8EA79-3D6A-4FEF-A258-372EAC6BA2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131B2-A75E-469E-9D03-29D02F71CF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753E3-1C20-460E-BBBC-9EBE562762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B68B-FF9C-45CB-B4AF-7237C5D824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96FCD-8AA0-4FB1-BAD4-F5054D6EE5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04D67-14A5-4767-B75E-63886E2F97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9E10D-B6B7-445A-929E-756FDE53B8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093D2-4893-4F3A-9BFC-AD9129C950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78DC-9AFF-4B40-A49F-929987D26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92CA-0AA8-49BA-9311-30570C4140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888F-AD73-4126-BB6F-0952618E8F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9BB0-5F97-42CE-9326-3DB10C03FD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2158-16BB-4B46-AD4F-B6D2E4ECF9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1E7D-5D21-4373-9118-68DCAB133D3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3CDB-EB7D-4DD4-BD41-09E5712A10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D6A6-8C6B-405A-B25B-2397A9BA34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C352-759B-4140-B96C-33F8DDDA8A8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F755-F44F-40BD-96B1-978B703CEF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A93D-443B-4E09-8693-A504A920B3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B9DB-6355-47E4-BA21-F785E0380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7C7C-0075-4551-AF39-5CEDAB4CF56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A5AA-3E9C-4B69-9D10-DB591882A2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C100F-D80B-4AAA-92B8-C70361E88C8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142A8-5A31-4EAB-BDF4-6D4DB9E31A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C330C-9977-4401-8947-DBAD64C39D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CDEAA-804A-4C3D-B99C-29796BA3ECC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B53A6-8283-4728-951C-57550C8B92A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5D470-89C2-4714-9165-70E711D7BF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8FF40-D8C5-45AB-8964-A6E9FAA1A7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5B58E-B1D8-48E8-BF28-010BA67D02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69C41-1549-426C-9354-A07DB98D1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06392-8646-4FA0-BFD1-8D1544D7C2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F9A87-5165-4FBA-93CD-A4E65A9810A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4A63D-C82F-4804-84B3-63C1508E9D6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50A07-102A-47FD-81B5-70E18E6C6C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42225-7FEB-4525-84D3-0F60CF0FBB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FA690-EAEF-47C3-AA84-182214879A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9D4A8-161B-4AE0-A97F-39C1BA3F89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EAC3A-8407-4B73-AF6F-0B8611DF8C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B0B53-11AC-48A9-8387-7AFAC62961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1FD82-7A26-4E89-A141-8FE8EE408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E4350-224D-4ADA-BBCE-92475060CC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C2A83-ED95-4F6D-A009-263E0CA1285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1E060-A3BD-4BC8-9199-6173AE3F37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3C786-2E17-4BD8-91CF-35251F3D32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8B5FE-F6A8-4AE9-A11A-8FD88DC455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7754-A9FB-4867-9E0A-048FD09C048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2AF0-81D7-45BC-B9AE-BE0D1C8056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29CC-85BB-4FBC-9C9C-98850EEF75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BC6D-E079-45EE-BDF8-D03247AAEE0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43B8-D6F2-4953-B674-29DDC995EE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DE9F-C74E-4D5A-8EF3-71E6833559F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8A9F-3E43-46BF-A564-F9C07A7EA1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D60E-12AC-4C75-ACF5-B0F151FC44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C144-5871-410E-A2EE-EA3A139CDE6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FF95-2F23-4CF3-A967-26B7E2FFD4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82AA-B00D-4D1A-9C3D-36422550D8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28F8-B5EC-450B-A61F-9B7A817EA58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5002E-9750-48BF-9C6C-B1ED1CD458C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F00D2-ECE3-413F-A457-F56013300B7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BBA3E-A94D-4A05-9810-4D733A7FF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69C84-ABE6-4DB3-AADB-C7B48E0E97B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57389-6AA2-4DE3-8915-8A0A203C12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E3DB8-C279-4976-B56A-47C3E1804B2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D9602B-676C-4BC3-82D2-2A1A2024AC1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63CCC-BD73-4DFB-98F4-B7F95AF645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27561-6748-48F6-82E9-6A6D895D33D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DEED4-8592-4D88-870E-7B71FED2BD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744C67-20FB-49CB-9C31-19895EB7F1D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B1C56-E994-4F16-8326-E66031F35F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70645-3D07-46E1-84DA-D2D032E7CD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F1790-67C6-49BD-9B26-62F0059DEBC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467E9-B41E-4369-9A03-DB412E13AA7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06164-D493-4B67-890F-804470EA975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08EF7-DB29-4382-B00C-E1224E383C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03A2F-C6AA-484D-8B11-6E9662B0A31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C324C-46CA-4564-B0BE-D3C1EAAB4DE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FCD32-760F-4217-8797-CA2B982C06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568B2-2982-46D0-98A3-A6B84CCC59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4A9DA-7CFE-4E57-9D96-748ABB457E2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768F9-46E9-4BDE-83F4-EA18EFA9C8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D813B-FA05-48E8-AADE-FD523DAB651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9A63-4468-49C1-8A82-A76F5EE022B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1083-E0B1-4CC0-8C49-85CCD141F1B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64EA-9B03-4D28-B101-E5D6DA48BE6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7CB5-8582-40FE-96E2-FC9AADDB008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2F14-59BE-4AA1-A502-471632DC154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0671-B56D-4A42-AD72-0E96620D03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4B4F-DC9E-46FA-ACFC-A363E080A12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1F21-B398-4062-AF22-23965598493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F95D-FF8B-4BD3-BA37-D22ECC4D27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0C92-8342-46F8-81D7-A2E8991F25D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4922-DB9C-4DD6-A71A-7A592F8F77D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FAD8-AA0E-4B60-BCB6-9FA34460FC8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F6234-33AA-4987-8A82-DA19C1D4633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76F65-2CB8-4F79-9C7F-371B0C223C4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90D5F-92F7-4F77-A5CC-BB01992EF81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75BC8-1F1A-478E-8DEC-0E32179A5D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DB92B-AD95-4695-AD17-605190473D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B85CF-AAC9-474C-9907-FAB74699786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C0D01-06FD-4370-BAF9-770B96155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A5C-2D7B-4ED2-A070-24C068166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2C0AD1-4EFF-49E0-9DDD-52FEACA85CF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632E7-043B-48C4-B242-ECAC141CE0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F0E75-6876-40CB-AF2B-A23C1CA61B3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B298B4-C292-40AE-897B-56A173088FC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1BE23-A870-493F-A4F6-148FC3374A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F9E9-5DC6-4564-A335-F971929A54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9ED3-A0EA-4130-942B-4FB124073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117C-CBDF-41B2-B053-E8762BCE9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058E-3D57-4A01-8EDD-A8DCC5FE1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9E1C-470F-4DE3-9CB2-15482FAC0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7628-4468-494C-BE85-3A22E87D13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ECED-E632-40A5-9FA4-41860A1D59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6CC4-75FE-46FD-AA26-E8D667DC10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B49C-31CE-45F7-9355-963120E3C2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9DC7-CB40-4D9B-8307-EFCCFF4F70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20F5-EF52-4DD3-AB81-96DE834B37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6230-9881-4C55-9898-6B393BDD47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2059-4B89-41BD-94B7-722D5AE898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105-02AD-4A45-9538-442E518C33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D8B-7896-492B-AC6E-1C8727B77F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E8C-F37E-45C2-99BC-6389D01B9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119E-C161-48E7-8582-2B3C064C1D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E68-7747-4CB4-B8E6-53EDAB9D49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31E-7A18-4CEF-8CAE-D7B6950097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113-D03E-4742-8E91-778BE84F71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20E-277D-47D9-8768-C5E17CBD54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262-DE17-4E16-A449-DF7A2547CF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34F-22B6-4955-B156-8DF67826D7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218-C770-4DD5-B84D-0880D616B9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069-331A-4208-A4A1-26EEEEABC6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B83-E630-4B36-B486-07E8A105F7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4BC1-72BD-4471-9E60-57B32EEDE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0273-B360-429F-B2E8-239C18D1BE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F4418-6873-4A2B-8249-2ECC39AD2C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1526A-051C-4180-943D-A8D9AD6FC4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1D8DE-D1AF-45C1-A801-4649C02700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4FBBF-67F1-4B8B-A704-2C8E6E2732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C9740-B97C-4ECA-A67E-C9D2A887C6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0628E-80EA-4923-A081-F06A57850C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F9F07-CA0C-46CC-B1A4-EBCF34A5032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976AA-A356-48DE-B46B-8418C1641A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6CBFB-E241-41DF-9443-DD1E3394A4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E3227-16B5-4A31-8EE5-909787CBA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B989-469E-4328-8529-8E195A2AF8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2FBCE-C345-4830-8EF7-5466678312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A80C9-8DC5-4EE3-9372-CA53C36B8E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109F4-2FFB-4535-9ABB-2C5B8FA6C1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38797-91E8-49D5-81C8-B0B7F65A7C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0809-9F10-4497-B3D8-3092D8B420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8A7B2-1BDB-4F42-8891-4D60590617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3D7B-8364-4629-8712-97DADDDE8F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98C4-6F42-41FE-992E-B0382E509C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50AF-A618-43FB-9E5F-BFFC664FD0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11A1F-4A6F-44F3-8FA9-1DA2644CF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8F0D-356B-48E0-BBC6-F5A1191C03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A602F-8E11-4DF8-9889-8147C7120E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D232-6714-4DE9-8876-C727B3DFC3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F03BD-1EA5-477E-9BC7-C025CA5C2E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DC0-884E-4B89-9B36-D81FBB2065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3063-8F53-403A-A62C-6B5636018B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2A0-B207-4A95-9C3E-0242E83B50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D0B5-B76E-49C1-9FDE-63EF4BD509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DDE-32EB-4919-B1DB-D2494E623D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025B-3061-4292-BE21-2C1BC6173D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A60E-0356-46D1-8A4B-DB3BAD4AF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44E9-04E7-48CB-8F7D-8E5E7B4257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CD1C-90A0-49B3-9FD1-B1F7513494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7965-57A0-4169-8886-2D09EA1918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ED6A-538F-4024-906C-644C7126A8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FB0F-B831-4842-B119-F5AF52176D3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BF26-2BA3-4211-B911-C4956E7A5C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9306D-736D-49FC-91C1-D47073441D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1FF6E-0761-4037-AEA6-AE54733810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71F84-7A83-4E12-889B-EE659A0E7AE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9D5B6-6F99-4A0F-8E69-59F898E7DC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9027D-B84A-4DB6-8116-E10CF2C20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A9BE-50CF-452B-9189-C6F95EDEE6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BB47E-10FD-46E2-BD5B-31809966A8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5C0E4-DAC4-4432-BDA8-E9179A3B0D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6D6A1-9C87-4587-9840-4BEB7939B5B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0A5B4-BB55-4CD8-868B-FD98CDF36C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BF1B-BA1A-4C47-BA65-43C5A15196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66527-C6F2-4219-B634-59746D9865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B3D8B-D059-4669-AA98-74AC4BF3C0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EE772-E047-461F-A6C7-F56E96D631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63D50-5FC3-4514-9B2C-CF44F8ECFE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7E396-DC43-4DFE-9008-49D8893CC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3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4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6F0-6429-4E02-BF89-5D248046BC20}" type="slidenum"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460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462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463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6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7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8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9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0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Num" idx="9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5BC-C9EC-454C-8E08-DB0EEC540E1C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511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513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514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7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8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9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0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1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2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ldNum" idx="10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988-6C68-4A00-920A-610AE4D2A995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562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563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564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565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8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3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Num" idx="1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33D-882F-427A-80A8-2CC5097E07A9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613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615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16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0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1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2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3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4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ldNum" idx="12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640-8A86-4D32-81EA-3933B5B74EF2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664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666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667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0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1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2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3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4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5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ldNum" idx="13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B09-B68A-4493-8D5A-F4AF58E66BF9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715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717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718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1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Num" idx="14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EB5-4B07-40CF-A6FB-D508F7EE5C9C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766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767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768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769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2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3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4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5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6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7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ldNum" idx="15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9306-FD2D-492A-A769-B3F0D42B1200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817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18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819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820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3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4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5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6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7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8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ldNum" idx="16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CE83-5EA9-4585-A446-82C1ACDACB0A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0" y="360"/>
            <a:ext cx="5867280" cy="1371240"/>
            <a:chOff x="0" y="360"/>
            <a:chExt cx="5867280" cy="1371240"/>
          </a:xfrm>
        </p:grpSpPr>
        <p:sp>
          <p:nvSpPr>
            <p:cNvPr id="54" name="Rectangle 13"/>
            <p:cNvSpPr/>
            <p:nvPr/>
          </p:nvSpPr>
          <p:spPr>
            <a:xfrm rot="16200000">
              <a:off x="2380320" y="-2115000"/>
              <a:ext cx="1355760" cy="561780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 rot="16200000">
              <a:off x="-487080" y="487440"/>
              <a:ext cx="1355760" cy="38124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pic>
        <p:nvPicPr>
          <p:cNvPr id="56" name="Picture 15" descr="logo_trasparente2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6"/>
          <p:cNvGrpSpPr/>
          <p:nvPr/>
        </p:nvGrpSpPr>
        <p:grpSpPr>
          <a:xfrm>
            <a:off x="3276720" y="5486400"/>
            <a:ext cx="5867280" cy="1371240"/>
            <a:chOff x="3276720" y="5486400"/>
            <a:chExt cx="5867280" cy="1371240"/>
          </a:xfrm>
        </p:grpSpPr>
        <p:sp>
          <p:nvSpPr>
            <p:cNvPr id="58" name="Rectangle 17"/>
            <p:cNvSpPr/>
            <p:nvPr/>
          </p:nvSpPr>
          <p:spPr>
            <a:xfrm rot="5400000">
              <a:off x="5400000" y="3370320"/>
              <a:ext cx="136368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 rot="5400000">
              <a:off x="8271720" y="5977800"/>
              <a:ext cx="136368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60" name="Line 21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102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104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105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9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0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2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0212-1993-43A4-AD24-B584C5E8D1E2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154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156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157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2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3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4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5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3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AB1-FB68-474E-8EBF-33692990DC5F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05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207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08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4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BE7-622E-49C7-9D8E-283026404943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56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258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59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6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7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Num" idx="5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DE8-D772-4195-8933-6264C4EA8535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307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309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10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3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6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D84-9A65-4FCE-9AFA-30BF3A38EEC2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358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360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61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4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6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8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Num" idx="7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A8D-4859-4333-8976-F0FD96960975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13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409" name="Rectangle 11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410" name="Rectangle 12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8484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sp>
        <p:nvSpPr>
          <p:cNvPr id="411" name="Rectangle 14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412" name="Picture 18" descr="unitns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Leon-2_small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6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5" name="Text Box 32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INFINT 2007, Bertinoro Workshop on Information Integration</a:t>
            </a:r>
            <a:r>
              <a:rPr b="1" i="1" lang="en-US" sz="1500" spc="-1" strike="noStrike">
                <a:solidFill>
                  <a:srgbClr val="008484"/>
                </a:solidFill>
                <a:latin typeface="Arial"/>
              </a:rPr>
              <a:t>, Italy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6" name="Line 33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7" name="Line 34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8" name="Line 35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9" name="Line 36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0" name="Line 37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ldNum" idx="8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132-FB89-40EB-83BB-500CA7C43072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it.unitn.it/~knowdive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ontologymatching.org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"/><Relationship Id="rId5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1863360"/>
            <a:ext cx="9144000" cy="1701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BACKGROUND KNOWLEDGE </a:t>
            </a: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IN ONTOLOGY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3200400" y="3610800"/>
            <a:ext cx="6108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6" name="Text Box 17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7" name="Text Box 25"/>
          <p:cNvSpPr/>
          <p:nvPr/>
        </p:nvSpPr>
        <p:spPr>
          <a:xfrm>
            <a:off x="4254480" y="4152960"/>
            <a:ext cx="454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joint work with 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Fausto Giunchiglia and Mikalai Yatskevich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8" name="Text Box 28"/>
          <p:cNvSpPr/>
          <p:nvPr/>
        </p:nvSpPr>
        <p:spPr>
          <a:xfrm>
            <a:off x="3305160" y="5530680"/>
            <a:ext cx="5838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INFINT 2007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Bertinoro Workshop on Information Integration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October 1, Italy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879" name="Picture 18" descr="pavel"/>
          <p:cNvPicPr/>
          <p:nvPr/>
        </p:nvPicPr>
        <p:blipFill>
          <a:blip r:embed="rId1"/>
          <a:stretch/>
        </p:blipFill>
        <p:spPr>
          <a:xfrm>
            <a:off x="285840" y="3635280"/>
            <a:ext cx="961920" cy="12384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0" descr="fausto"/>
          <p:cNvPicPr/>
          <p:nvPr/>
        </p:nvPicPr>
        <p:blipFill>
          <a:blip r:embed="rId2"/>
          <a:stretch/>
        </p:blipFill>
        <p:spPr>
          <a:xfrm>
            <a:off x="1030320" y="4524480"/>
            <a:ext cx="898560" cy="1253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22" descr="mikalai"/>
          <p:cNvPicPr/>
          <p:nvPr/>
        </p:nvPicPr>
        <p:blipFill>
          <a:blip r:embed="rId3"/>
          <a:stretch/>
        </p:blipFill>
        <p:spPr>
          <a:xfrm>
            <a:off x="1758960" y="5473800"/>
            <a:ext cx="9223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079B-5379-499F-9BF8-17D3B59427E7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terative semantic matching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830160" y="1730520"/>
            <a:ext cx="77644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77840" indent="-17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peat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element level matching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tructure level matching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f the matching algorithm for som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critical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(hard) matching tasks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876240" y="3425760"/>
            <a:ext cx="7836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macro step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484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Discover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critical point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n the matching process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Generate candidate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miss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xiom(s)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-run SAT solver on a critical task taking into account the new axiom(s) 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If SAT return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, save the newly discovered axiom(s)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for future reuse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4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1EF-3D5F-49B4-9C83-DD246DCF970B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371240" y="979200"/>
            <a:ext cx="716292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AEI-2006: web directories test cas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956" name="Picture 8" descr="E:\PEOPLE\Italy\Fausto\Publications\Workshops\2007\INFINT-2007\figs\oaei06.jpg"/>
          <p:cNvPicPr/>
          <p:nvPr/>
        </p:nvPicPr>
        <p:blipFill>
          <a:blip r:embed="rId1"/>
          <a:stretch/>
        </p:blipFill>
        <p:spPr>
          <a:xfrm>
            <a:off x="193680" y="1612800"/>
            <a:ext cx="86234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Lack of background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direc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6C8-78C7-4B8B-8F1E-D9B355F18224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647640" y="21463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1" name="TextBox 5"/>
          <p:cNvSpPr/>
          <p:nvPr/>
        </p:nvSpPr>
        <p:spPr>
          <a:xfrm>
            <a:off x="647640" y="3251160"/>
            <a:ext cx="59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Lack of background knowledge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2" name="TextBox 6"/>
          <p:cNvSpPr/>
          <p:nvPr/>
        </p:nvSpPr>
        <p:spPr>
          <a:xfrm>
            <a:off x="646200" y="4343400"/>
            <a:ext cx="59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8b"/>
                </a:solidFill>
                <a:latin typeface="Arial"/>
              </a:rPr>
              <a:t>Conclusions and future direction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66CB-1B03-496E-93D6-0E7D27CA4E0D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34680" y="1599840"/>
            <a:ext cx="80773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275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he problem of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issing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main k</a:t>
            </a:r>
            <a:r>
              <a:rPr b="1" lang="en-US" sz="2400" spc="-1" strike="noStrike">
                <a:solidFill>
                  <a:srgbClr val="22228b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wledge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is a major problem of all (!) matching system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is problem on the industrial size matching  tasks is very hard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We have investigated it by examples of light weight ontologies, such as Google and Yahoo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ial solution </a:t>
            </a: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by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applying semantic matching iteratively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6B0-D7B7-451C-8893-9431B2BC78BE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Future direction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tera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New element level matcher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erac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utomizing technology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xtensiv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esting methodology 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dustry-strength task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72C-1232-4002-ABEA-3244C97719E2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360" y="1323720"/>
            <a:ext cx="839448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78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roject website - KNOWDIVE: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knowdive/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ntology Matching website: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http://www.OntologyMatching.org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F. Giunchiglia, M. Yatskevich, P. Shvaiko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Semantic matching: algorithms and implementation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Journal on Data Semantics, IX, 2007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F. Giunchiglia, P. Shvaiko, M. Yatskevich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Discovering missing background knowledge in ontology matching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 In Proceedings of </a:t>
            </a:r>
            <a:r>
              <a:rPr b="1" i="1" lang="en-GB" sz="1600" spc="-1" strike="noStrike">
                <a:solidFill>
                  <a:srgbClr val="008484"/>
                </a:solidFill>
                <a:latin typeface="Arial"/>
              </a:rPr>
              <a:t>ECAI, 2006.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. Avesani, F. Giunchiglia, M. Yatskevich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 large scale taxonomy mapping evaluation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n Proceedings of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ISWC, 2005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J. Euzenat, P. Shvaiko :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Ontology matching</a:t>
            </a:r>
            <a:r>
              <a:rPr b="1" lang="en-GB" sz="1600" spc="-1" strike="noStrike">
                <a:solidFill>
                  <a:srgbClr val="008484"/>
                </a:solidFill>
                <a:latin typeface="Arial"/>
              </a:rPr>
              <a:t>. Springer, 2007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E. Rahm, P. Bernstein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 survey of approaches to automatic schema matching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VLDB Journal,  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2001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R. Gligorov, Z. Aleksovski, W. ten Kate, F. van Harmelen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Using google distance to weight approximate ontology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In Proceedings of WWW, 2007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S. Zhang, O. Bodenreider. </a:t>
            </a: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Experience in aligning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anatomical ontologies</a:t>
            </a:r>
            <a:r>
              <a:rPr b="1" lang="fr-FR" sz="1600" spc="-1" strike="noStrike">
                <a:solidFill>
                  <a:srgbClr val="008484"/>
                </a:solidFill>
                <a:latin typeface="Arial"/>
              </a:rPr>
              <a:t>.  International Journal on Semantic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Web and Information Systems, 2007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spcBef>
                <a:spcPts val="4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J. Madhavan, P. Bernstein, A. Doan, A. Halevy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orpus-based schema matching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In Proceedings of ICDE, 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2005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-307800"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H.-H. Do and E. Rahm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OMA – a system for flexible combination of schema matching approach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In Proceedings of  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VLDB, 2002.</a:t>
            </a: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3078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5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684-FE55-4AD8-ABEC-81E30C7494BC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0" y="110484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ntology Matching @ ISWC’07+ASWC’07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http://om2007.OntologyMatching.or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975" name="Picture 16" descr="om2007"/>
          <p:cNvPicPr/>
          <p:nvPr/>
        </p:nvPicPr>
        <p:blipFill>
          <a:blip r:embed="rId1"/>
          <a:stretch/>
        </p:blipFill>
        <p:spPr>
          <a:xfrm>
            <a:off x="3633840" y="2489040"/>
            <a:ext cx="2217600" cy="48132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19"/>
          <p:cNvSpPr/>
          <p:nvPr/>
        </p:nvSpPr>
        <p:spPr>
          <a:xfrm>
            <a:off x="-12600" y="334980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ntology Alignment Evaluation Initiative OAEI–2007 campaign</a:t>
            </a:r>
            <a:endParaRPr b="0" lang="en-US" sz="3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http://oaei.OntologyMatching.org/2007</a:t>
            </a:r>
            <a:endParaRPr b="0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7" name="Rectangle 20"/>
          <p:cNvSpPr/>
          <p:nvPr/>
        </p:nvSpPr>
        <p:spPr>
          <a:xfrm>
            <a:off x="1359000" y="6413400"/>
            <a:ext cx="735804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978" name="Picture 13" descr="oaei"/>
          <p:cNvPicPr/>
          <p:nvPr/>
        </p:nvPicPr>
        <p:blipFill>
          <a:blip r:embed="rId2"/>
          <a:stretch/>
        </p:blipFill>
        <p:spPr>
          <a:xfrm>
            <a:off x="3879720" y="4930920"/>
            <a:ext cx="19512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FF4-5869-4820-B191-53833A2A858A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359000" y="1917720"/>
            <a:ext cx="77356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 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or your attention and interest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Lack of background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direc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3439-7BDC-4D6F-8EC3-0094AEDF0F34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647640" y="21463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8b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FA6-89D6-4E8D-8630-B2C2D6E3121D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atching opera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8" name="Text Box 6"/>
          <p:cNvSpPr/>
          <p:nvPr/>
        </p:nvSpPr>
        <p:spPr>
          <a:xfrm>
            <a:off x="380880" y="1879560"/>
            <a:ext cx="789948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2600">
              <a:spcBef>
                <a:spcPts val="649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2600" spc="-1" strike="noStrike">
                <a:solidFill>
                  <a:srgbClr val="008484"/>
                </a:solidFill>
                <a:latin typeface="Arial"/>
              </a:rPr>
              <a:t> operation takes as input</a:t>
            </a:r>
            <a:r>
              <a:rPr b="0" lang="en-US" sz="2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484"/>
                </a:solidFill>
                <a:latin typeface="Arial"/>
              </a:rPr>
              <a:t>ontologies, each consisting of a set of discrete entities (e.g., tables, XML elements, classes, properties) and determines as output the correspondences (e.g., equivalence, subsumption) holding between these entities</a:t>
            </a:r>
            <a:endParaRPr b="0" lang="en-US" sz="2600" spc="-1" strike="noStrike">
              <a:solidFill>
                <a:srgbClr val="008484"/>
              </a:solidFill>
              <a:latin typeface="Arial"/>
            </a:endParaRPr>
          </a:p>
          <a:p>
            <a:pPr marL="190440" indent="-12600">
              <a:spcBef>
                <a:spcPts val="649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6AF6-8C3B-487D-A13E-BAF534CC9639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: two XML schema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891" name="Picture 7" descr="XML"/>
          <p:cNvPicPr/>
          <p:nvPr/>
        </p:nvPicPr>
        <p:blipFill>
          <a:blip r:embed="rId1"/>
          <a:stretch/>
        </p:blipFill>
        <p:spPr>
          <a:xfrm>
            <a:off x="1433520" y="1770120"/>
            <a:ext cx="6723000" cy="369720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8"/>
          <p:cNvGrpSpPr/>
          <p:nvPr/>
        </p:nvGrpSpPr>
        <p:grpSpPr>
          <a:xfrm>
            <a:off x="2908440" y="1905120"/>
            <a:ext cx="4228920" cy="3441600"/>
            <a:chOff x="2908440" y="1905120"/>
            <a:chExt cx="4228920" cy="3441600"/>
          </a:xfrm>
        </p:grpSpPr>
        <p:sp>
          <p:nvSpPr>
            <p:cNvPr id="893" name="Line 9"/>
            <p:cNvSpPr/>
            <p:nvPr/>
          </p:nvSpPr>
          <p:spPr>
            <a:xfrm>
              <a:off x="2959200" y="1905120"/>
              <a:ext cx="36194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4" name="Line 10"/>
            <p:cNvSpPr/>
            <p:nvPr/>
          </p:nvSpPr>
          <p:spPr>
            <a:xfrm>
              <a:off x="4089600" y="2171880"/>
              <a:ext cx="304776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5" name="Line 11"/>
            <p:cNvSpPr/>
            <p:nvPr/>
          </p:nvSpPr>
          <p:spPr>
            <a:xfrm>
              <a:off x="2908440" y="5105520"/>
              <a:ext cx="3809880" cy="2412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6" name="Line 12"/>
            <p:cNvSpPr/>
            <p:nvPr/>
          </p:nvSpPr>
          <p:spPr>
            <a:xfrm>
              <a:off x="3187800" y="4838760"/>
              <a:ext cx="3289320" cy="2286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7" name="Line 13"/>
            <p:cNvSpPr/>
            <p:nvPr/>
          </p:nvSpPr>
          <p:spPr>
            <a:xfrm>
              <a:off x="2984400" y="4559400"/>
              <a:ext cx="364500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8" name="Line 14"/>
            <p:cNvSpPr/>
            <p:nvPr/>
          </p:nvSpPr>
          <p:spPr>
            <a:xfrm>
              <a:off x="3924360" y="2426040"/>
              <a:ext cx="23367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899" name="Line 15"/>
            <p:cNvSpPr/>
            <p:nvPr/>
          </p:nvSpPr>
          <p:spPr>
            <a:xfrm>
              <a:off x="4064040" y="4077000"/>
              <a:ext cx="1587600" cy="126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0" name="Line 16"/>
            <p:cNvSpPr/>
            <p:nvPr/>
          </p:nvSpPr>
          <p:spPr>
            <a:xfrm flipV="1">
              <a:off x="4064040" y="3733560"/>
              <a:ext cx="1434960" cy="26676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  <p:grpSp>
        <p:nvGrpSpPr>
          <p:cNvPr id="901" name="Group 30"/>
          <p:cNvGrpSpPr/>
          <p:nvPr/>
        </p:nvGrpSpPr>
        <p:grpSpPr>
          <a:xfrm>
            <a:off x="1612800" y="5867280"/>
            <a:ext cx="6515280" cy="393840"/>
            <a:chOff x="1612800" y="5867280"/>
            <a:chExt cx="6515280" cy="393840"/>
          </a:xfrm>
        </p:grpSpPr>
        <p:sp>
          <p:nvSpPr>
            <p:cNvPr id="902" name="Line 18"/>
            <p:cNvSpPr/>
            <p:nvPr/>
          </p:nvSpPr>
          <p:spPr>
            <a:xfrm>
              <a:off x="1612800" y="6083280"/>
              <a:ext cx="55908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3" name="Line 22"/>
            <p:cNvSpPr/>
            <p:nvPr/>
          </p:nvSpPr>
          <p:spPr>
            <a:xfrm flipH="1">
              <a:off x="3949200" y="6083280"/>
              <a:ext cx="546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4" name="Line 23"/>
            <p:cNvSpPr/>
            <p:nvPr/>
          </p:nvSpPr>
          <p:spPr>
            <a:xfrm>
              <a:off x="6045120" y="6083280"/>
              <a:ext cx="5716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5" name="Text Box 26"/>
            <p:cNvSpPr/>
            <p:nvPr/>
          </p:nvSpPr>
          <p:spPr>
            <a:xfrm>
              <a:off x="2184480" y="5892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valence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6" name="Text Box 27"/>
            <p:cNvSpPr/>
            <p:nvPr/>
          </p:nvSpPr>
          <p:spPr>
            <a:xfrm>
              <a:off x="4495680" y="58802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ty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sp>
          <p:nvSpPr>
            <p:cNvPr id="907" name="Text Box 28"/>
            <p:cNvSpPr/>
            <p:nvPr/>
          </p:nvSpPr>
          <p:spPr>
            <a:xfrm>
              <a:off x="6680160" y="58672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jointness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Lack of background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direc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60D-1F7B-4C06-8690-5F2910D148C9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647640" y="21463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647640" y="3251160"/>
            <a:ext cx="59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8b"/>
                </a:solidFill>
                <a:latin typeface="Arial"/>
              </a:rPr>
              <a:t>Lack of background knowledge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CDC-6A72-4918-A1FB-10D1423D0D8D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mantic matching in a nutshell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444600" y="160020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916" name="Group 21"/>
          <p:cNvGrpSpPr/>
          <p:nvPr/>
        </p:nvGrpSpPr>
        <p:grpSpPr>
          <a:xfrm>
            <a:off x="444600" y="2247840"/>
            <a:ext cx="7683480" cy="1694520"/>
            <a:chOff x="444600" y="2247840"/>
            <a:chExt cx="7683480" cy="1694520"/>
          </a:xfrm>
        </p:grpSpPr>
        <p:sp>
          <p:nvSpPr>
            <p:cNvPr id="917" name="Rectangle 5"/>
            <p:cNvSpPr/>
            <p:nvPr/>
          </p:nvSpPr>
          <p:spPr>
            <a:xfrm>
              <a:off x="444600" y="224784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disjointness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I don’t know {idk}</a:t>
              </a:r>
              <a:endParaRPr b="0" lang="en-US" sz="1800" spc="-1" strike="noStrike">
                <a:solidFill>
                  <a:srgbClr val="008484"/>
                </a:solidFill>
                <a:latin typeface="Arial"/>
              </a:endParaRPr>
            </a:p>
          </p:txBody>
        </p:sp>
        <p:grpSp>
          <p:nvGrpSpPr>
            <p:cNvPr id="918" name="Group 6"/>
            <p:cNvGrpSpPr/>
            <p:nvPr/>
          </p:nvGrpSpPr>
          <p:grpSpPr>
            <a:xfrm>
              <a:off x="4938840" y="3031920"/>
              <a:ext cx="501480" cy="158040"/>
              <a:chOff x="4938840" y="3031920"/>
              <a:chExt cx="501480" cy="158040"/>
            </a:xfrm>
          </p:grpSpPr>
          <p:grpSp>
            <p:nvGrpSpPr>
              <p:cNvPr id="919" name="Group 7"/>
              <p:cNvGrpSpPr/>
              <p:nvPr/>
            </p:nvGrpSpPr>
            <p:grpSpPr>
              <a:xfrm>
                <a:off x="4938840" y="3031920"/>
                <a:ext cx="108000" cy="156240"/>
                <a:chOff x="4938840" y="3031920"/>
                <a:chExt cx="108000" cy="156240"/>
              </a:xfrm>
            </p:grpSpPr>
            <p:grpSp>
              <p:nvGrpSpPr>
                <p:cNvPr id="920" name="Group 8"/>
                <p:cNvGrpSpPr/>
                <p:nvPr/>
              </p:nvGrpSpPr>
              <p:grpSpPr>
                <a:xfrm>
                  <a:off x="4938840" y="3031920"/>
                  <a:ext cx="107640" cy="123120"/>
                  <a:chOff x="4938840" y="3031920"/>
                  <a:chExt cx="107640" cy="123120"/>
                </a:xfrm>
              </p:grpSpPr>
              <p:sp>
                <p:nvSpPr>
                  <p:cNvPr id="921" name="Line 9"/>
                  <p:cNvSpPr/>
                  <p:nvPr/>
                </p:nvSpPr>
                <p:spPr>
                  <a:xfrm>
                    <a:off x="4941000" y="315504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10"/>
                  <p:cNvSpPr/>
                  <p:nvPr/>
                </p:nvSpPr>
                <p:spPr>
                  <a:xfrm>
                    <a:off x="4938840" y="3031920"/>
                    <a:ext cx="10728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11"/>
                  <p:cNvSpPr/>
                  <p:nvPr/>
                </p:nvSpPr>
                <p:spPr>
                  <a:xfrm>
                    <a:off x="5046120" y="303228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4" name="Line 12"/>
                <p:cNvSpPr/>
                <p:nvPr/>
              </p:nvSpPr>
              <p:spPr>
                <a:xfrm>
                  <a:off x="4938840" y="3188160"/>
                  <a:ext cx="10800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848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13"/>
              <p:cNvGrpSpPr/>
              <p:nvPr/>
            </p:nvGrpSpPr>
            <p:grpSpPr>
              <a:xfrm>
                <a:off x="5330880" y="3033720"/>
                <a:ext cx="109440" cy="156240"/>
                <a:chOff x="5330880" y="3033720"/>
                <a:chExt cx="109440" cy="156240"/>
              </a:xfrm>
            </p:grpSpPr>
            <p:grpSp>
              <p:nvGrpSpPr>
                <p:cNvPr id="926" name="Group 14"/>
                <p:cNvGrpSpPr/>
                <p:nvPr/>
              </p:nvGrpSpPr>
              <p:grpSpPr>
                <a:xfrm>
                  <a:off x="5331240" y="3033720"/>
                  <a:ext cx="109080" cy="123120"/>
                  <a:chOff x="5331240" y="3033720"/>
                  <a:chExt cx="109080" cy="123120"/>
                </a:xfrm>
              </p:grpSpPr>
              <p:sp>
                <p:nvSpPr>
                  <p:cNvPr id="927" name="Line 15"/>
                  <p:cNvSpPr/>
                  <p:nvPr/>
                </p:nvSpPr>
                <p:spPr>
                  <a:xfrm flipH="1">
                    <a:off x="5331600" y="3033720"/>
                    <a:ext cx="10656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Line 16"/>
                  <p:cNvSpPr/>
                  <p:nvPr/>
                </p:nvSpPr>
                <p:spPr>
                  <a:xfrm flipH="1">
                    <a:off x="5331600" y="3156840"/>
                    <a:ext cx="1087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17"/>
                  <p:cNvSpPr/>
                  <p:nvPr/>
                </p:nvSpPr>
                <p:spPr>
                  <a:xfrm flipH="1" flipV="1">
                    <a:off x="5331240" y="303948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848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0" name="Line 18"/>
                <p:cNvSpPr/>
                <p:nvPr/>
              </p:nvSpPr>
              <p:spPr>
                <a:xfrm flipH="1">
                  <a:off x="5330880" y="3189960"/>
                  <a:ext cx="10944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8484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1" name="Rectangle 19"/>
          <p:cNvSpPr/>
          <p:nvPr/>
        </p:nvSpPr>
        <p:spPr>
          <a:xfrm>
            <a:off x="482760" y="3968640"/>
            <a:ext cx="8127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 compute semantic relations by analyz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label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is codified in the elements and the structures of ontologie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2" name="Rectangle 20"/>
          <p:cNvSpPr/>
          <p:nvPr/>
        </p:nvSpPr>
        <p:spPr>
          <a:xfrm>
            <a:off x="1373040" y="4670280"/>
            <a:ext cx="71643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, labels at nodes written in natural language are translated into propositional logical formulas which explicitly codify the labels’ intended meaning. This allows us to codify the matching problem into a propositional validity problem, which can then be efficiently resolved using sound and complete state of t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 satisfiability (SAT) solver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4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6A99-C246-478A-B57E-415C1482F662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240" y="545760"/>
            <a:ext cx="7162920" cy="82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825516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1" lang="en-US" sz="2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Matching (usually) has two components: element level matching and structure level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trarily to many other systems, the semantic matching structure level algorithm is correct and complete 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till, the quality of results is not very good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6" name="Text Box 9"/>
          <p:cNvSpPr/>
          <p:nvPr/>
        </p:nvSpPr>
        <p:spPr>
          <a:xfrm>
            <a:off x="495360" y="4851360"/>
            <a:ext cx="773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1" i="1" lang="it-IT" sz="2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it-IT" sz="2600" spc="-1" strike="noStrike">
                <a:solidFill>
                  <a:srgbClr val="800000"/>
                </a:solidFill>
                <a:latin typeface="Arial"/>
              </a:rPr>
              <a:t>... the problem of lack of knowledge </a:t>
            </a:r>
            <a:endParaRPr b="0" lang="en-US" sz="2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7" name="Text Box 13">
            <a:hlinkClick r:id="rId4" action="ppaction://hlinksldjump"/>
          </p:cNvPr>
          <p:cNvSpPr/>
          <p:nvPr/>
        </p:nvSpPr>
        <p:spPr>
          <a:xfrm>
            <a:off x="4154400" y="914400"/>
            <a:ext cx="12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</a:t>
            </a:r>
            <a:endParaRPr b="0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5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5B80-2246-44BA-A48D-EF2DCD0C8075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71240" y="520560"/>
            <a:ext cx="7162920" cy="8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-360" y="1397160"/>
            <a:ext cx="5156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liminary (analytical)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941" name="Picture 12" descr="PreliminEvalOAEI05"/>
          <p:cNvPicPr/>
          <p:nvPr/>
        </p:nvPicPr>
        <p:blipFill>
          <a:blip r:embed="rId1"/>
          <a:stretch/>
        </p:blipFill>
        <p:spPr>
          <a:xfrm>
            <a:off x="1371600" y="3389400"/>
            <a:ext cx="7186680" cy="34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2" name=""/>
          <p:cNvGraphicFramePr/>
          <p:nvPr/>
        </p:nvGraphicFramePr>
        <p:xfrm>
          <a:off x="101520" y="1866960"/>
          <a:ext cx="6896160" cy="1411200"/>
        </p:xfrm>
        <a:graphic>
          <a:graphicData uri="http://schemas.openxmlformats.org/drawingml/2006/table">
            <a:tbl>
              <a:tblPr/>
              <a:tblGrid>
                <a:gridCol w="2463840"/>
                <a:gridCol w="1117800"/>
                <a:gridCol w="1409400"/>
                <a:gridCol w="19051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tching tasks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nodes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x depth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#labels per tree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Looksmart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/1081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6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/1715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vs Yahoo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/665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1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/945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hoo vs Looksmart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/140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/222</a:t>
                      </a:r>
                      <a:endParaRPr b="0" lang="en-US" sz="1700" spc="-1" strike="noStrike">
                        <a:solidFill>
                          <a:srgbClr val="00848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3" name="Text Box 94"/>
          <p:cNvSpPr/>
          <p:nvPr/>
        </p:nvSpPr>
        <p:spPr>
          <a:xfrm>
            <a:off x="7010280" y="210816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Dataset               [P. Avesani et al., ISWC’05]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3"/>
          <p:cNvSpPr/>
          <p:nvPr/>
        </p:nvSpPr>
        <p:spPr>
          <a:xfrm>
            <a:off x="853452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238-66C2-4AC0-91FA-67E2624C9655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n increasing the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recall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: an overview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6" name="Text Box 3"/>
          <p:cNvSpPr/>
          <p:nvPr/>
        </p:nvSpPr>
        <p:spPr>
          <a:xfrm>
            <a:off x="623880" y="1695600"/>
            <a:ext cx="801360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trategie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trengthen element level matchers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use of previous match results from the same domain of interest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1320840" indent="-351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PO = Purchase Order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 general knowledge sources (unlikely to help)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, if available (!), domain specific sources of knowledge 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FMA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orpus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Admin</cp:lastModifiedBy>
  <dcterms:modified xsi:type="dcterms:W3CDTF">2007-11-02T10:10:31Z</dcterms:modified>
  <cp:revision>1388</cp:revision>
  <dc:subject/>
  <dc:title>S-Match CoopIS'05</dc:title>
</cp:coreProperties>
</file>