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BBA-44D0-484C-B39D-9F385A66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58D-3E8B-4A72-8BE6-1C144A68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87C-0704-4408-A406-155D28E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DAE-1C77-4366-B6AD-65DF4FAA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F48-DE6D-4480-B59F-742BAF62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6A76-EB1D-46F9-A3F7-63FFC543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522A-3210-41AC-96BA-0FB88F6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3986-2CE7-4977-8D36-34D9479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9B7-63B4-490B-B314-5EFD9006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0F01-826B-4788-8895-47E6F65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0EA4-6FFE-48D8-8661-6743919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E91-91C4-4C5B-8F8E-5B5548C8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815-DBF2-4A4B-972A-BC5ECE0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6020-54E6-4445-8D8A-7941582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636C-649A-4F38-83E6-678D23CB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5CD0-319D-497B-8FC1-745B0227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365-5D11-4CFA-A94B-E596C9A7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A28-986C-4847-876C-27F20ABE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A42-CE72-4D8D-AB4E-28EACBB7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9B0-2F1A-4249-BF67-BAE805B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A59-716A-4EB6-A1C4-38209F6D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165-861A-4234-8AAA-57DDDC7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90C-370B-4DEC-BC35-C421A32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1A8-86F8-48A3-93AF-000C0BE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FB86-449E-4CFE-8D2E-20A607B518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227C-F731-4DEC-8783-9C31E030F6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t.unitn.it/~accord/" TargetMode="External"/><Relationship Id="rId2" Type="http://schemas.openxmlformats.org/officeDocument/2006/relationships/hyperlink" Target="http://www.w3.org/TR/owl-features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-OWL: contextualizing ontolog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vel Shvai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 20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olo Bouquet, Fausto Giunchiglia, Frank van Harmelen, Luciano Serafini, and Heiner Stuckenschmi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e Tal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s vs.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restated) global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Three motivating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new) local models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-OWL: extending OWL with (context) ma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ample 1: Directionalit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Need to keep track of source and target ont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import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adding it some new axi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We want that axioms added to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do not affect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axiom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   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     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also  axi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    1: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In new semantics, we want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A     1:D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but not in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067280" y="3716280"/>
            <a:ext cx="215640" cy="216000"/>
            <a:chOff x="4067280" y="3716280"/>
            <a:chExt cx="215640" cy="216000"/>
          </a:xfrm>
        </p:grpSpPr>
        <p:sp>
          <p:nvSpPr>
            <p:cNvPr id="109" name=""/>
            <p:cNvSpPr/>
            <p:nvPr/>
          </p:nvSpPr>
          <p:spPr>
            <a:xfrm>
              <a:off x="4067280" y="37162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067280" y="3716280"/>
              <a:ext cx="215640" cy="216000"/>
              <a:chOff x="4067280" y="3716280"/>
              <a:chExt cx="215640" cy="2160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67280" y="38782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67280" y="39322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67280" y="371628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4932360" y="4149720"/>
            <a:ext cx="216000" cy="216000"/>
            <a:chOff x="4932360" y="4149720"/>
            <a:chExt cx="216000" cy="216000"/>
          </a:xfrm>
        </p:grpSpPr>
        <p:sp>
          <p:nvSpPr>
            <p:cNvPr id="115" name=""/>
            <p:cNvSpPr/>
            <p:nvPr/>
          </p:nvSpPr>
          <p:spPr>
            <a:xfrm>
              <a:off x="4932360" y="4149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932360" y="4149720"/>
              <a:ext cx="216000" cy="216000"/>
              <a:chOff x="4932360" y="4149720"/>
              <a:chExt cx="216000" cy="216000"/>
            </a:xfrm>
          </p:grpSpPr>
          <p:sp>
            <p:nvSpPr>
              <p:cNvPr id="117" name=""/>
              <p:cNvSpPr/>
              <p:nvPr/>
            </p:nvSpPr>
            <p:spPr>
              <a:xfrm>
                <a:off x="4932360" y="4311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32360" y="43657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32360" y="41497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148360" y="5013360"/>
            <a:ext cx="215640" cy="216000"/>
            <a:chOff x="5148360" y="5013360"/>
            <a:chExt cx="215640" cy="216000"/>
          </a:xfrm>
        </p:grpSpPr>
        <p:sp>
          <p:nvSpPr>
            <p:cNvPr id="121" name=""/>
            <p:cNvSpPr/>
            <p:nvPr/>
          </p:nvSpPr>
          <p:spPr>
            <a:xfrm>
              <a:off x="5148360" y="5013360"/>
              <a:ext cx="215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148360" y="5013360"/>
              <a:ext cx="215640" cy="216000"/>
              <a:chOff x="5148360" y="5013360"/>
              <a:chExt cx="215640" cy="21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5148360" y="5175360"/>
                <a:ext cx="2156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48360" y="5229360"/>
                <a:ext cx="2156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48360" y="5013360"/>
                <a:ext cx="0" cy="162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796000" y="3716280"/>
            <a:ext cx="216000" cy="216000"/>
            <a:chOff x="5796000" y="3716280"/>
            <a:chExt cx="216000" cy="216000"/>
          </a:xfrm>
        </p:grpSpPr>
        <p:sp>
          <p:nvSpPr>
            <p:cNvPr id="127" name=""/>
            <p:cNvSpPr/>
            <p:nvPr/>
          </p:nvSpPr>
          <p:spPr>
            <a:xfrm>
              <a:off x="5796000" y="3716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796000" y="3716280"/>
              <a:ext cx="216000" cy="216000"/>
              <a:chOff x="5796000" y="3716280"/>
              <a:chExt cx="216000" cy="216000"/>
            </a:xfrm>
          </p:grpSpPr>
          <p:sp>
            <p:nvSpPr>
              <p:cNvPr id="129" name=""/>
              <p:cNvSpPr/>
              <p:nvPr/>
            </p:nvSpPr>
            <p:spPr>
              <a:xfrm>
                <a:off x="5796000" y="387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6000" y="3932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6000" y="371628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ample 1 (cont’ed): Directionalit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We want to avoid propagation of in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axiom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    B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    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also  axi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1:B     1: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 to deriv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1:A     1: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t not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 als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1:A(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1: not D(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inconsis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In new semantics, we want to keep </a:t>
            </a:r>
            <a:r>
              <a:rPr b="0" i="1" lang="en-US" sz="26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consis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95640" y="2492280"/>
            <a:ext cx="216000" cy="216000"/>
            <a:chOff x="3995640" y="2492280"/>
            <a:chExt cx="216000" cy="216000"/>
          </a:xfrm>
        </p:grpSpPr>
        <p:sp>
          <p:nvSpPr>
            <p:cNvPr id="135" name=""/>
            <p:cNvSpPr/>
            <p:nvPr/>
          </p:nvSpPr>
          <p:spPr>
            <a:xfrm>
              <a:off x="3995640" y="2492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995640" y="2492280"/>
              <a:ext cx="216000" cy="216000"/>
              <a:chOff x="3995640" y="2492280"/>
              <a:chExt cx="216000" cy="21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3995640" y="2654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95640" y="27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95640" y="249228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4140360" y="3357720"/>
            <a:ext cx="215640" cy="215640"/>
            <a:chOff x="4140360" y="3357720"/>
            <a:chExt cx="215640" cy="215640"/>
          </a:xfrm>
        </p:grpSpPr>
        <p:sp>
          <p:nvSpPr>
            <p:cNvPr id="141" name=""/>
            <p:cNvSpPr/>
            <p:nvPr/>
          </p:nvSpPr>
          <p:spPr>
            <a:xfrm>
              <a:off x="4140360" y="33577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140360" y="3357720"/>
              <a:ext cx="215640" cy="215640"/>
              <a:chOff x="4140360" y="3357720"/>
              <a:chExt cx="215640" cy="215640"/>
            </a:xfrm>
          </p:grpSpPr>
          <p:sp>
            <p:nvSpPr>
              <p:cNvPr id="143" name=""/>
              <p:cNvSpPr/>
              <p:nvPr/>
            </p:nvSpPr>
            <p:spPr>
              <a:xfrm>
                <a:off x="4140360" y="3519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0360" y="35733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40360" y="33577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4932360" y="2924280"/>
            <a:ext cx="216000" cy="215640"/>
            <a:chOff x="4932360" y="2924280"/>
            <a:chExt cx="216000" cy="215640"/>
          </a:xfrm>
        </p:grpSpPr>
        <p:sp>
          <p:nvSpPr>
            <p:cNvPr id="147" name=""/>
            <p:cNvSpPr/>
            <p:nvPr/>
          </p:nvSpPr>
          <p:spPr>
            <a:xfrm>
              <a:off x="4932360" y="2924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932360" y="2924280"/>
              <a:ext cx="216000" cy="215640"/>
              <a:chOff x="4932360" y="2924280"/>
              <a:chExt cx="216000" cy="215640"/>
            </a:xfrm>
          </p:grpSpPr>
          <p:sp>
            <p:nvSpPr>
              <p:cNvPr id="149" name=""/>
              <p:cNvSpPr/>
              <p:nvPr/>
            </p:nvSpPr>
            <p:spPr>
              <a:xfrm>
                <a:off x="4932360" y="3086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32360" y="31399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2360" y="292428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5651640" y="2492280"/>
            <a:ext cx="215640" cy="216000"/>
            <a:chOff x="5651640" y="2492280"/>
            <a:chExt cx="215640" cy="216000"/>
          </a:xfrm>
        </p:grpSpPr>
        <p:sp>
          <p:nvSpPr>
            <p:cNvPr id="153" name=""/>
            <p:cNvSpPr/>
            <p:nvPr/>
          </p:nvSpPr>
          <p:spPr>
            <a:xfrm>
              <a:off x="5651640" y="24922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651640" y="2492280"/>
              <a:ext cx="215640" cy="216000"/>
              <a:chOff x="5651640" y="2492280"/>
              <a:chExt cx="215640" cy="21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5651640" y="26542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51640" y="27082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51640" y="249228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ample 2: Local domai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ed to give up hypothesis that of single global domain of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 manufacturing ontolog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C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domain of interpretation the totality of c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constants Diesel and Petrol for diesel engine and petrol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iom: a car has only one engine which is either Diesel or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r    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 hasEngine.{Diesel, Petrol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esel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e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rrari ontology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erra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ing Ferrari’s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C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xiom: engine of a Ferrari is either an F23 or and F34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Ferrari    (WCM:car   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1) (WCM:hasEngine).{F23, F34i}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23</a:t>
            </a:r>
            <a:r>
              <a:rPr b="0" lang="en-GB" sz="1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34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In new semantics, we want to avoid 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(F23)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400" spc="-1" strike="noStrike" baseline="30000">
                <a:solidFill>
                  <a:srgbClr val="ff3300"/>
                </a:solidFill>
                <a:latin typeface="Times New Roman"/>
              </a:rPr>
              <a:t>Ferrari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= (Diesel)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400" spc="-1" strike="noStrike" baseline="30000">
                <a:solidFill>
                  <a:srgbClr val="ff3300"/>
                </a:solidFill>
                <a:latin typeface="Times New Roman"/>
              </a:rPr>
              <a:t>WCM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(F34i)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400" spc="-1" strike="noStrike" baseline="30000">
                <a:solidFill>
                  <a:srgbClr val="ff3300"/>
                </a:solidFill>
                <a:latin typeface="Times New Roman"/>
              </a:rPr>
              <a:t>Ferrari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= (Diesel)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400" spc="-1" strike="noStrike" baseline="30000">
                <a:solidFill>
                  <a:srgbClr val="ff3300"/>
                </a:solidFill>
                <a:latin typeface="Times New Roman"/>
              </a:rPr>
              <a:t>WCM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since Ferrari produces only petrol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132000" y="2637000"/>
            <a:ext cx="144720" cy="144360"/>
            <a:chOff x="3132000" y="2637000"/>
            <a:chExt cx="144720" cy="144360"/>
          </a:xfrm>
        </p:grpSpPr>
        <p:sp>
          <p:nvSpPr>
            <p:cNvPr id="161" name=""/>
            <p:cNvSpPr/>
            <p:nvPr/>
          </p:nvSpPr>
          <p:spPr>
            <a:xfrm>
              <a:off x="3132000" y="2637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132000" y="2637000"/>
              <a:ext cx="144720" cy="144360"/>
              <a:chOff x="3132000" y="2637000"/>
              <a:chExt cx="144720" cy="144360"/>
            </a:xfrm>
          </p:grpSpPr>
          <p:sp>
            <p:nvSpPr>
              <p:cNvPr id="163" name=""/>
              <p:cNvSpPr/>
              <p:nvPr/>
            </p:nvSpPr>
            <p:spPr>
              <a:xfrm>
                <a:off x="3132000" y="274536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32000" y="278136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32000" y="263700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411280" y="4221000"/>
            <a:ext cx="144720" cy="144720"/>
            <a:chOff x="2411280" y="4221000"/>
            <a:chExt cx="144720" cy="144720"/>
          </a:xfrm>
        </p:grpSpPr>
        <p:sp>
          <p:nvSpPr>
            <p:cNvPr id="167" name=""/>
            <p:cNvSpPr/>
            <p:nvPr/>
          </p:nvSpPr>
          <p:spPr>
            <a:xfrm>
              <a:off x="2411280" y="422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411280" y="4221000"/>
              <a:ext cx="144720" cy="144720"/>
              <a:chOff x="2411280" y="4221000"/>
              <a:chExt cx="144720" cy="144720"/>
            </a:xfrm>
          </p:grpSpPr>
          <p:sp>
            <p:nvSpPr>
              <p:cNvPr id="169" name=""/>
              <p:cNvSpPr/>
              <p:nvPr/>
            </p:nvSpPr>
            <p:spPr>
              <a:xfrm>
                <a:off x="2411280" y="43297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11280" y="43657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411280" y="4221000"/>
                <a:ext cx="0" cy="1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708000" y="4221000"/>
            <a:ext cx="144720" cy="142920"/>
            <a:chOff x="3708000" y="4221000"/>
            <a:chExt cx="144720" cy="142920"/>
          </a:xfrm>
        </p:grpSpPr>
        <p:sp>
          <p:nvSpPr>
            <p:cNvPr id="173" name=""/>
            <p:cNvSpPr/>
            <p:nvPr/>
          </p:nvSpPr>
          <p:spPr>
            <a:xfrm>
              <a:off x="3852720" y="42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360" y="42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708000" y="4221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ample 3: Context mappin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ed to state that two elements of two ontologies, though being extensionally different, ar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ontextual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FI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s cars from manufactur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describes cars from car vendo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FI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largely independent and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concepts of car defined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FI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(i.e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le: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AT: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may be very different, still describing same real world object (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ifferent viewpoi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Not possible to state relation between two concepts with OWL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e Tal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s vs.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restated) global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hree motivating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A (new) local models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-OWL: extending OWL with (context) ma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ampe 1: Directiona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931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ll (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tologies as part of OW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global interpretation into a family of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loc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terpretation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for each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an ontology to b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loc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nsis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.e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to have a local interpre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chnicall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 inconsistent ontologies to a special “interpretation”,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verifies any set of axi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2: Local Domai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 to each ontology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loc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omains may overlap (two ontologies may refer to the same obj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chnicall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interpretation with local dom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the OWL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&lt;i, 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fami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{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(.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interpret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s either an interpret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a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e Tal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s vs.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restated) global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hree motivating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new) local models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C-OWL: extending OWL with (context) ma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Example 3: Adding context mappings to syntax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dge ru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. A bridge rul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statement of one of the five following form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e concepts, or roles, or individuals of the languag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xt mapp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. Given a OWL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&lt;i, 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a mapp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set of bridge rul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 j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6696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e Tal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ntologies vs. Contex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restated) global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hree motivating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new) local models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-OWL: extending OWL with (context) ma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ext mappings (cont’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ual ont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It is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cal ont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a set of bridge rules (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context mapp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We sometimes write </a:t>
            </a:r>
            <a:r>
              <a:rPr b="0" lang="en-US" sz="2400" spc="-1" strike="noStrike">
                <a:solidFill>
                  <a:srgbClr val="2a8828"/>
                </a:solidFill>
                <a:latin typeface="Arial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ing </a:t>
            </a:r>
            <a:r>
              <a:rPr b="0" lang="en-US" sz="2400" spc="-1" strike="noStrike">
                <a:solidFill>
                  <a:srgbClr val="2a8828"/>
                </a:solidFill>
                <a:latin typeface="Arial"/>
              </a:rPr>
              <a:t>contextu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ontext space is a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WL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&lt;i, 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local ontologi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mi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,j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(context) mapping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or each pai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, j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pretation for context sp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It is 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i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n OWL interpretation with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ho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local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domain rel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s a subse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amples: Context mappin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From example 3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ale:C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AT:c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objects from two different viewpoi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*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relation satisfying (**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a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900" spc="-1" strike="noStrike" baseline="30000">
                <a:solidFill>
                  <a:srgbClr val="000000"/>
                </a:solidFill>
                <a:latin typeface="Times New Roman"/>
              </a:rPr>
              <a:t>Sal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= Ca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900" spc="-1" strike="noStrike" baseline="30000">
                <a:solidFill>
                  <a:srgbClr val="000000"/>
                </a:solidFill>
                <a:latin typeface="Times New Roman"/>
              </a:rPr>
              <a:t>FI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b812f"/>
                </a:solidFill>
                <a:latin typeface="Arial"/>
              </a:rPr>
              <a:t>From example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*)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relation satisfying (*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WCM, Ferrar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etrol)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900" spc="-1" strike="noStrike" baseline="30000">
                <a:solidFill>
                  <a:srgbClr val="000000"/>
                </a:solidFill>
                <a:latin typeface="Times New Roman"/>
              </a:rPr>
              <a:t>WCM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{F23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900" spc="-1" strike="noStrike" baseline="30000">
                <a:solidFill>
                  <a:srgbClr val="000000"/>
                </a:solidFill>
                <a:latin typeface="Times New Roman"/>
              </a:rPr>
              <a:t>Ferrari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F34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900" spc="-1" strike="noStrike" baseline="30000">
                <a:solidFill>
                  <a:srgbClr val="000000"/>
                </a:solidFill>
                <a:latin typeface="Times New Roman"/>
              </a:rPr>
              <a:t>Ferrari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2592360" cy="353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627280" y="3933720"/>
            <a:ext cx="3095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067280" y="1811160"/>
            <a:ext cx="4932360" cy="2481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ext OWL (C-OWL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0273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extual ont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ai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context mapp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 mapping is a set of bridge rules with the same target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ext m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4-tu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ping identifier (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urce context containing an OW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rget context containing an OW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bridge rules from the local language of the source ontology to the local language of the target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OTE: mappings are objects (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har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ex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keep knowledge local (not sha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extual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hare as much as possible, keep local whenever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-OWL (Context OW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L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models semantic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mappings (limited, explicitly defined, visibility from out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Will C-OWL be of any use?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How often in the Web we will import ontologies and how often we will define context mappings (diversity as a defect, or diversity as a feature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houldn’t the Semantic Web be a Web of </a:t>
            </a: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Semantic links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e.g., context mappings)? Context mappings useful for: maintaining alignment, propagating info, (semantics driven) navigation,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houldn’t discovering context mappings (e.g., </a:t>
            </a: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Semantic matching)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e one of the core issues in building the Semantic Web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website - ACCORD: </a:t>
            </a: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dit.unitn.it/~accord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. Bouquet, F. Giunchiglia, F. van Harmelen, L. Serafini, H. Stuckenschmidt: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-OWL: Contextualizing Ontolog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 In Proceedings of ISWC, 164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-179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Ghidini, F. Giunchiglia: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ocal models semantics, or contextual reasoning = locality + compati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Artificial Intelligence journal, 127(3):221-259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L. McGuinness, F. van Harmelen: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WL Web Ontology Language Overvi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echnical report, W3C, </a:t>
            </a: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w3.org/TR/owl-features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ebruary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Ontologies vs. Contex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Ontology is a model of some domain which is supposed to encode a view common to a set of different par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An ontology is built to b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sha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ntext is a model of some domain which is supposed to encode a view of a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A context is built to b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kept loc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lo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not sha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context and an ontology of the </a:t>
            </a: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sam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domain are likely to be </a:t>
            </a: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very differen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different goals, different approach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’s and Contra’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Ontolog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y” exchange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nsus must be reached about their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tenance may become arbitrarily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Contex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y” to define and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constructed with no consensus with the other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of information by constructing explicit mappings among the elements of the contexts of the involv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extual Ontolog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3300"/>
                </a:solidFill>
                <a:latin typeface="Arial"/>
              </a:rPr>
              <a:t>Contextual ontology = Ontology + Context map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Key idea (in two step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hare as much as possible (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OWL import construct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Keep it local whenever sharing does not work (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C-OWL context mappings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many (most in the Web?) cases 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sharing does not work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and produces undesired results (semantic heterogene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sing context allows for 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incremental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piece-wise construction of the Semantic Web (bottom up vs. top down approa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e Tal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s vs.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A (restated) global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hree motivating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 (new) local models semantics for OWL – Intu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-OWL: extending OWL with (context) ma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 (restated) Global Semantics for OW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WL Ontologie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i, 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ir languages (e.g.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:C, j:E,  i: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.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cal langu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l concept (role, individual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 is an element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at appear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ither without indexes or with index equal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eign langu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 … Anything (concept, role, individual) which is not loc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WL 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WL spa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s a family of ontolog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{&lt;i, 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is an OWL ont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A Global Semantics for OWL (cont’e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WL interpre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interpretati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the OWL spac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{&lt;i, O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pair 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, (.)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, such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(i, C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(i, r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(i, o)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∆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With  ∆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domain of interpretation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(.)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interpretation fun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Note: a global interpre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A Global Semantics for OWL (cont’e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7440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WL axiom and fact satisfiabi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satisfies a fact or an axiom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cording to the rules defined 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*]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.F. Patel-Schneider, P. Hayes, and I. Horrocks. Web Ontology Language (OWL) Abstract Syntax and Semantics. Technical report, W3C, February 2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 OWL interpret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satisfies an OWL 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{&lt;i, 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&gt;}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satisfies each axiom and fac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9:39:43Z</dcterms:created>
  <dc:creator>Pavel Shvaiko</dc:creator>
  <dc:description/>
  <dc:language>en-US</dc:language>
  <cp:lastModifiedBy>server</cp:lastModifiedBy>
  <dcterms:modified xsi:type="dcterms:W3CDTF">2004-10-20T07:18:02Z</dcterms:modified>
  <cp:revision>125</cp:revision>
  <dc:subject/>
  <dc:title>C-OWL: contextualizing ontologies</dc:title>
</cp:coreProperties>
</file>