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4301-FF95-4FFA-B23B-15D973BD6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4C3D-0E5E-4591-8F32-80006E3C9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21F8-72EC-49AE-9349-DFE164ED0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99A1-FBE6-42A0-A3EF-E9425D26E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2EC6-7A0C-454F-A81E-AA666394C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4AD3-1AD3-407F-B7A4-CA56E4DBB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F178-063D-4F9C-86EB-A8B23AF34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1E83-1C2D-44A5-9469-F6E605A0F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98B3-7802-460B-9426-BD5553560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4D9F-FF25-46C5-B438-58ED174B9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7195-132D-4219-A1A5-0718C003F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23AD-7050-4E47-BCE1-ABE62FA49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98A0-3356-4472-B07E-21B95B728FE8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34960" y="6521400"/>
            <a:ext cx="7150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MCN workshop, ISWC, 8</a:t>
            </a:r>
            <a:r>
              <a:rPr b="1" lang="it-IT" sz="1500" spc="-1" strike="noStrike" baseline="30000">
                <a:solidFill>
                  <a:srgbClr val="008484"/>
                </a:solidFill>
                <a:latin typeface="Arial"/>
              </a:rPr>
              <a:t>th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 November 2004, Hiroshima, Jap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6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60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knowledgeweb.semanticweb.org/" TargetMode="External"/><Relationship Id="rId3" Type="http://schemas.openxmlformats.org/officeDocument/2006/relationships/hyperlink" Target="http://knowledgeweb.semanticweb.org/" TargetMode="External"/><Relationship Id="rId4" Type="http://schemas.openxmlformats.org/officeDocument/2006/relationships/hyperlink" Target="http://knowledgeweb.semanticweb.org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dit.unitn.it/~accord/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080" y="1850760"/>
            <a:ext cx="812628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A Classification of Schema-based Matching Approaches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04960" y="3933720"/>
            <a:ext cx="42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16240" y="5530680"/>
            <a:ext cx="5614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Meaning Coordination and Negotiation Workshop, ISW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8</a:t>
            </a:r>
            <a:r>
              <a:rPr b="1" lang="it-IT" sz="1600" spc="-1" strike="noStrike" baseline="30000">
                <a:solidFill>
                  <a:srgbClr val="008484"/>
                </a:solidFill>
                <a:latin typeface="Arial"/>
              </a:rPr>
              <a:t>th</a:t>
            </a: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 November 2004, Hiroshima,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view on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3120" y="2311560"/>
            <a:ext cx="785952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uristic vs form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heuristic techniques try to guess relations which may hold between similar labels or graph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formal techniques have model-theoretic semantics which is used to justify their results</a:t>
            </a:r>
            <a:r>
              <a:rPr b="1" lang="en-US" sz="21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icit vs explicit: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mplicit techniques are syntax driven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.g., techniques, which consider labels as strings, or analyze data types, or soundex of schema/ontology elements</a:t>
            </a:r>
            <a:r>
              <a:rPr b="0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plicit techniques exploit the semantics of lab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E.g., thesauruses, 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8280" y="1409760"/>
            <a:ext cx="814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What is missing in the taxonomy of schema matching approaches we have just seen ?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080" y="2133720"/>
            <a:ext cx="584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Arial"/>
              </a:rPr>
              <a:t>Two new criteria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4741-668B-4C8C-983D-2E2175062D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chema Matching Approach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266840" y="1630440"/>
            <a:ext cx="4435560" cy="4351320"/>
            <a:chOff x="1266840" y="1630440"/>
            <a:chExt cx="4435560" cy="4351320"/>
          </a:xfrm>
        </p:grpSpPr>
        <p:grpSp>
          <p:nvGrpSpPr>
            <p:cNvPr id="218" name=""/>
            <p:cNvGrpSpPr/>
            <p:nvPr/>
          </p:nvGrpSpPr>
          <p:grpSpPr>
            <a:xfrm>
              <a:off x="2035080" y="1630440"/>
              <a:ext cx="3270240" cy="1374120"/>
              <a:chOff x="2035080" y="1630440"/>
              <a:chExt cx="3270240" cy="1374120"/>
            </a:xfrm>
          </p:grpSpPr>
          <p:sp>
            <p:nvSpPr>
              <p:cNvPr id="219" name=""/>
              <p:cNvSpPr/>
              <p:nvPr/>
            </p:nvSpPr>
            <p:spPr>
              <a:xfrm>
                <a:off x="2943360" y="1630440"/>
                <a:ext cx="23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Individual match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035080" y="2544840"/>
                <a:ext cx="197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Schema-ba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1" name=""/>
              <p:cNvCxnSpPr>
                <a:stCxn id="219" idx="2"/>
                <a:endCxn id="220" idx="0"/>
              </p:cNvCxnSpPr>
              <p:nvPr/>
            </p:nvCxnSpPr>
            <p:spPr>
              <a:xfrm flipH="1">
                <a:off x="3022200" y="2087640"/>
                <a:ext cx="1102320" cy="457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222" name=""/>
            <p:cNvCxnSpPr>
              <a:stCxn id="219" idx="2"/>
              <a:endCxn id="223" idx="0"/>
            </p:cNvCxnSpPr>
            <p:nvPr/>
          </p:nvCxnSpPr>
          <p:spPr>
            <a:xfrm>
              <a:off x="4124160" y="2087640"/>
              <a:ext cx="1299600" cy="10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24" name=""/>
            <p:cNvGrpSpPr/>
            <p:nvPr/>
          </p:nvGrpSpPr>
          <p:grpSpPr>
            <a:xfrm>
              <a:off x="1266840" y="4322880"/>
              <a:ext cx="3683160" cy="1301400"/>
              <a:chOff x="1266840" y="4322880"/>
              <a:chExt cx="3683160" cy="130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3827520" y="4981680"/>
                <a:ext cx="1122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Graph match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66840" y="4398840"/>
                <a:ext cx="131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Linguistic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51240" y="4322880"/>
                <a:ext cx="1258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Constraint-bas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81360" y="4981680"/>
                <a:ext cx="876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Typ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Key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27440" y="4322880"/>
                <a:ext cx="1211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Constraint-bas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3000" y="4981680"/>
                <a:ext cx="138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Na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Descrip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1" name=""/>
            <p:cNvCxnSpPr>
              <a:stCxn id="232" idx="2"/>
              <a:endCxn id="226" idx="0"/>
            </p:cNvCxnSpPr>
            <p:nvPr/>
          </p:nvCxnSpPr>
          <p:spPr>
            <a:xfrm flipH="1">
              <a:off x="1923840" y="3954600"/>
              <a:ext cx="714960" cy="44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"/>
            <p:cNvCxnSpPr>
              <a:stCxn id="232" idx="2"/>
              <a:endCxn id="227" idx="0"/>
            </p:cNvCxnSpPr>
            <p:nvPr/>
          </p:nvCxnSpPr>
          <p:spPr>
            <a:xfrm>
              <a:off x="2638440" y="3954240"/>
              <a:ext cx="44352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35" idx="2"/>
              <a:endCxn id="229" idx="0"/>
            </p:cNvCxnSpPr>
            <p:nvPr/>
          </p:nvCxnSpPr>
          <p:spPr>
            <a:xfrm>
              <a:off x="4254120" y="3954240"/>
              <a:ext cx="802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1647720" y="3002040"/>
              <a:ext cx="3543480" cy="955080"/>
              <a:chOff x="1647720" y="3002040"/>
              <a:chExt cx="3543480" cy="955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317760" y="3497400"/>
                <a:ext cx="187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Structure-lev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47720" y="349740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Element-lev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37" name=""/>
              <p:cNvCxnSpPr>
                <a:stCxn id="220" idx="2"/>
                <a:endCxn id="232" idx="0"/>
              </p:cNvCxnSpPr>
              <p:nvPr/>
            </p:nvCxnSpPr>
            <p:spPr>
              <a:xfrm flipH="1">
                <a:off x="2637720" y="3002040"/>
                <a:ext cx="384840" cy="496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38" name=""/>
              <p:cNvCxnSpPr>
                <a:stCxn id="220" idx="2"/>
                <a:endCxn id="235" idx="0"/>
              </p:cNvCxnSpPr>
              <p:nvPr/>
            </p:nvCxnSpPr>
            <p:spPr>
              <a:xfrm>
                <a:off x="3022560" y="3002040"/>
                <a:ext cx="1232280" cy="496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39" name=""/>
            <p:cNvSpPr/>
            <p:nvPr/>
          </p:nvSpPr>
          <p:spPr>
            <a:xfrm>
              <a:off x="1714680" y="1841400"/>
              <a:ext cx="583920" cy="266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89240" y="1650960"/>
              <a:ext cx="1613160" cy="4330800"/>
            </a:xfrm>
            <a:custGeom>
              <a:avLst/>
              <a:gdLst/>
              <a:ahLst/>
              <a:rect l="l" t="t" r="r" b="b"/>
              <a:pathLst>
                <a:path w="1016" h="2728">
                  <a:moveTo>
                    <a:pt x="1016" y="0"/>
                  </a:moveTo>
                  <a:lnTo>
                    <a:pt x="840" y="352"/>
                  </a:lnTo>
                  <a:lnTo>
                    <a:pt x="88" y="592"/>
                  </a:lnTo>
                  <a:lnTo>
                    <a:pt x="0" y="848"/>
                  </a:lnTo>
                  <a:lnTo>
                    <a:pt x="304" y="1112"/>
                  </a:lnTo>
                  <a:lnTo>
                    <a:pt x="656" y="1240"/>
                  </a:lnTo>
                  <a:lnTo>
                    <a:pt x="616" y="1640"/>
                  </a:lnTo>
                  <a:lnTo>
                    <a:pt x="456" y="2040"/>
                  </a:lnTo>
                  <a:lnTo>
                    <a:pt x="496" y="2264"/>
                  </a:lnTo>
                  <a:lnTo>
                    <a:pt x="624" y="2584"/>
                  </a:lnTo>
                  <a:lnTo>
                    <a:pt x="544" y="2728"/>
                  </a:ln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388200" y="3086280"/>
            <a:ext cx="2577960" cy="1335960"/>
            <a:chOff x="6388200" y="3086280"/>
            <a:chExt cx="2577960" cy="1335960"/>
          </a:xfrm>
        </p:grpSpPr>
        <p:sp>
          <p:nvSpPr>
            <p:cNvPr id="241" name=""/>
            <p:cNvSpPr/>
            <p:nvPr/>
          </p:nvSpPr>
          <p:spPr>
            <a:xfrm>
              <a:off x="6388200" y="3086280"/>
              <a:ext cx="257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euristic vs F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1560" y="396252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Implicit vs Explic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739880" y="3289320"/>
            <a:ext cx="4648320" cy="901800"/>
            <a:chOff x="1739880" y="3289320"/>
            <a:chExt cx="4648320" cy="901800"/>
          </a:xfrm>
        </p:grpSpPr>
        <p:sp>
          <p:nvSpPr>
            <p:cNvPr id="244" name=""/>
            <p:cNvSpPr/>
            <p:nvPr/>
          </p:nvSpPr>
          <p:spPr>
            <a:xfrm flipH="1" flipV="1">
              <a:off x="2222640" y="3289320"/>
              <a:ext cx="4140000" cy="63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739880" y="4191120"/>
              <a:ext cx="464832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98600" y="1434960"/>
            <a:ext cx="3302280" cy="1194120"/>
          </a:xfrm>
          <a:custGeom>
            <a:avLst/>
            <a:gdLst/>
            <a:ahLst/>
            <a:rect l="l" t="t" r="r" b="b"/>
            <a:pathLst>
              <a:path w="2080" h="752">
                <a:moveTo>
                  <a:pt x="152" y="736"/>
                </a:moveTo>
                <a:lnTo>
                  <a:pt x="1112" y="752"/>
                </a:lnTo>
                <a:lnTo>
                  <a:pt x="1328" y="608"/>
                </a:lnTo>
                <a:lnTo>
                  <a:pt x="1894" y="491"/>
                </a:lnTo>
                <a:lnTo>
                  <a:pt x="1963" y="482"/>
                </a:lnTo>
                <a:lnTo>
                  <a:pt x="2080" y="160"/>
                </a:lnTo>
                <a:lnTo>
                  <a:pt x="1272" y="32"/>
                </a:lnTo>
                <a:lnTo>
                  <a:pt x="392" y="0"/>
                </a:lnTo>
                <a:lnTo>
                  <a:pt x="0" y="440"/>
                </a:lnTo>
                <a:lnTo>
                  <a:pt x="152" y="7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1ACA-AF04-4E39-AC8A-119D1F9DE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chema-based Matching Approach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70160" y="1380960"/>
            <a:ext cx="6327720" cy="981000"/>
            <a:chOff x="2270160" y="1380960"/>
            <a:chExt cx="6327720" cy="981000"/>
          </a:xfrm>
        </p:grpSpPr>
        <p:sp>
          <p:nvSpPr>
            <p:cNvPr id="249" name=""/>
            <p:cNvSpPr/>
            <p:nvPr/>
          </p:nvSpPr>
          <p:spPr>
            <a:xfrm>
              <a:off x="2270160" y="1917720"/>
              <a:ext cx="2844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3300"/>
                  </a:solidFill>
                  <a:latin typeface="Arial Narrow"/>
                </a:rPr>
                <a:t>Heuristic Technique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80040" y="1898640"/>
              <a:ext cx="25178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993300"/>
                  </a:solidFill>
                  <a:latin typeface="Arial Narrow"/>
                </a:rPr>
                <a:t>Formal Technique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/>
            <p:nvPr/>
          </p:nvCxnSpPr>
          <p:spPr>
            <a:xfrm flipH="1">
              <a:off x="3628800" y="1380960"/>
              <a:ext cx="1940400" cy="563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"/>
            <p:cNvCxnSpPr>
              <a:endCxn id="250" idx="0"/>
            </p:cNvCxnSpPr>
            <p:nvPr/>
          </p:nvCxnSpPr>
          <p:spPr>
            <a:xfrm>
              <a:off x="5528880" y="1393920"/>
              <a:ext cx="1810440" cy="505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53" name=""/>
          <p:cNvGrpSpPr/>
          <p:nvPr/>
        </p:nvGrpSpPr>
        <p:grpSpPr>
          <a:xfrm>
            <a:off x="1197000" y="2341080"/>
            <a:ext cx="7899480" cy="920880"/>
            <a:chOff x="1197000" y="2341080"/>
            <a:chExt cx="7899480" cy="920880"/>
          </a:xfrm>
        </p:grpSpPr>
        <p:sp>
          <p:nvSpPr>
            <p:cNvPr id="254" name=""/>
            <p:cNvSpPr/>
            <p:nvPr/>
          </p:nvSpPr>
          <p:spPr>
            <a:xfrm>
              <a:off x="1197000" y="2832120"/>
              <a:ext cx="17366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 Narrow"/>
                </a:rPr>
                <a:t>Element</a:t>
              </a:r>
              <a:r>
                <a:rPr b="1" lang="it-IT" sz="2100" spc="-1" strike="noStrike">
                  <a:solidFill>
                    <a:srgbClr val="000000"/>
                  </a:solidFill>
                  <a:latin typeface="Arial Narrow"/>
                </a:rPr>
                <a:t>-lev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97640" y="2847960"/>
              <a:ext cx="1647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993300"/>
                  </a:solidFill>
                  <a:latin typeface="Arial Narrow"/>
                </a:rPr>
                <a:t>Element</a:t>
              </a:r>
              <a:r>
                <a:rPr b="1" lang="it-IT" sz="2100" spc="-1" strike="noStrike">
                  <a:solidFill>
                    <a:srgbClr val="993300"/>
                  </a:solidFill>
                  <a:latin typeface="Arial Narrow"/>
                </a:rPr>
                <a:t>-lev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84680" y="2841480"/>
              <a:ext cx="1762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00"/>
                  </a:solidFill>
                  <a:latin typeface="Arial Narrow"/>
                </a:rPr>
                <a:t>Structure-lev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69200" y="2832120"/>
              <a:ext cx="17272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993300"/>
                  </a:solidFill>
                  <a:latin typeface="Arial Narrow"/>
                </a:rPr>
                <a:t>Structure-leve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" name=""/>
            <p:cNvCxnSpPr>
              <a:stCxn id="249" idx="2"/>
              <a:endCxn id="254" idx="0"/>
            </p:cNvCxnSpPr>
            <p:nvPr/>
          </p:nvCxnSpPr>
          <p:spPr>
            <a:xfrm flipH="1">
              <a:off x="2064960" y="2360520"/>
              <a:ext cx="1627920" cy="472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"/>
            <p:cNvCxnSpPr>
              <a:stCxn id="249" idx="2"/>
              <a:endCxn id="256" idx="0"/>
            </p:cNvCxnSpPr>
            <p:nvPr/>
          </p:nvCxnSpPr>
          <p:spPr>
            <a:xfrm>
              <a:off x="3692160" y="2360520"/>
              <a:ext cx="973800" cy="481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"/>
            <p:cNvCxnSpPr>
              <a:stCxn id="250" idx="2"/>
              <a:endCxn id="255" idx="0"/>
            </p:cNvCxnSpPr>
            <p:nvPr/>
          </p:nvCxnSpPr>
          <p:spPr>
            <a:xfrm flipH="1">
              <a:off x="6420600" y="2341080"/>
              <a:ext cx="918360" cy="506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1" name=""/>
            <p:cNvCxnSpPr>
              <a:stCxn id="250" idx="2"/>
              <a:endCxn id="257" idx="0"/>
            </p:cNvCxnSpPr>
            <p:nvPr/>
          </p:nvCxnSpPr>
          <p:spPr>
            <a:xfrm>
              <a:off x="7338600" y="2341080"/>
              <a:ext cx="894600" cy="491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62" name=""/>
          <p:cNvGrpSpPr/>
          <p:nvPr/>
        </p:nvGrpSpPr>
        <p:grpSpPr>
          <a:xfrm>
            <a:off x="523800" y="3244320"/>
            <a:ext cx="8353440" cy="868680"/>
            <a:chOff x="523800" y="3244320"/>
            <a:chExt cx="8353440" cy="868680"/>
          </a:xfrm>
        </p:grpSpPr>
        <p:sp>
          <p:nvSpPr>
            <p:cNvPr id="263" name=""/>
            <p:cNvSpPr/>
            <p:nvPr/>
          </p:nvSpPr>
          <p:spPr>
            <a:xfrm>
              <a:off x="523800" y="3692520"/>
              <a:ext cx="952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000000"/>
                  </a:solidFill>
                  <a:latin typeface="Arial Narrow"/>
                </a:rPr>
                <a:t>Implici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11440" y="3699000"/>
              <a:ext cx="9525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993300"/>
                  </a:solidFill>
                  <a:latin typeface="Arial Narrow"/>
                </a:rPr>
                <a:t>Implici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44800" y="3699000"/>
              <a:ext cx="1054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993300"/>
                  </a:solidFill>
                  <a:latin typeface="Arial Narrow"/>
                </a:rPr>
                <a:t>Explici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42200" y="3686040"/>
              <a:ext cx="10792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993300"/>
                  </a:solidFill>
                  <a:latin typeface="Arial Narrow"/>
                </a:rPr>
                <a:t>Explici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85000" y="3664080"/>
              <a:ext cx="10922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993300"/>
                  </a:solidFill>
                  <a:latin typeface="Arial Narrow"/>
                </a:rPr>
                <a:t>Explici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0600" y="3695760"/>
              <a:ext cx="1104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100" spc="-1" strike="noStrike">
                  <a:solidFill>
                    <a:srgbClr val="993300"/>
                  </a:solidFill>
                  <a:latin typeface="Arial Narrow"/>
                </a:rPr>
                <a:t>Explicit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stCxn id="254" idx="2"/>
              <a:endCxn id="263" idx="0"/>
            </p:cNvCxnSpPr>
            <p:nvPr/>
          </p:nvCxnSpPr>
          <p:spPr>
            <a:xfrm flipH="1">
              <a:off x="999360" y="3244680"/>
              <a:ext cx="1065960" cy="448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"/>
            <p:cNvCxnSpPr>
              <a:stCxn id="265" idx="0"/>
              <a:endCxn id="254" idx="2"/>
            </p:cNvCxnSpPr>
            <p:nvPr/>
          </p:nvCxnSpPr>
          <p:spPr>
            <a:xfrm flipH="1" flipV="1">
              <a:off x="2064960" y="3244320"/>
              <a:ext cx="506880" cy="455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56" idx="2"/>
              <a:endCxn id="264" idx="0"/>
            </p:cNvCxnSpPr>
            <p:nvPr/>
          </p:nvCxnSpPr>
          <p:spPr>
            <a:xfrm flipH="1">
              <a:off x="3987000" y="3254040"/>
              <a:ext cx="678600" cy="445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2" name=""/>
            <p:cNvCxnSpPr>
              <a:stCxn id="256" idx="2"/>
              <a:endCxn id="268" idx="0"/>
            </p:cNvCxnSpPr>
            <p:nvPr/>
          </p:nvCxnSpPr>
          <p:spPr>
            <a:xfrm>
              <a:off x="4665240" y="3254400"/>
              <a:ext cx="957960" cy="442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"/>
            <p:cNvCxnSpPr>
              <a:stCxn id="255" idx="2"/>
              <a:endCxn id="266" idx="0"/>
            </p:cNvCxnSpPr>
            <p:nvPr/>
          </p:nvCxnSpPr>
          <p:spPr>
            <a:xfrm>
              <a:off x="6420960" y="3260520"/>
              <a:ext cx="561240" cy="425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4" name=""/>
            <p:cNvCxnSpPr>
              <a:stCxn id="257" idx="2"/>
              <a:endCxn id="267" idx="0"/>
            </p:cNvCxnSpPr>
            <p:nvPr/>
          </p:nvCxnSpPr>
          <p:spPr>
            <a:xfrm>
              <a:off x="8232480" y="3244320"/>
              <a:ext cx="99000" cy="42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-57240" y="4076280"/>
            <a:ext cx="8912160" cy="1100160"/>
            <a:chOff x="-57240" y="4076280"/>
            <a:chExt cx="8912160" cy="1100160"/>
          </a:xfrm>
        </p:grpSpPr>
        <p:sp>
          <p:nvSpPr>
            <p:cNvPr id="276" name=""/>
            <p:cNvSpPr/>
            <p:nvPr/>
          </p:nvSpPr>
          <p:spPr>
            <a:xfrm>
              <a:off x="-57240" y="452124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 Narrow"/>
                </a:rPr>
                <a:t>String-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33080" y="4076280"/>
              <a:ext cx="8421840" cy="1100160"/>
              <a:chOff x="433080" y="4076280"/>
              <a:chExt cx="8421840" cy="1100160"/>
            </a:xfrm>
          </p:grpSpPr>
          <p:sp>
            <p:nvSpPr>
              <p:cNvPr id="278" name=""/>
              <p:cNvSpPr/>
              <p:nvPr/>
            </p:nvSpPr>
            <p:spPr>
              <a:xfrm>
                <a:off x="3556080" y="4524480"/>
                <a:ext cx="120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000000"/>
                    </a:solidFill>
                    <a:latin typeface="Arial Narrow"/>
                  </a:rPr>
                  <a:t>Constraint-bas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02120" y="4533840"/>
                <a:ext cx="133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993300"/>
                    </a:solidFill>
                    <a:latin typeface="Arial Narrow"/>
                  </a:rPr>
                  <a:t>  </a:t>
                </a:r>
                <a:r>
                  <a:rPr b="1" lang="it-IT" sz="1800" spc="-1" strike="noStrike">
                    <a:solidFill>
                      <a:srgbClr val="993300"/>
                    </a:solidFill>
                    <a:latin typeface="Arial Narrow"/>
                  </a:rPr>
                  <a:t>Constraint-bas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433080" y="4076280"/>
                <a:ext cx="8421840" cy="1084320"/>
                <a:chOff x="433080" y="4076280"/>
                <a:chExt cx="8421840" cy="1084320"/>
              </a:xfrm>
            </p:grpSpPr>
            <p:cxnSp>
              <p:nvCxnSpPr>
                <p:cNvPr id="281" name=""/>
                <p:cNvCxnSpPr>
                  <a:stCxn id="264" idx="2"/>
                  <a:endCxn id="278" idx="0"/>
                </p:cNvCxnSpPr>
                <p:nvPr/>
              </p:nvCxnSpPr>
              <p:spPr>
                <a:xfrm>
                  <a:off x="3987360" y="4111200"/>
                  <a:ext cx="173880" cy="4136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82" name=""/>
                <p:cNvSpPr/>
                <p:nvPr/>
              </p:nvSpPr>
              <p:spPr>
                <a:xfrm>
                  <a:off x="873000" y="4518000"/>
                  <a:ext cx="1222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Arial Narrow"/>
                    </a:rPr>
                    <a:t>Constraint-bas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968480" y="4518000"/>
                  <a:ext cx="14954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993300"/>
                      </a:solidFill>
                      <a:latin typeface="Arial Narrow"/>
                    </a:rPr>
                    <a:t>Auxiliary Inform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89560" y="4511520"/>
                  <a:ext cx="1209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000000"/>
                      </a:solidFill>
                      <a:latin typeface="Arial Narrow"/>
                    </a:rPr>
                    <a:t>  </a:t>
                  </a:r>
                  <a:r>
                    <a:rPr b="1" lang="it-IT" sz="1800" spc="-1" strike="noStrike">
                      <a:solidFill>
                        <a:srgbClr val="993300"/>
                      </a:solidFill>
                      <a:latin typeface="Arial Narrow"/>
                    </a:rPr>
                    <a:t>Ontology-bas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645320" y="4514760"/>
                  <a:ext cx="1209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800" spc="-1" strike="noStrike">
                      <a:solidFill>
                        <a:srgbClr val="993300"/>
                      </a:solidFill>
                      <a:latin typeface="Arial Narrow"/>
                    </a:rPr>
                    <a:t>  </a:t>
                  </a:r>
                  <a:r>
                    <a:rPr b="1" lang="it-IT" sz="1800" spc="-1" strike="noStrike">
                      <a:solidFill>
                        <a:srgbClr val="993300"/>
                      </a:solidFill>
                      <a:latin typeface="Arial Narrow"/>
                    </a:rPr>
                    <a:t>Reasoner-bas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86" name=""/>
                <p:cNvCxnSpPr>
                  <a:stCxn id="263" idx="2"/>
                  <a:endCxn id="276" idx="0"/>
                </p:cNvCxnSpPr>
                <p:nvPr/>
              </p:nvCxnSpPr>
              <p:spPr>
                <a:xfrm flipH="1">
                  <a:off x="433080" y="4105080"/>
                  <a:ext cx="567360" cy="41652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7" name=""/>
                <p:cNvCxnSpPr>
                  <a:stCxn id="263" idx="2"/>
                  <a:endCxn id="282" idx="0"/>
                </p:cNvCxnSpPr>
                <p:nvPr/>
              </p:nvCxnSpPr>
              <p:spPr>
                <a:xfrm>
                  <a:off x="999720" y="4105440"/>
                  <a:ext cx="484920" cy="41328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8" name=""/>
                <p:cNvCxnSpPr>
                  <a:stCxn id="265" idx="2"/>
                  <a:endCxn id="283" idx="0"/>
                </p:cNvCxnSpPr>
                <p:nvPr/>
              </p:nvCxnSpPr>
              <p:spPr>
                <a:xfrm>
                  <a:off x="2571480" y="4111200"/>
                  <a:ext cx="144720" cy="40716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89" name=""/>
                <p:cNvCxnSpPr>
                  <a:endCxn id="279" idx="0"/>
                </p:cNvCxnSpPr>
                <p:nvPr/>
              </p:nvCxnSpPr>
              <p:spPr>
                <a:xfrm flipH="1">
                  <a:off x="5569920" y="4108320"/>
                  <a:ext cx="52920" cy="4262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0" name=""/>
                <p:cNvCxnSpPr/>
                <p:nvPr/>
              </p:nvCxnSpPr>
              <p:spPr>
                <a:xfrm flipH="1">
                  <a:off x="6868440" y="4098960"/>
                  <a:ext cx="113400" cy="465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91" name=""/>
                <p:cNvCxnSpPr>
                  <a:stCxn id="267" idx="2"/>
                  <a:endCxn id="285" idx="0"/>
                </p:cNvCxnSpPr>
                <p:nvPr/>
              </p:nvCxnSpPr>
              <p:spPr>
                <a:xfrm flipH="1">
                  <a:off x="8249760" y="4076280"/>
                  <a:ext cx="81360" cy="438840"/>
                </a:xfrm>
                <a:prstGeom prst="straightConnector1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</p:grpSp>
        </p:grpSp>
      </p:grpSp>
      <p:grpSp>
        <p:nvGrpSpPr>
          <p:cNvPr id="292" name=""/>
          <p:cNvGrpSpPr/>
          <p:nvPr/>
        </p:nvGrpSpPr>
        <p:grpSpPr>
          <a:xfrm>
            <a:off x="41400" y="5280120"/>
            <a:ext cx="9118440" cy="1172160"/>
            <a:chOff x="41400" y="5280120"/>
            <a:chExt cx="9118440" cy="1172160"/>
          </a:xfrm>
        </p:grpSpPr>
        <p:sp>
          <p:nvSpPr>
            <p:cNvPr id="293" name=""/>
            <p:cNvSpPr/>
            <p:nvPr/>
          </p:nvSpPr>
          <p:spPr>
            <a:xfrm>
              <a:off x="41400" y="5305320"/>
              <a:ext cx="11808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Na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Descri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08080" y="5311800"/>
              <a:ext cx="1012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Type  simi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85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Key prope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25520" y="5308560"/>
              <a:ext cx="11779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 Precompiled dictio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Lexic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60840" y="5283360"/>
              <a:ext cx="100008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SzPct val="80000"/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Graph match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SzPct val="80000"/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Child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SzPct val="80000"/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Lea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0120" y="5283360"/>
              <a:ext cx="112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Taxonomic struc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91440" y="5280120"/>
              <a:ext cx="100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- OWL proper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6880" y="5286240"/>
              <a:ext cx="15429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 Propositional S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85680" indent="-856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400" spc="-1" strike="noStrike">
                  <a:solidFill>
                    <a:srgbClr val="000000"/>
                  </a:solidFill>
                  <a:latin typeface="Arial Narrow"/>
                </a:rPr>
                <a:t>-</a:t>
              </a:r>
              <a:r>
                <a:rPr b="1" i="1" lang="it-IT" sz="1400" spc="-1" strike="noStrike">
                  <a:solidFill>
                    <a:srgbClr val="000000"/>
                  </a:solidFill>
                  <a:latin typeface="Arial Narrow"/>
                </a:rPr>
                <a:t> Modal S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93B4-9268-48B9-99C7-E8883EDFD9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Heuristic Techniqu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2240" y="1752480"/>
            <a:ext cx="895176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Element-level explicit techniqu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recompiled dictionary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Cupid, CO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.g., syn key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- "NKN:Nikon = syn“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Lexicon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S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-Match, CTXmatc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.g., WordNet: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Camera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s a hypernym for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Digital Camera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refore, 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Digital_Camera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Photo_and_Cam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Structure-level explicit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axonomic structur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Anchor-Prompt, NOM)</a:t>
            </a: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.g., Given that 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Digital_Camera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Symbol"/>
                <a:ea typeface="Symbol"/>
              </a:rPr>
              <a:t>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Photo_and_Camera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then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FJFL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FujiFilm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can be found as an appropriate ma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6" action="ppaction://hlinksldjump"/>
          </p:cNvPr>
          <p:cNvSpPr/>
          <p:nvPr/>
        </p:nvSpPr>
        <p:spPr>
          <a:xfrm>
            <a:off x="0" y="618660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7180-9B42-4C99-812F-345D89724A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rmal Techniqu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618660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73120" y="1549440"/>
            <a:ext cx="8570880" cy="1655640"/>
            <a:chOff x="573120" y="1549440"/>
            <a:chExt cx="8570880" cy="1655640"/>
          </a:xfrm>
        </p:grpSpPr>
        <p:sp>
          <p:nvSpPr>
            <p:cNvPr id="306" name=""/>
            <p:cNvSpPr/>
            <p:nvPr/>
          </p:nvSpPr>
          <p:spPr>
            <a:xfrm>
              <a:off x="573120" y="1549440"/>
              <a:ext cx="857088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152280" indent="-15228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484"/>
                  </a:solidFill>
                  <a:latin typeface="Arial"/>
                </a:rPr>
                <a:t>Element-level explicit technique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52640">
                <a:lnSpc>
                  <a:spcPct val="90000"/>
                </a:lnSpc>
                <a:spcBef>
                  <a:spcPts val="451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484"/>
                  </a:solidFill>
                  <a:latin typeface="Arial"/>
                </a:rPr>
                <a:t>OWL properties 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(NO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5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US" sz="17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E.g., </a:t>
              </a:r>
              <a:r>
                <a:rPr b="1" i="1" lang="en-US" sz="1800" spc="-1" strike="noStrike">
                  <a:solidFill>
                    <a:srgbClr val="777777"/>
                  </a:solidFill>
                  <a:latin typeface="Arial"/>
                </a:rPr>
                <a:t>sameClassAs</a:t>
              </a: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 constructor explicitly states that one class is </a:t>
              </a: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equivalent to the 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526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	</a:t>
              </a:r>
              <a:r>
                <a:rPr b="1" lang="es-ES" sz="1800" spc="-1" strike="noStrike">
                  <a:solidFill>
                    <a:srgbClr val="777777"/>
                  </a:solidFill>
                  <a:latin typeface="Arial"/>
                </a:rPr>
                <a:t>Digital_Cameras = Camera    DigitalPhoto_Producer</a:t>
              </a:r>
              <a:r>
                <a:rPr b="1" lang="en-US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5264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indent="-1526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4559040" y="2957400"/>
              <a:ext cx="112680" cy="145440"/>
              <a:chOff x="4559040" y="2957400"/>
              <a:chExt cx="112680" cy="145440"/>
            </a:xfrm>
          </p:grpSpPr>
          <p:sp>
            <p:nvSpPr>
              <p:cNvPr id="308" name=""/>
              <p:cNvSpPr/>
              <p:nvPr/>
            </p:nvSpPr>
            <p:spPr>
              <a:xfrm flipV="1">
                <a:off x="4671720" y="2958120"/>
                <a:ext cx="0" cy="14184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4559040" y="2958120"/>
                <a:ext cx="0" cy="14472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559760" y="2957400"/>
                <a:ext cx="106920" cy="72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596880" y="3619440"/>
            <a:ext cx="854712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0520" y="3309840"/>
            <a:ext cx="8596080" cy="31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82520" indent="-18252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Structure-level explicit techniqu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ropositional satisfiability (SAT)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S-Match, CTXmat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approach is to translate the matching problem, namely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two graphs (trees) and mapping queries into propositional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ormula and then to check it for its val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Modal SA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S-Match)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he idea is to enhance propositional logics with modal logic (or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LC DL)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operators. Therefore, the matching problem is translated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into a modal logic formula which is further checked for its validity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using sound and complete satisfiability search procedu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864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C9E3-4D7C-4E7B-84D6-BB0B2EB627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921240"/>
            <a:ext cx="71629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3640" y="2768760"/>
            <a:ext cx="79642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00" indent="-324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tch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00F5-ACA7-49E4-812C-1587971E18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haracteristics of state of the art matchers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11360" y="19810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1003320"/>
            <a:ext cx="7772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35040" y="1368360"/>
            <a:ext cx="8547120" cy="548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2CC6-E4A0-47AD-A1BD-6EBCF1BEA5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1360" y="198108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990720"/>
            <a:ext cx="7772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es of Class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1360" y="1422360"/>
            <a:ext cx="782316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e classification proposed provides a common conceptual basis, and hence can be used for comparing (analytically) different existing schema/ontology matching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t can help in designing a new matching system, or an elementary matcher, taking advantages of state of the art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F3C4-F027-42CB-971A-5E53A8A992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8762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11360" y="1422000"/>
            <a:ext cx="7912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rovide a more detailed view on the general properties of matching algorithm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dd to the classification language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based techniques, e.g., tokenization, lemmatization, elimination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Extend classification by taking into account  DL-based matchmaking solution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Extend classification by adding new appearing matching techniques and systems implementing them, e.g., OLA, QOM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Compare matching systems also experimentally, with the help of benchmark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F90D-BBD3-46CF-9DE1-68E990476B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8762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9440" y="1625760"/>
            <a:ext cx="839628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Knowledge Web project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: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knowledgeweb.semanticweb.org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/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roject website at DIT - ACCORD: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dit.unitn.it/~accord/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P. Shvaiko: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A classification of schema-based matching approaches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 Technical Report, DIT-04-93, University of Trento, 2004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E. Rahm, P. Bernstein: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A survey of approaches to automatic schema matching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 In Very Large Databases Journal, 10(4):334-350, 2001.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F. Giunchiglia, P.Shvaiko: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 In The Knowledge Engineering Review Journal, 18(3):265-280, 2003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. Bouquet, L. Serafini, S. Zanobini: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emantic coordination: a new approach and an application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. In Proceedings of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ISWC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130-145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2003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69DD-914C-4FB2-BF82-7FB6BF9DF4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6880" y="1765440"/>
            <a:ext cx="854712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assification of schema-based matching approach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Matching system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Future work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59A9C-49AC-40C7-94E3-26210A0513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193760" y="1600200"/>
            <a:ext cx="7228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495B-86CA-4545-B80F-90DDCF6F7F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5864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DDB3-58F4-4E0A-BB71-427CA3E529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Web and the Match operator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360" y="1803240"/>
            <a:ext cx="80373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tion source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(e.g., database schemas, taxonomies or ontologies) can be viewed a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-like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structures containing terms and their inter-relationsh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is one of the key operators for enabling the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Semantic Web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since it takes two graph-like structures and produces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ping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between the nodes of the graphs that “correspond” semantically to each o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0DB7-69A5-450F-82F4-4FDF5EE891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xample: Two XML schema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13000" y="1846440"/>
            <a:ext cx="7731000" cy="35193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3556080" y="2235240"/>
            <a:ext cx="3556080" cy="2705040"/>
            <a:chOff x="3556080" y="2235240"/>
            <a:chExt cx="3556080" cy="2705040"/>
          </a:xfrm>
        </p:grpSpPr>
        <p:sp>
          <p:nvSpPr>
            <p:cNvPr id="117" name=""/>
            <p:cNvSpPr/>
            <p:nvPr/>
          </p:nvSpPr>
          <p:spPr>
            <a:xfrm>
              <a:off x="3898800" y="4483080"/>
              <a:ext cx="2438640" cy="4572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22760" y="3759120"/>
              <a:ext cx="1333440" cy="21600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83080" y="2235240"/>
              <a:ext cx="2629080" cy="38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56080" y="3962520"/>
              <a:ext cx="302256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08360" y="4241880"/>
              <a:ext cx="2755800" cy="2160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355680" y="5067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368280" y="55119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3933-20F0-42C2-B79A-4563E9777B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chema matching vs Ontology alignment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4640" y="13986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Database schemas often do not provide explicit semantics for their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Ontologies are logical systems that themselves incorporate semantics (intuitive or f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E.g., ontology definitions as a set of logical axi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Ontology data models are richer (the number of primitives is higher, and they are more complex) then schema data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E.g., OWL allows defining new classes as unions or   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intersections of other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mmonaliti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484"/>
                </a:solidFill>
                <a:latin typeface="Arial"/>
              </a:rPr>
              <a:t>Ontologies can be viewed as schemas for knowledge 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Techniques developed for both problems are of a mutual 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FE0C-88B6-4B11-93AF-E007B83EDC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tching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397160" y="3162240"/>
            <a:ext cx="7200720" cy="3198960"/>
            <a:chOff x="1397160" y="3162240"/>
            <a:chExt cx="7200720" cy="3198960"/>
          </a:xfrm>
        </p:grpSpPr>
        <p:sp>
          <p:nvSpPr>
            <p:cNvPr id="128" name=""/>
            <p:cNvSpPr/>
            <p:nvPr/>
          </p:nvSpPr>
          <p:spPr>
            <a:xfrm>
              <a:off x="3594240" y="4165560"/>
              <a:ext cx="290808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78160" y="3162240"/>
              <a:ext cx="0" cy="965160"/>
            </a:xfrm>
            <a:prstGeom prst="line">
              <a:avLst/>
            </a:prstGeom>
            <a:ln w="28440">
              <a:solidFill>
                <a:srgbClr val="008484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178160" y="5346360"/>
              <a:ext cx="0" cy="965160"/>
            </a:xfrm>
            <a:prstGeom prst="line">
              <a:avLst/>
            </a:prstGeom>
            <a:ln w="28440">
              <a:solidFill>
                <a:srgbClr val="008484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84480" y="3759120"/>
              <a:ext cx="1346040" cy="673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260440" y="4965840"/>
              <a:ext cx="1244880" cy="761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7880" y="4724280"/>
              <a:ext cx="11556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1880" y="4699080"/>
              <a:ext cx="1333440" cy="0"/>
            </a:xfrm>
            <a:prstGeom prst="line">
              <a:avLst/>
            </a:prstGeom>
            <a:ln w="2844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97160" y="4495680"/>
              <a:ext cx="69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{M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97960" y="4495680"/>
              <a:ext cx="79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{M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  <a:ea typeface="Arial"/>
                </a:rPr>
                <a:t>'</a:t>
              </a: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41880" y="3162240"/>
              <a:ext cx="3327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484"/>
                  </a:solidFill>
                  <a:latin typeface="Arial"/>
                </a:rPr>
                <a:t>Param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484"/>
                  </a:solidFill>
                  <a:latin typeface="Arial"/>
                </a:rPr>
                <a:t>(e.g., weights, threshold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29280" y="5803920"/>
              <a:ext cx="33271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484"/>
                  </a:solidFill>
                  <a:latin typeface="Arial"/>
                </a:rPr>
                <a:t>Auxiliary Infor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484"/>
                  </a:solidFill>
                  <a:latin typeface="Arial"/>
                </a:rPr>
                <a:t>(e.g., lexicons, thesaur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60520" y="34797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6080" y="553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2080" y="4521240"/>
              <a:ext cx="25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49160" y="1650960"/>
            <a:ext cx="7048800" cy="1327680"/>
            <a:chOff x="749160" y="1650960"/>
            <a:chExt cx="7048800" cy="1327680"/>
          </a:xfrm>
        </p:grpSpPr>
        <p:sp>
          <p:nvSpPr>
            <p:cNvPr id="143" name=""/>
            <p:cNvSpPr/>
            <p:nvPr/>
          </p:nvSpPr>
          <p:spPr>
            <a:xfrm>
              <a:off x="749160" y="1650960"/>
              <a:ext cx="7048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pping element, M</a:t>
              </a:r>
              <a:r>
                <a:rPr b="0" lang="en-US" sz="20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8484"/>
                  </a:solidFill>
                  <a:latin typeface="Arial"/>
                </a:rPr>
                <a:t>is a 5-tuple </a:t>
              </a: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&lt; ID, e</a:t>
              </a:r>
              <a:r>
                <a:rPr b="1" lang="en-US" sz="1600" spc="-1" strike="noStrike">
                  <a:solidFill>
                    <a:srgbClr val="777777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, e</a:t>
              </a:r>
              <a:r>
                <a:rPr b="1" lang="en-US" sz="1600" spc="-1" strike="noStrike">
                  <a:solidFill>
                    <a:srgbClr val="777777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, n, R 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n = {x</a:t>
              </a:r>
              <a:r>
                <a:rPr b="1" lang="en-US" sz="20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</a:t>
              </a: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[0,1]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41400" y="2579760"/>
              <a:ext cx="3333600" cy="398880"/>
              <a:chOff x="941400" y="2579760"/>
              <a:chExt cx="3333600" cy="398880"/>
            </a:xfrm>
          </p:grpSpPr>
          <p:sp>
            <p:nvSpPr>
              <p:cNvPr id="145" name=""/>
              <p:cNvSpPr/>
              <p:nvPr/>
            </p:nvSpPr>
            <p:spPr>
              <a:xfrm>
                <a:off x="941400" y="2579760"/>
                <a:ext cx="333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77777"/>
                    </a:solidFill>
                    <a:latin typeface="Arial"/>
                  </a:rPr>
                  <a:t>R = { =,     ,     , </a:t>
                </a:r>
                <a:r>
                  <a:rPr b="1" lang="en-US" sz="2000" spc="-1" strike="noStrike">
                    <a:solidFill>
                      <a:srgbClr val="777777"/>
                    </a:solidFill>
                    <a:latin typeface="Symbol"/>
                    <a:ea typeface="Symbol"/>
                  </a:rPr>
                  <a:t></a:t>
                </a:r>
                <a:r>
                  <a:rPr b="1" lang="en-US" sz="2000" spc="-1" strike="noStrike">
                    <a:solidFill>
                      <a:srgbClr val="777777"/>
                    </a:solidFill>
                    <a:latin typeface="Arial"/>
                  </a:rPr>
                  <a:t>,     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982880" y="2730240"/>
                <a:ext cx="153720" cy="149400"/>
                <a:chOff x="1982880" y="2730240"/>
                <a:chExt cx="153720" cy="14940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1982880" y="2730240"/>
                  <a:ext cx="153360" cy="98280"/>
                  <a:chOff x="1982880" y="2730240"/>
                  <a:chExt cx="153360" cy="982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1985760" y="2828520"/>
                    <a:ext cx="14940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982880" y="2730240"/>
                    <a:ext cx="15264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2135520" y="2730960"/>
                    <a:ext cx="720" cy="9324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1982880" y="2879640"/>
                  <a:ext cx="15372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112200" y="2712600"/>
                <a:ext cx="153360" cy="177840"/>
                <a:chOff x="3112200" y="2712600"/>
                <a:chExt cx="153360" cy="177840"/>
              </a:xfrm>
            </p:grpSpPr>
            <p:sp>
              <p:nvSpPr>
                <p:cNvPr id="153" name=""/>
                <p:cNvSpPr/>
                <p:nvPr/>
              </p:nvSpPr>
              <p:spPr>
                <a:xfrm flipV="1">
                  <a:off x="3265560" y="2714400"/>
                  <a:ext cx="0" cy="17604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112920" y="2714400"/>
                  <a:ext cx="0" cy="17604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3112200" y="2712600"/>
                  <a:ext cx="149400" cy="180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390760" y="2730600"/>
                <a:ext cx="154080" cy="152280"/>
                <a:chOff x="2390760" y="2730600"/>
                <a:chExt cx="154080" cy="15228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2391120" y="2730600"/>
                  <a:ext cx="153720" cy="98280"/>
                  <a:chOff x="2391120" y="2730600"/>
                  <a:chExt cx="153720" cy="982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>
                    <a:off x="2392200" y="2730600"/>
                    <a:ext cx="14976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>
                    <a:off x="2391840" y="2828880"/>
                    <a:ext cx="15300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flipV="1">
                    <a:off x="2391120" y="2734920"/>
                    <a:ext cx="720" cy="9324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" name=""/>
                <p:cNvSpPr/>
                <p:nvPr/>
              </p:nvSpPr>
              <p:spPr>
                <a:xfrm flipH="1">
                  <a:off x="2390760" y="2882880"/>
                  <a:ext cx="15408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454D-0A12-42A3-AE5B-7511A962A3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35864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43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assification of Schema-based Matching Approach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3A3F-0970-43EE-9223-CD89F50FFE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chema matching approach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793880" y="1592280"/>
            <a:ext cx="4260960" cy="1374120"/>
            <a:chOff x="1793880" y="1592280"/>
            <a:chExt cx="4260960" cy="1374120"/>
          </a:xfrm>
        </p:grpSpPr>
        <p:sp>
          <p:nvSpPr>
            <p:cNvPr id="166" name=""/>
            <p:cNvSpPr/>
            <p:nvPr/>
          </p:nvSpPr>
          <p:spPr>
            <a:xfrm>
              <a:off x="2702160" y="15922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ndividual match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793880" y="2049480"/>
              <a:ext cx="4260960" cy="916920"/>
              <a:chOff x="1793880" y="2049480"/>
              <a:chExt cx="4260960" cy="916920"/>
            </a:xfrm>
          </p:grpSpPr>
          <p:sp>
            <p:nvSpPr>
              <p:cNvPr id="168" name=""/>
              <p:cNvSpPr/>
              <p:nvPr/>
            </p:nvSpPr>
            <p:spPr>
              <a:xfrm>
                <a:off x="1793880" y="2506680"/>
                <a:ext cx="197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Schema-ba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49720" y="250668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Instance-bas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0" name=""/>
              <p:cNvCxnSpPr>
                <a:stCxn id="166" idx="2"/>
                <a:endCxn id="168" idx="0"/>
              </p:cNvCxnSpPr>
              <p:nvPr/>
            </p:nvCxnSpPr>
            <p:spPr>
              <a:xfrm flipH="1">
                <a:off x="2781000" y="2049480"/>
                <a:ext cx="1102320" cy="457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171" name=""/>
              <p:cNvCxnSpPr>
                <a:stCxn id="166" idx="2"/>
                <a:endCxn id="169" idx="0"/>
              </p:cNvCxnSpPr>
              <p:nvPr/>
            </p:nvCxnSpPr>
            <p:spPr>
              <a:xfrm>
                <a:off x="3882600" y="2049480"/>
                <a:ext cx="1220040" cy="4579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172" name=""/>
          <p:cNvGrpSpPr/>
          <p:nvPr/>
        </p:nvGrpSpPr>
        <p:grpSpPr>
          <a:xfrm>
            <a:off x="1025640" y="3916080"/>
            <a:ext cx="6414480" cy="1944360"/>
            <a:chOff x="1025640" y="3916080"/>
            <a:chExt cx="6414480" cy="1944360"/>
          </a:xfrm>
        </p:grpSpPr>
        <p:grpSp>
          <p:nvGrpSpPr>
            <p:cNvPr id="173" name=""/>
            <p:cNvGrpSpPr/>
            <p:nvPr/>
          </p:nvGrpSpPr>
          <p:grpSpPr>
            <a:xfrm>
              <a:off x="1025640" y="4284720"/>
              <a:ext cx="6414480" cy="1575720"/>
              <a:chOff x="1025640" y="4284720"/>
              <a:chExt cx="6414480" cy="1575720"/>
            </a:xfrm>
          </p:grpSpPr>
          <p:sp>
            <p:nvSpPr>
              <p:cNvPr id="174" name=""/>
              <p:cNvSpPr/>
              <p:nvPr/>
            </p:nvSpPr>
            <p:spPr>
              <a:xfrm>
                <a:off x="3585960" y="4943520"/>
                <a:ext cx="112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Graph match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025640" y="4360680"/>
                <a:ext cx="131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Linguistic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09680" y="4284720"/>
                <a:ext cx="1258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Constraint-bas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39800" y="4943520"/>
                <a:ext cx="875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Typ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Key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27760" y="4943520"/>
                <a:ext cx="151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Value pattern and rang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02200" y="4284720"/>
                <a:ext cx="1186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Constraint-bas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11760" y="4360680"/>
                <a:ext cx="115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Linguistic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4800" y="4943520"/>
                <a:ext cx="1411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IR (word frequencies, key term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85880" y="4284720"/>
                <a:ext cx="1211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Constraint-bas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171440" y="4943520"/>
                <a:ext cx="138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Na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14480" indent="-114480">
                  <a:lnSpc>
                    <a:spcPct val="100000"/>
                  </a:lnSpc>
                  <a:buClr>
                    <a:srgbClr val="000000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 Narrow"/>
                  </a:rPr>
                  <a:t>Descrip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4" name=""/>
            <p:cNvCxnSpPr>
              <a:stCxn id="185" idx="2"/>
              <a:endCxn id="175" idx="0"/>
            </p:cNvCxnSpPr>
            <p:nvPr/>
          </p:nvCxnSpPr>
          <p:spPr>
            <a:xfrm flipH="1">
              <a:off x="1682280" y="3916440"/>
              <a:ext cx="524160" cy="44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85" idx="2"/>
              <a:endCxn id="176" idx="0"/>
            </p:cNvCxnSpPr>
            <p:nvPr/>
          </p:nvCxnSpPr>
          <p:spPr>
            <a:xfrm>
              <a:off x="2206440" y="3916080"/>
              <a:ext cx="63324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8" idx="2"/>
              <a:endCxn id="182" idx="0"/>
            </p:cNvCxnSpPr>
            <p:nvPr/>
          </p:nvCxnSpPr>
          <p:spPr>
            <a:xfrm>
              <a:off x="4082760" y="3916080"/>
              <a:ext cx="100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90" idx="2"/>
              <a:endCxn id="180" idx="0"/>
            </p:cNvCxnSpPr>
            <p:nvPr/>
          </p:nvCxnSpPr>
          <p:spPr>
            <a:xfrm flipH="1">
              <a:off x="5388480" y="3916440"/>
              <a:ext cx="495720" cy="444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90" idx="2"/>
              <a:endCxn id="179" idx="0"/>
            </p:cNvCxnSpPr>
            <p:nvPr/>
          </p:nvCxnSpPr>
          <p:spPr>
            <a:xfrm>
              <a:off x="5884200" y="3916080"/>
              <a:ext cx="61164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92" name=""/>
          <p:cNvGrpSpPr/>
          <p:nvPr/>
        </p:nvGrpSpPr>
        <p:grpSpPr>
          <a:xfrm>
            <a:off x="1406520" y="2963520"/>
            <a:ext cx="5438880" cy="955440"/>
            <a:chOff x="1406520" y="2963520"/>
            <a:chExt cx="5438880" cy="955440"/>
          </a:xfrm>
        </p:grpSpPr>
        <p:sp>
          <p:nvSpPr>
            <p:cNvPr id="188" name=""/>
            <p:cNvSpPr/>
            <p:nvPr/>
          </p:nvSpPr>
          <p:spPr>
            <a:xfrm>
              <a:off x="3076560" y="3459240"/>
              <a:ext cx="187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tructure-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06520" y="34592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lement-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7040" y="3446640"/>
              <a:ext cx="19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lement-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" name=""/>
            <p:cNvCxnSpPr>
              <a:stCxn id="168" idx="2"/>
              <a:endCxn id="185" idx="0"/>
            </p:cNvCxnSpPr>
            <p:nvPr/>
          </p:nvCxnSpPr>
          <p:spPr>
            <a:xfrm flipH="1">
              <a:off x="2396520" y="2963880"/>
              <a:ext cx="384840" cy="49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68" idx="2"/>
              <a:endCxn id="188" idx="0"/>
            </p:cNvCxnSpPr>
            <p:nvPr/>
          </p:nvCxnSpPr>
          <p:spPr>
            <a:xfrm>
              <a:off x="2781360" y="2963880"/>
              <a:ext cx="1232280" cy="49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"/>
            <p:cNvCxnSpPr>
              <a:stCxn id="169" idx="2"/>
              <a:endCxn id="190" idx="0"/>
            </p:cNvCxnSpPr>
            <p:nvPr/>
          </p:nvCxnSpPr>
          <p:spPr>
            <a:xfrm>
              <a:off x="5101920" y="2963520"/>
              <a:ext cx="789480" cy="483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96" name=""/>
          <p:cNvSpPr/>
          <p:nvPr/>
        </p:nvSpPr>
        <p:spPr>
          <a:xfrm>
            <a:off x="5931000" y="1592280"/>
            <a:ext cx="24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bined ma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006960" y="2049480"/>
            <a:ext cx="3352680" cy="2211840"/>
            <a:chOff x="6006960" y="2049480"/>
            <a:chExt cx="3352680" cy="2211840"/>
          </a:xfrm>
        </p:grpSpPr>
        <p:sp>
          <p:nvSpPr>
            <p:cNvPr id="198" name=""/>
            <p:cNvSpPr/>
            <p:nvPr/>
          </p:nvSpPr>
          <p:spPr>
            <a:xfrm>
              <a:off x="7911720" y="355752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automatic com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5920" y="2506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Compos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2760" y="332892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manual com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06960" y="2506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ybr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"/>
            <p:cNvCxnSpPr>
              <a:stCxn id="196" idx="2"/>
              <a:endCxn id="201" idx="0"/>
            </p:cNvCxnSpPr>
            <p:nvPr/>
          </p:nvCxnSpPr>
          <p:spPr>
            <a:xfrm flipH="1">
              <a:off x="6501600" y="2049480"/>
              <a:ext cx="672120" cy="4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6" idx="2"/>
              <a:endCxn id="199" idx="0"/>
            </p:cNvCxnSpPr>
            <p:nvPr/>
          </p:nvCxnSpPr>
          <p:spPr>
            <a:xfrm>
              <a:off x="7173720" y="2049480"/>
              <a:ext cx="776880" cy="457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9" idx="2"/>
              <a:endCxn id="200" idx="0"/>
            </p:cNvCxnSpPr>
            <p:nvPr/>
          </p:nvCxnSpPr>
          <p:spPr>
            <a:xfrm flipH="1">
              <a:off x="7339680" y="2963880"/>
              <a:ext cx="610200" cy="365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9" idx="2"/>
              <a:endCxn id="198" idx="0"/>
            </p:cNvCxnSpPr>
            <p:nvPr/>
          </p:nvCxnSpPr>
          <p:spPr>
            <a:xfrm>
              <a:off x="7949520" y="2963520"/>
              <a:ext cx="686520" cy="59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1288440" y="5981760"/>
            <a:ext cx="646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axonomy from [E. Rahm, P. Bernstein,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2001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3120" y="1803240"/>
            <a:ext cx="584280" cy="266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8040" y="1612800"/>
            <a:ext cx="1612800" cy="4330800"/>
          </a:xfrm>
          <a:custGeom>
            <a:avLst/>
            <a:gdLst/>
            <a:ahLst/>
            <a:rect l="l" t="t" r="r" b="b"/>
            <a:pathLst>
              <a:path w="1016" h="2728">
                <a:moveTo>
                  <a:pt x="1016" y="0"/>
                </a:moveTo>
                <a:lnTo>
                  <a:pt x="840" y="352"/>
                </a:lnTo>
                <a:lnTo>
                  <a:pt x="88" y="592"/>
                </a:lnTo>
                <a:lnTo>
                  <a:pt x="0" y="848"/>
                </a:lnTo>
                <a:lnTo>
                  <a:pt x="304" y="1112"/>
                </a:lnTo>
                <a:lnTo>
                  <a:pt x="656" y="1240"/>
                </a:lnTo>
                <a:lnTo>
                  <a:pt x="616" y="1640"/>
                </a:lnTo>
                <a:lnTo>
                  <a:pt x="456" y="2040"/>
                </a:lnTo>
                <a:lnTo>
                  <a:pt x="496" y="2264"/>
                </a:lnTo>
                <a:lnTo>
                  <a:pt x="624" y="2584"/>
                </a:lnTo>
                <a:lnTo>
                  <a:pt x="544" y="2728"/>
                </a:lnTo>
              </a:path>
            </a:pathLst>
          </a:custGeom>
          <a:noFill/>
          <a:ln w="38160">
            <a:solidFill>
              <a:srgbClr val="000099"/>
            </a:solidFill>
            <a:round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51440" y="1447920"/>
            <a:ext cx="5054400" cy="4470120"/>
          </a:xfrm>
          <a:custGeom>
            <a:avLst/>
            <a:gdLst/>
            <a:ahLst/>
            <a:rect l="l" t="t" r="r" b="b"/>
            <a:pathLst>
              <a:path w="3184" h="2816">
                <a:moveTo>
                  <a:pt x="520" y="2816"/>
                </a:moveTo>
                <a:lnTo>
                  <a:pt x="552" y="2640"/>
                </a:lnTo>
                <a:lnTo>
                  <a:pt x="464" y="2368"/>
                </a:lnTo>
                <a:lnTo>
                  <a:pt x="424" y="2088"/>
                </a:lnTo>
                <a:lnTo>
                  <a:pt x="608" y="1640"/>
                </a:lnTo>
                <a:lnTo>
                  <a:pt x="592" y="1328"/>
                </a:lnTo>
                <a:lnTo>
                  <a:pt x="456" y="1072"/>
                </a:lnTo>
                <a:lnTo>
                  <a:pt x="0" y="824"/>
                </a:lnTo>
                <a:lnTo>
                  <a:pt x="120" y="680"/>
                </a:lnTo>
                <a:lnTo>
                  <a:pt x="408" y="584"/>
                </a:lnTo>
                <a:lnTo>
                  <a:pt x="484" y="558"/>
                </a:lnTo>
                <a:lnTo>
                  <a:pt x="752" y="496"/>
                </a:lnTo>
                <a:lnTo>
                  <a:pt x="1304" y="0"/>
                </a:lnTo>
                <a:lnTo>
                  <a:pt x="2624" y="16"/>
                </a:lnTo>
                <a:lnTo>
                  <a:pt x="3080" y="616"/>
                </a:lnTo>
                <a:lnTo>
                  <a:pt x="3184" y="1520"/>
                </a:lnTo>
                <a:lnTo>
                  <a:pt x="3176" y="1776"/>
                </a:lnTo>
                <a:lnTo>
                  <a:pt x="2968" y="2176"/>
                </a:lnTo>
                <a:lnTo>
                  <a:pt x="2304" y="2648"/>
                </a:lnTo>
                <a:lnTo>
                  <a:pt x="984" y="2784"/>
                </a:lnTo>
                <a:lnTo>
                  <a:pt x="520" y="28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A601-32AF-4141-982F-64492566DA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>MCN wshop, Japan</dc:description>
  <dc:language>en-US</dc:language>
  <cp:lastModifiedBy>server</cp:lastModifiedBy>
  <dcterms:modified xsi:type="dcterms:W3CDTF">2004-11-08T02:25:33Z</dcterms:modified>
  <cp:revision>788</cp:revision>
  <dc:subject/>
  <dc:title>Classification of matching approaches</dc:title>
</cp:coreProperties>
</file>