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5.png" ContentType="image/png"/>
  <Override PartName="/ppt/media/image2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2B33D-8FCA-450B-80EF-41F8B64BBA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7BBA-0831-4F2E-9E81-912487B759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D1C4-7458-4F49-B0F2-29181E2F3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B7AB-CC93-487A-8895-03FE8F5160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81F4-879D-4C4C-A486-A605881FE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4BE1-8AB1-4C07-87AD-93D1D5EDA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FAD3-4B68-4A21-82CC-47030DB9C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908A5-CE42-4E1B-85CE-0E0DC2757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71240" y="990720"/>
            <a:ext cx="71629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5A50-4236-4E4F-A10A-D5DA13C4B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951A4-0671-43BC-BBC2-1511439CF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1E273-8AF6-4BF3-A497-00355934E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8E4B-D31B-4D83-A481-D832E4DBD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990720"/>
            <a:ext cx="1371600" cy="5867280"/>
            <a:chOff x="0" y="990720"/>
            <a:chExt cx="1371600" cy="5867280"/>
          </a:xfrm>
        </p:grpSpPr>
        <p:sp>
          <p:nvSpPr>
            <p:cNvPr id="2" name=""/>
            <p:cNvSpPr/>
            <p:nvPr/>
          </p:nvSpPr>
          <p:spPr>
            <a:xfrm>
              <a:off x="0" y="124776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534160" y="0"/>
            <a:ext cx="609480" cy="968400"/>
          </a:xfrm>
          <a:prstGeom prst="rect">
            <a:avLst/>
          </a:prstGeom>
          <a:solidFill>
            <a:srgbClr val="008484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38BB-D543-47D0-84CA-FFC809114B8E}" type="slidenum">
              <a:rPr b="1" lang="it-IT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60325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66920" cy="987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34960" y="6521400"/>
            <a:ext cx="715032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500" spc="-1" strike="noStrike">
                <a:solidFill>
                  <a:srgbClr val="008484"/>
                </a:solidFill>
                <a:latin typeface="Arial"/>
              </a:rPr>
              <a:t>CoopIS</a:t>
            </a:r>
            <a:r>
              <a:rPr b="1" lang="it-IT" sz="1500" spc="-1" strike="noStrike">
                <a:solidFill>
                  <a:srgbClr val="008484"/>
                </a:solidFill>
                <a:latin typeface="Arial"/>
              </a:rPr>
              <a:t>, 3 November 2005, Agia Napa, Cypr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71600" y="6502320"/>
            <a:ext cx="717552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8537400" y="6512040"/>
            <a:ext cx="0" cy="20304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18680" y="0"/>
            <a:ext cx="0" cy="96516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518680" y="981000"/>
            <a:ext cx="625320" cy="0"/>
          </a:xfrm>
          <a:prstGeom prst="line">
            <a:avLst/>
          </a:prstGeom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359000" y="0"/>
            <a:ext cx="0" cy="9907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857160" indent="-95040">
              <a:spcBef>
                <a:spcPts val="3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-95400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428840" indent="-9540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0840" y="17524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848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80960" y="0"/>
            <a:ext cx="710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0" y="0"/>
            <a:ext cx="5867280" cy="1371600"/>
            <a:chOff x="0" y="0"/>
            <a:chExt cx="5867280" cy="1371600"/>
          </a:xfrm>
        </p:grpSpPr>
        <p:sp>
          <p:nvSpPr>
            <p:cNvPr id="56" name=""/>
            <p:cNvSpPr/>
            <p:nvPr/>
          </p:nvSpPr>
          <p:spPr>
            <a:xfrm rot="16200000">
              <a:off x="2376360" y="-21193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6200000">
              <a:off x="-495000" y="4953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3520" y="101520"/>
            <a:ext cx="3578040" cy="9972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3276720" y="5486400"/>
            <a:ext cx="5867280" cy="1371600"/>
            <a:chOff x="3276720" y="5486400"/>
            <a:chExt cx="5867280" cy="1371600"/>
          </a:xfrm>
        </p:grpSpPr>
        <p:sp>
          <p:nvSpPr>
            <p:cNvPr id="60" name=""/>
            <p:cNvSpPr/>
            <p:nvPr/>
          </p:nvSpPr>
          <p:spPr>
            <a:xfrm rot="5400000">
              <a:off x="5396040" y="3366720"/>
              <a:ext cx="1371600" cy="5610240"/>
            </a:xfrm>
            <a:prstGeom prst="rect">
              <a:avLst/>
            </a:prstGeom>
            <a:solidFill>
              <a:srgbClr val="d6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5400000">
              <a:off x="8267760" y="5981760"/>
              <a:ext cx="1371600" cy="380880"/>
            </a:xfrm>
            <a:prstGeom prst="rect">
              <a:avLst/>
            </a:prstGeom>
            <a:solidFill>
              <a:srgbClr val="00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1495080"/>
            <a:ext cx="5994360" cy="390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8484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59000"/>
            <a:ext cx="58546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0"/>
            <a:ext cx="0" cy="135900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63760" y="5492880"/>
            <a:ext cx="0" cy="136512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3760" y="5486400"/>
            <a:ext cx="58802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38088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8484"/>
              </a:solidFill>
              <a:latin typeface="Arial"/>
            </a:endParaRPr>
          </a:p>
          <a:p>
            <a:pPr lvl="2" marL="762120" algn="ctr">
              <a:spcBef>
                <a:spcPts val="374"/>
              </a:spcBef>
              <a:buClr>
                <a:srgbClr val="008484"/>
              </a:buClr>
              <a:buSzPct val="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8484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8484"/>
              </a:solidFill>
              <a:latin typeface="Arial"/>
            </a:endParaRPr>
          </a:p>
          <a:p>
            <a:pPr lvl="3" marL="1047600" algn="ctr">
              <a:spcBef>
                <a:spcPts val="349"/>
              </a:spcBef>
              <a:buClr>
                <a:srgbClr val="008484"/>
              </a:buClr>
              <a:buSzPct val="4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484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8484"/>
              </a:solidFill>
              <a:latin typeface="Arial"/>
            </a:endParaRPr>
          </a:p>
          <a:p>
            <a:pPr lvl="4" marL="1333440" algn="ctr">
              <a:spcBef>
                <a:spcPts val="326"/>
              </a:spcBef>
              <a:buClr>
                <a:srgbClr val="008484"/>
              </a:buClr>
              <a:buSzPct val="70000"/>
              <a:buFont typeface="Arial Unicode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Fif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5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ix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  <a:p>
            <a:pPr lvl="6" marL="1333440">
              <a:spcBef>
                <a:spcPts val="326"/>
              </a:spcBef>
              <a:buClr>
                <a:srgbClr val="000000"/>
              </a:buClr>
              <a:buSzPct val="7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484"/>
                </a:solidFill>
                <a:latin typeface="Arial"/>
              </a:rPr>
              <a:t>Seventh Outline Level</a:t>
            </a:r>
            <a:endParaRPr b="1" lang="en-US" sz="1300" spc="-1" strike="noStrike">
              <a:solidFill>
                <a:srgbClr val="0084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4.png"/><Relationship Id="rId11" Type="http://schemas.openxmlformats.org/officeDocument/2006/relationships/image" Target="../media/image2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dit.unitn.it/~accord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ontologymatching.org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723680"/>
            <a:ext cx="9144000" cy="195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800000"/>
                </a:solidFill>
                <a:latin typeface="Arial"/>
              </a:rPr>
              <a:t>Semantic Schema Matching</a:t>
            </a:r>
            <a:endParaRPr b="1" lang="en-US" sz="43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3320" y="3687120"/>
            <a:ext cx="4213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Pavel Shvaik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5160" y="5530680"/>
            <a:ext cx="56149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13th International Conference on                          Cooperative Information Systems (</a:t>
            </a:r>
            <a:r>
              <a:rPr b="1" i="1" lang="it-IT" sz="1600" spc="-1" strike="noStrike">
                <a:solidFill>
                  <a:srgbClr val="008484"/>
                </a:solidFill>
                <a:latin typeface="Arial"/>
              </a:rPr>
              <a:t>CoopIS</a:t>
            </a: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484"/>
                </a:solidFill>
                <a:latin typeface="Arial"/>
              </a:rPr>
              <a:t>3 November 2005, Agia Napa, Cyp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7800" y="4381560"/>
            <a:ext cx="57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joint work wi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Fausto Giunchiglia and Mikalai Yatskev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3479760"/>
            <a:ext cx="118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buClr>
                <a:srgbClr val="00848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5840" y="3635280"/>
            <a:ext cx="961920" cy="1238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30320" y="4524480"/>
            <a:ext cx="898560" cy="125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58960" y="5473800"/>
            <a:ext cx="9223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353600" y="2971440"/>
            <a:ext cx="72234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7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Semantic Matching: 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  <a:p>
            <a:pPr marL="30780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Element Lev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Step 3)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B4B6-5C5D-4AF7-A347-FE54CD76D5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82400"/>
            <a:ext cx="71629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(atomic)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87600" y="2873520"/>
            <a:ext cx="6848280" cy="2104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52600" y="1508040"/>
            <a:ext cx="8238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oit a priori knowledge, e.g., lexical, domain knowledge, with the help of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031840" y="5264280"/>
            <a:ext cx="6158160" cy="103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ED4F-8204-4F05-BF55-457CFD8F47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496800"/>
            <a:ext cx="7162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lement level semantic matcher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7760"/>
            <a:ext cx="8175600" cy="21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8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nse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WordNet senses in input and produce semantic relations exploiting (direct) lexical relations of WordNe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84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ring-based matcher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ave two labels in input and produce semantic relations exploiting string comparison technique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403280" y="4025880"/>
            <a:ext cx="7669440" cy="200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323A-2CC7-4395-ABF2-EEC913A477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77580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nse-based matchers. </a:t>
            </a:r>
            <a:r>
              <a:rPr b="1" i="1" lang="en-US" sz="3000" spc="-1" strike="noStrike">
                <a:solidFill>
                  <a:srgbClr val="800000"/>
                </a:solidFill>
                <a:latin typeface="Arial"/>
              </a:rPr>
              <a:t>WordNet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-101520" y="16257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rdNet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computes relations between schema entities    in terms of lexical relationships of WordNet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yponym 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mero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f B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and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ame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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A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yper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holonym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f B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urop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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Greece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= B if they ar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ynonyms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tity = Amount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3" marL="1143000" indent="-9540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A </a:t>
            </a:r>
            <a:r>
              <a:rPr b="1" lang="en-US" sz="2200" spc="-1" strike="noStrike">
                <a:solidFill>
                  <a:srgbClr val="008484"/>
                </a:solidFill>
                <a:latin typeface="Symbol"/>
                <a:ea typeface="Symbol"/>
              </a:rPr>
              <a:t>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B if they ar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antonym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or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sibling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in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part of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hierarchy</a:t>
            </a:r>
            <a:endParaRPr b="0" lang="en-US" sz="2200" spc="-1" strike="noStrike">
              <a:solidFill>
                <a:srgbClr val="008484"/>
              </a:solidFill>
              <a:latin typeface="Arial"/>
            </a:endParaRPr>
          </a:p>
          <a:p>
            <a:pPr lvl="4" marL="142884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croprocessors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C Board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EBCD0-6120-465B-AC65-3657D8E51D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775800"/>
            <a:ext cx="7162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ep 3: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tring-based matchers. Suffix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6440" y="1612800"/>
            <a:ext cx="82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x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takes as input two strings and checks whether the first one ends with the second one. It returns equivalence relation in this case, and </a:t>
            </a:r>
            <a:r>
              <a:rPr b="1" i="1" lang="en-US" sz="2400" spc="-1" strike="noStrike">
                <a:solidFill>
                  <a:srgbClr val="008484"/>
                </a:solidFill>
                <a:latin typeface="Arial"/>
              </a:rPr>
              <a:t>Idk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 otherwise</a:t>
            </a:r>
            <a:r>
              <a:rPr b="1" lang="ru-RU" sz="24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uffix is efficient in matching cognate words and similar acronyms, but often syntactic similarity does not imply semantic relatednes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ID = ID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ephone = phone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601"/>
              </a:spcBef>
              <a:buClr>
                <a:srgbClr val="0000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word = word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7F32-07AB-4C8B-990B-767E74F6A1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368360" y="2971800"/>
            <a:ext cx="7121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94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Semantic Matching: 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Structure Level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(Step 4)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AB181-9C31-4C10-AD09-5B4983E271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525600"/>
            <a:ext cx="7134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mpute relations between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2600" y="1508040"/>
            <a:ext cx="8238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Decompose the graph (tree) matching problem into the set of </a:t>
            </a:r>
            <a:r>
              <a:rPr b="1" lang="it-IT" sz="2200" spc="-1" strike="noStrike">
                <a:solidFill>
                  <a:srgbClr val="800000"/>
                </a:solidFill>
                <a:latin typeface="Arial"/>
              </a:rPr>
              <a:t>node matching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Translate each node matching problem, namely pairs of nodes with possible relations between them, into a propositional formul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Check the propositional formula for valid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550"/>
              </a:spcBef>
              <a:spcAft>
                <a:spcPts val="275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Information we use, namely labels of nodes and knowledge of WordNet, is globally consis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33F2-3BB4-4CE8-B3F9-C90A3F3FEB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 </a:t>
            </a: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ample of a node matching task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879640" y="1820880"/>
            <a:ext cx="4578480" cy="452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379520" y="2600280"/>
            <a:ext cx="7764480" cy="14223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395360" y="4413240"/>
            <a:ext cx="7748640" cy="185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F56C-349C-4B76-9770-B62D110195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982800"/>
            <a:ext cx="71344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fficient 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8200" y="1579680"/>
            <a:ext cx="826596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Conjunctive concepts at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Matching formula is Ho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atisfiability can be determined in linear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AT solver requires quadratic 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We developed ad hoc linear time reasoning procedure</a:t>
            </a:r>
            <a:r>
              <a:rPr b="0" lang="en-US" sz="16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void conversion to propositional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Reason on the axioms matr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junctive concepts at no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Matching formula is not in CNF by constru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Most SAT solvers require the input formula to be in C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Conversion to CNF may lead to exponential space explos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7792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loit structure preserving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2520" indent="-2286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Size of formula in CNF is linear with respect to original form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BE40-5478-4EAE-A628-5A0E08A68F8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4000"/>
          </a:bodyPr>
          <a:p>
            <a:pPr marL="304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Semantic Matching 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  <a:p>
            <a:pPr marL="3045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with Attributes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8DF9-BF96-4FC4-9C8B-21338318B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utlin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12520" y="1815840"/>
            <a:ext cx="778500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150"/>
              </a:spcBef>
              <a:spcAft>
                <a:spcPts val="7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Element Level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150"/>
              </a:spcBef>
              <a:spcAft>
                <a:spcPts val="75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Structure Level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Semantic Matching with Attributes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Comparativ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spcBef>
                <a:spcPts val="751"/>
              </a:spcBef>
              <a:spcAft>
                <a:spcPts val="7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onclusions and Future Work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C0C2F-0A85-40C5-84A7-2F96F939C1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mantic matching with attribut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267760" cy="26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Semantic matching is based on the idea of  matching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their direc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hysical implementation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etermining mappings is a first step towards the ultimate goal of, e.g., data translation, query mediation, …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1" lang="en-US" sz="22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re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attribute−name, type&gt;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air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712800" indent="-266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8484"/>
              </a:buClr>
              <a:buSzPct val="1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&lt;PID, string&gt;, &lt;Brand, string&gt;, &lt;ID, int&gt;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284640" y="4000680"/>
            <a:ext cx="5859360" cy="1765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9480" y="4051440"/>
            <a:ext cx="4876920" cy="23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alterna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6532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ploit data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6532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Discard data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opriatenes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6532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&lt;Price, double&gt; </a:t>
            </a:r>
            <a:r>
              <a:rPr b="1" lang="it-IT" sz="2000" spc="-1" strike="noStrike">
                <a:solidFill>
                  <a:srgbClr val="000099"/>
                </a:solidFill>
                <a:latin typeface="Symbol"/>
                <a:ea typeface="Symbol"/>
              </a:rPr>
              <a:t>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 &lt;Price, float&gt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265320">
              <a:lnSpc>
                <a:spcPct val="100000"/>
              </a:lnSpc>
              <a:spcBef>
                <a:spcPts val="499"/>
              </a:spcBef>
              <a:buClr>
                <a:srgbClr val="008484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&lt;Price, double&gt; = &lt;Price, floa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492360" y="5168880"/>
            <a:ext cx="5588280" cy="685800"/>
            <a:chOff x="3492360" y="5168880"/>
            <a:chExt cx="5588280" cy="685800"/>
          </a:xfrm>
        </p:grpSpPr>
        <p:sp>
          <p:nvSpPr>
            <p:cNvPr id="242" name=""/>
            <p:cNvSpPr/>
            <p:nvPr/>
          </p:nvSpPr>
          <p:spPr>
            <a:xfrm>
              <a:off x="3492360" y="5168880"/>
              <a:ext cx="20066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74000" y="5460840"/>
              <a:ext cx="20066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429000" y="4335480"/>
            <a:ext cx="5626080" cy="909720"/>
            <a:chOff x="3429000" y="4335480"/>
            <a:chExt cx="5626080" cy="909720"/>
          </a:xfrm>
        </p:grpSpPr>
        <p:sp>
          <p:nvSpPr>
            <p:cNvPr id="245" name=""/>
            <p:cNvSpPr/>
            <p:nvPr/>
          </p:nvSpPr>
          <p:spPr>
            <a:xfrm>
              <a:off x="3429000" y="4335480"/>
              <a:ext cx="2006640" cy="338040"/>
            </a:xfrm>
            <a:prstGeom prst="ellipse">
              <a:avLst/>
            </a:prstGeom>
            <a:noFill/>
            <a:ln w="28440">
              <a:solidFill>
                <a:srgbClr val="00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72480" y="4603680"/>
              <a:ext cx="2082600" cy="641520"/>
            </a:xfrm>
            <a:prstGeom prst="ellipse">
              <a:avLst/>
            </a:prstGeom>
            <a:noFill/>
            <a:ln w="28440">
              <a:solidFill>
                <a:srgbClr val="0084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buClr>
                  <a:srgbClr val="000099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BE50-BB9A-4672-9C1F-24E43962D2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omparative Evaluation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8609E-352E-4F08-B73E-F60DC94A08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Testing methodology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06440" y="2470320"/>
            <a:ext cx="8217000" cy="36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ing match quality and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Expert mappings are inherently subj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wo degrees of freed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Dire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Use of Ora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Precision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[0,1]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Recall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Overall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[-1,1]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F-measure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[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ime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6440" y="1587600"/>
            <a:ext cx="81532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-Match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vs.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upid, COMA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SF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s implemented in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Ro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1A3B-B2C9-43FA-8A5C-22552CE3C9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Experimental result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324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1490760"/>
            <a:ext cx="7772400" cy="1311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95360" y="3556080"/>
            <a:ext cx="1257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2933640"/>
            <a:ext cx="9144000" cy="3936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749840" y="6469200"/>
            <a:ext cx="4330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C: PIV 1,7Ghz; 512Mb. RAM; Win 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8DA9-F5E4-4562-A49B-25C8EF847E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63280" y="2768400"/>
            <a:ext cx="79642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onclusions and Future Work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0A6B-1B8F-44A6-BD94-BBA9D44E0F5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nclusion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Semantic schema matching approach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builds on the advances of the previous solutions at the element level by providing a library of element level matchers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guarantees correctness and completeness of its results at the structure level by using model-based techniques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Quality and performance evaluation (S-Match)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Automated reasoning techniques (e.g.,  SAT) provide good performance for industrial-strength matching tasks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The challenge is not efficiency but rather missing domain knowledge </a:t>
            </a:r>
            <a:endParaRPr b="0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C19E-A3E2-4F8A-BBDD-04A438F32F1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Future work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tera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484"/>
                </a:solidFill>
                <a:latin typeface="Arial"/>
              </a:rPr>
              <a:t>Recall increase via multiple strategie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teractive semantic matching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Cutomizing technology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Extensive evaluation</a:t>
            </a:r>
            <a:endParaRPr b="1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Testing methodology 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484"/>
                </a:solidFill>
                <a:latin typeface="Arial"/>
              </a:rPr>
              <a:t>Industry-strength tasks</a:t>
            </a:r>
            <a:endParaRPr b="0" lang="en-US" sz="24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7B3-EDCD-40EB-A8B8-65EF74EB7EF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87624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Reference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397160"/>
            <a:ext cx="82548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13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roject website - ACCORD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dit.unitn.it/~accord/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Ontology Matching: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http://www.OntologyMatching.org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F. Giunchiglia, P. Shvaiko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</a:rPr>
              <a:t>Knowledge Engineering Review Journal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, 18(3), 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. Bouquet, L. Serafini, S. Zanobini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emantic coordination: a new approach and an application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In Proceedings of ISWC,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2003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P. Avesani, F. Giunchiglia, M. Yatskevich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 large scale taxonomy mapping evaluation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In Proceedings of ISWC,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2005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P. Shvaiko and J. Euzenat: </a:t>
            </a: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A survey of schema-based matching approaches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GB" sz="1800" spc="-1" strike="noStrike">
                <a:solidFill>
                  <a:srgbClr val="008484"/>
                </a:solidFill>
                <a:latin typeface="Arial"/>
              </a:rPr>
              <a:t>Journal on Data Semantics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, IV, 2005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-301320">
              <a:spcBef>
                <a:spcPts val="451"/>
              </a:spcBef>
              <a:spcAft>
                <a:spcPts val="45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C. Ghidini, F. Giunchiglia: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ocal models semantics, or contextual reasoning = locality + compatibility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.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Artificial Intelligence Journal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127(3), 2001.</a:t>
            </a: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30132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F5A4-EDA7-4239-B3A6-EC0BD6EA2E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93760" y="1600200"/>
            <a:ext cx="7228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24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37E9-8838-4A47-876C-CFE21744BF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Introduction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0040" y="1536840"/>
            <a:ext cx="891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2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sources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(e.g., XML schemas) can be viewed a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aph-like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structures containing terms and their inter-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6000" y="210816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2600">
              <a:lnSpc>
                <a:spcPct val="100000"/>
              </a:lnSpc>
              <a:spcBef>
                <a:spcPts val="45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ching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takes two graph-like structures and produces a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pping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between the nodes of the graphs that correspond semantically to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23960" y="2798640"/>
            <a:ext cx="6723000" cy="369756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3098880" y="2933640"/>
            <a:ext cx="4228920" cy="3441600"/>
            <a:chOff x="3098880" y="2933640"/>
            <a:chExt cx="4228920" cy="3441600"/>
          </a:xfrm>
        </p:grpSpPr>
        <p:sp>
          <p:nvSpPr>
            <p:cNvPr id="119" name=""/>
            <p:cNvSpPr/>
            <p:nvPr/>
          </p:nvSpPr>
          <p:spPr>
            <a:xfrm>
              <a:off x="3149640" y="2933640"/>
              <a:ext cx="361944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80040" y="3200400"/>
              <a:ext cx="3047760" cy="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98880" y="6134040"/>
              <a:ext cx="3809880" cy="2412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78240" y="5867280"/>
              <a:ext cx="3289320" cy="22860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74840" y="5587920"/>
              <a:ext cx="364500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3454560"/>
              <a:ext cx="233676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54480" y="5105520"/>
              <a:ext cx="1587600" cy="126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254480" y="4762080"/>
              <a:ext cx="1434960" cy="266760"/>
            </a:xfrm>
            <a:prstGeom prst="line">
              <a:avLst/>
            </a:prstGeom>
            <a:ln w="28440">
              <a:solidFill>
                <a:srgbClr val="38a8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CA096-4381-4332-B910-392699EF2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88840" y="2971800"/>
            <a:ext cx="77472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  <a:p>
            <a:pPr marL="3240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371240" y="905760"/>
            <a:ext cx="716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089E-5B21-4B33-B721-E8BD7F9C16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9907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Semantic Matching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4600" y="1689120"/>
            <a:ext cx="8216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Arial"/>
              </a:rPr>
              <a:t>Semantic Matching:</a:t>
            </a:r>
            <a:r>
              <a:rPr b="1" lang="en-GB" sz="18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Given two graphs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and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, for any 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1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find the strongest semantic relation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R’ </a:t>
            </a:r>
            <a:r>
              <a:rPr b="1" lang="en-GB" sz="1800" spc="-1" strike="noStrike">
                <a:solidFill>
                  <a:srgbClr val="008484"/>
                </a:solidFill>
                <a:latin typeface="Arial"/>
              </a:rPr>
              <a:t>holding with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node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i="1" lang="en-US" sz="1600" spc="-1" strike="noStrike">
                <a:solidFill>
                  <a:srgbClr val="808080"/>
                </a:solidFill>
                <a:latin typeface="Arial"/>
              </a:rPr>
              <a:t>2</a:t>
            </a:r>
            <a:r>
              <a:rPr b="1" i="1" lang="en-US" sz="1800" spc="-1" strike="noStrike" baseline="-25000">
                <a:solidFill>
                  <a:srgbClr val="808080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80808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80808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4600" y="2435400"/>
            <a:ext cx="7683480" cy="1694520"/>
            <a:chOff x="444600" y="2435400"/>
            <a:chExt cx="7683480" cy="1694520"/>
          </a:xfrm>
        </p:grpSpPr>
        <p:sp>
          <p:nvSpPr>
            <p:cNvPr id="132" name=""/>
            <p:cNvSpPr/>
            <p:nvPr/>
          </p:nvSpPr>
          <p:spPr>
            <a:xfrm>
              <a:off x="444600" y="2435400"/>
              <a:ext cx="76834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mputed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 </a:t>
              </a:r>
              <a:r>
                <a:rPr b="1" i="1" lang="en-GB" sz="1800" spc="-1" strike="noStrike">
                  <a:solidFill>
                    <a:srgbClr val="777777"/>
                  </a:solidFill>
                  <a:latin typeface="Arial"/>
                </a:rPr>
                <a:t>R’s</a:t>
              </a:r>
              <a:r>
                <a:rPr b="1" lang="en-GB" sz="1800" spc="-1" strike="noStrike">
                  <a:solidFill>
                    <a:srgbClr val="008484"/>
                  </a:solidFill>
                  <a:latin typeface="Arial"/>
                </a:rPr>
                <a:t>, listed in the decreasing binding strength order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equivalence { =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more general/specific {    ,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disjointness { </a:t>
              </a:r>
              <a:r>
                <a:rPr b="1" lang="en-GB" sz="1800" spc="-1" strike="noStrike">
                  <a:solidFill>
                    <a:srgbClr val="777777"/>
                  </a:solidFill>
                  <a:latin typeface="Symbol"/>
                  <a:ea typeface="Symbol"/>
                </a:rPr>
                <a:t>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	</a:t>
              </a:r>
              <a:r>
                <a:rPr b="1" lang="en-GB" sz="1800" spc="-1" strike="noStrike">
                  <a:solidFill>
                    <a:srgbClr val="777777"/>
                  </a:solidFill>
                  <a:latin typeface="Arial"/>
                </a:rPr>
                <a:t>I don’t know {idk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938840" y="3219480"/>
              <a:ext cx="501480" cy="158040"/>
              <a:chOff x="4938840" y="3219480"/>
              <a:chExt cx="501480" cy="15804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4938840" y="3219480"/>
                <a:ext cx="108000" cy="156240"/>
                <a:chOff x="4938840" y="3219480"/>
                <a:chExt cx="108000" cy="156240"/>
              </a:xfrm>
            </p:grpSpPr>
            <p:grpSp>
              <p:nvGrpSpPr>
                <p:cNvPr id="135" name=""/>
                <p:cNvGrpSpPr/>
                <p:nvPr/>
              </p:nvGrpSpPr>
              <p:grpSpPr>
                <a:xfrm>
                  <a:off x="4938840" y="3219480"/>
                  <a:ext cx="107640" cy="123120"/>
                  <a:chOff x="4938840" y="3219480"/>
                  <a:chExt cx="107640" cy="123120"/>
                </a:xfrm>
              </p:grpSpPr>
              <p:sp>
                <p:nvSpPr>
                  <p:cNvPr id="136" name=""/>
                  <p:cNvSpPr/>
                  <p:nvPr/>
                </p:nvSpPr>
                <p:spPr>
                  <a:xfrm>
                    <a:off x="4941000" y="3342600"/>
                    <a:ext cx="1051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4938840" y="3219480"/>
                    <a:ext cx="10728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5046120" y="32198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" name=""/>
                <p:cNvSpPr/>
                <p:nvPr/>
              </p:nvSpPr>
              <p:spPr>
                <a:xfrm>
                  <a:off x="4938840" y="3375720"/>
                  <a:ext cx="10800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330880" y="3221280"/>
                <a:ext cx="109440" cy="156240"/>
                <a:chOff x="5330880" y="3221280"/>
                <a:chExt cx="109440" cy="15624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5331240" y="3221280"/>
                  <a:ext cx="109080" cy="123120"/>
                  <a:chOff x="5331240" y="3221280"/>
                  <a:chExt cx="109080" cy="1231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 flipH="1">
                    <a:off x="5331600" y="3221280"/>
                    <a:ext cx="10656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 flipH="1">
                    <a:off x="5331600" y="3344400"/>
                    <a:ext cx="108720" cy="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flipH="1" flipV="1">
                    <a:off x="5331240" y="3227040"/>
                    <a:ext cx="360" cy="117000"/>
                  </a:xfrm>
                  <a:prstGeom prst="line">
                    <a:avLst/>
                  </a:prstGeom>
                  <a:ln w="28440">
                    <a:solidFill>
                      <a:srgbClr val="7777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 flipH="1">
                  <a:off x="5330880" y="3377520"/>
                  <a:ext cx="109440" cy="0"/>
                </a:xfrm>
                <a:prstGeom prst="line">
                  <a:avLst/>
                </a:prstGeom>
                <a:ln w="28440">
                  <a:solidFill>
                    <a:srgbClr val="7777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"/>
          <p:cNvSpPr/>
          <p:nvPr/>
        </p:nvSpPr>
        <p:spPr>
          <a:xfrm>
            <a:off x="482760" y="4254480"/>
            <a:ext cx="8127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e compute semantic relations by analyz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aning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concept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not labels</a:t>
            </a:r>
            <a:r>
              <a:rPr b="1" i="1" lang="en-US" sz="1800" spc="-1" strike="noStrike">
                <a:solidFill>
                  <a:srgbClr val="008484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which </a:t>
            </a:r>
            <a:r>
              <a:rPr b="1" lang="it-IT" sz="1800" spc="-1" strike="noStrike">
                <a:solidFill>
                  <a:srgbClr val="008484"/>
                </a:solidFill>
                <a:latin typeface="Arial"/>
              </a:rPr>
              <a:t>is codified in the elements and the structures of sch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84200" y="5067360"/>
            <a:ext cx="75056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ly, labels at nodes written in natural language are translated into propositional logical formulas which explicitly codify the label’s intended meaning. This allows us to codify the matching problem into a propositional validity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52F4-34E6-4045-A080-12C41FA86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5400" y="99540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&amp; 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concept of a node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54080" y="4038480"/>
            <a:ext cx="8089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151000" y="1546200"/>
            <a:ext cx="5672160" cy="2070720"/>
            <a:chOff x="2151000" y="1546200"/>
            <a:chExt cx="5672160" cy="2070720"/>
          </a:xfrm>
        </p:grpSpPr>
        <p:sp>
          <p:nvSpPr>
            <p:cNvPr id="151" name=""/>
            <p:cNvSpPr/>
            <p:nvPr/>
          </p:nvSpPr>
          <p:spPr>
            <a:xfrm>
              <a:off x="5303880" y="2247840"/>
              <a:ext cx="2519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Cameras and Pho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51000" y="3213000"/>
              <a:ext cx="196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PC boar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19600" y="1546200"/>
              <a:ext cx="159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Electr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>
              <a:stCxn id="155" idx="4"/>
              <a:endCxn id="156" idx="0"/>
            </p:cNvCxnSpPr>
            <p:nvPr/>
          </p:nvCxnSpPr>
          <p:spPr>
            <a:xfrm>
              <a:off x="4038120" y="2735280"/>
              <a:ext cx="108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"/>
            <p:cNvCxnSpPr>
              <a:stCxn id="158" idx="4"/>
              <a:endCxn id="155" idx="0"/>
            </p:cNvCxnSpPr>
            <p:nvPr/>
          </p:nvCxnSpPr>
          <p:spPr>
            <a:xfrm flipH="1">
              <a:off x="4038120" y="2120400"/>
              <a:ext cx="57240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9" name=""/>
            <p:cNvSpPr/>
            <p:nvPr/>
          </p:nvSpPr>
          <p:spPr>
            <a:xfrm>
              <a:off x="4952880" y="3218040"/>
              <a:ext cx="273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Digital  Camer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61" idx="4"/>
              <a:endCxn id="162" idx="0"/>
            </p:cNvCxnSpPr>
            <p:nvPr/>
          </p:nvCxnSpPr>
          <p:spPr>
            <a:xfrm>
              <a:off x="5235480" y="2735280"/>
              <a:ext cx="13680" cy="573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"/>
            <p:cNvSpPr/>
            <p:nvPr/>
          </p:nvSpPr>
          <p:spPr>
            <a:xfrm>
              <a:off x="3168720" y="2424240"/>
              <a:ext cx="89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4" name=""/>
            <p:cNvCxnSpPr>
              <a:stCxn id="158" idx="4"/>
              <a:endCxn id="161" idx="0"/>
            </p:cNvCxnSpPr>
            <p:nvPr/>
          </p:nvCxnSpPr>
          <p:spPr>
            <a:xfrm>
              <a:off x="4609800" y="2120400"/>
              <a:ext cx="626040" cy="383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"/>
            <p:cNvSpPr/>
            <p:nvPr/>
          </p:nvSpPr>
          <p:spPr>
            <a:xfrm>
              <a:off x="4495680" y="1889280"/>
              <a:ext cx="228600" cy="231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24360" y="2503440"/>
              <a:ext cx="22860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22800" y="2503440"/>
              <a:ext cx="22716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24360" y="3308400"/>
              <a:ext cx="22860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32520" y="3308400"/>
              <a:ext cx="230040" cy="231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90440" indent="-19044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8484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62040" y="3919680"/>
            <a:ext cx="79358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Arial"/>
              </a:rPr>
              <a:t>Concept of a label</a:t>
            </a:r>
            <a:r>
              <a:rPr b="1" lang="en-GB" sz="2000" spc="-1" strike="noStrike">
                <a:solidFill>
                  <a:srgbClr val="777777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stands for the set of data instances that one would classify under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t enc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i="1" lang="en-US" sz="2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is the propositional formula which represents the set of data instances which one would classify under a node, given that it has a certain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el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and that it is in a certa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on</a:t>
            </a:r>
            <a:r>
              <a:rPr b="1" lang="en-US" sz="2000" spc="-1" strike="noStrike">
                <a:solidFill>
                  <a:srgbClr val="008484"/>
                </a:solidFill>
                <a:latin typeface="Arial"/>
              </a:rPr>
              <a:t> in a t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85142-E3DD-4377-A313-ADF2A26D39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38360"/>
            <a:ext cx="79884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labels in T1 and T2 compute </a:t>
            </a:r>
            <a:r>
              <a:rPr b="1" i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nodes in T1 and T2 comput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labels in T1 and T2 comput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relations between concepts at label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-298080">
              <a:lnSpc>
                <a:spcPct val="90000"/>
              </a:lnSpc>
              <a:spcBef>
                <a:spcPts val="499"/>
              </a:spcBef>
              <a:buClr>
                <a:srgbClr val="008484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For all pairs of nodes in T1 and T2 compute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relations between concepts at node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1 and 2 constitute the preprocessing phase, and are executed once and each time after the schema is change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FF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Steps 3 and 4 constitute the matching phase, and are executed every time the two schemas are to be matched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(ON - LINE part)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298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371600" y="990720"/>
            <a:ext cx="7175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Four Macro Step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444600" y="1766880"/>
            <a:ext cx="54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iven two labeled trees T1 and T2, d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9501-B610-4E23-9CE7-E0D0ABD6D4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ompute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658520"/>
            <a:ext cx="853272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484"/>
                </a:solidFill>
                <a:latin typeface="Arial"/>
              </a:rPr>
              <a:t>Translate labels at nodes written in natural language into propositional logical formulas which explicitly codify the label’s intended meaning</a:t>
            </a:r>
            <a:endParaRPr b="0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processing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Tokenization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Labels (according to punctuation, spaces, etc.) are parsed into token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Photo and Cameras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&lt;Photo, and, Cameras&gt;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</a:rPr>
              <a:t>Lemmatization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. Tokens are morphologically analyzed in order to find all their possible basic form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</a:rPr>
              <a:t>Camera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Symbol"/>
                <a:ea typeface="Symbol"/>
              </a:rPr>
              <a:t>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Camera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atomic concepts.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An oracle (WordNet) is used to extract senses of lemmas. E.g.,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Camera has 2 sense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-19080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Building complex concepts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. Prepositions, conjunctions are translated into logical connectives and used to build complex concepts</a:t>
            </a:r>
            <a:br>
              <a:rPr sz="1700"/>
            </a:b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out of the atomic concept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  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E.g.,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</a:t>
            </a:r>
            <a:r>
              <a:rPr b="1" i="1" lang="en-US" sz="1700" spc="-1" strike="noStrike">
                <a:solidFill>
                  <a:srgbClr val="000099"/>
                </a:solidFill>
                <a:latin typeface="Arial"/>
                <a:ea typeface="Arial"/>
              </a:rPr>
              <a:t>C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Cameras</a:t>
            </a:r>
            <a:r>
              <a:rPr b="1" i="1" lang="it-IT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_</a:t>
            </a:r>
            <a:r>
              <a:rPr b="1" i="1" lang="en-US" sz="17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and_Photo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= &lt;Cameras,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(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Camera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)&gt;     &lt;Photo,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(WN</a:t>
            </a:r>
            <a:r>
              <a:rPr b="1" lang="en-US" sz="1700" spc="-1" strike="noStrike" baseline="-25000">
                <a:solidFill>
                  <a:srgbClr val="777777"/>
                </a:solidFill>
                <a:latin typeface="Arial"/>
                <a:ea typeface="Arial"/>
              </a:rPr>
              <a:t>Photo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)&gt;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,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  </a:t>
            </a:r>
            <a:r>
              <a:rPr b="1" lang="en-US" sz="1700" spc="-1" strike="noStrike">
                <a:solidFill>
                  <a:srgbClr val="777777"/>
                </a:solidFill>
                <a:latin typeface="Arial"/>
                <a:ea typeface="Arial"/>
              </a:rPr>
              <a:t>	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where </a:t>
            </a:r>
            <a:r>
              <a:rPr b="1" lang="en-US" sz="1700" spc="-1" strike="noStrike">
                <a:solidFill>
                  <a:srgbClr val="800000"/>
                </a:solidFill>
                <a:latin typeface="Arial"/>
                <a:ea typeface="Arial"/>
              </a:rPr>
              <a:t>U</a:t>
            </a:r>
            <a:r>
              <a:rPr b="1" lang="en-US" sz="1700" spc="-1" strike="noStrike">
                <a:solidFill>
                  <a:srgbClr val="008484"/>
                </a:solidFill>
                <a:latin typeface="Arial"/>
                <a:ea typeface="Arial"/>
              </a:rPr>
              <a:t> is a union of the senses that WordNet attaches to lemmas</a:t>
            </a:r>
            <a:endParaRPr b="0" lang="en-US" sz="17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908320" y="5613480"/>
            <a:ext cx="176400" cy="187560"/>
            <a:chOff x="5908320" y="5613480"/>
            <a:chExt cx="176400" cy="187560"/>
          </a:xfrm>
        </p:grpSpPr>
        <p:sp>
          <p:nvSpPr>
            <p:cNvPr id="172" name=""/>
            <p:cNvSpPr/>
            <p:nvPr/>
          </p:nvSpPr>
          <p:spPr>
            <a:xfrm flipV="1">
              <a:off x="608436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908320" y="5613480"/>
              <a:ext cx="0" cy="1843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4" name=""/>
            <p:cNvCxnSpPr>
              <a:stCxn id="172" idx="0"/>
              <a:endCxn id="173" idx="0"/>
            </p:cNvCxnSpPr>
            <p:nvPr/>
          </p:nvCxnSpPr>
          <p:spPr>
            <a:xfrm flipH="1" flipV="1">
              <a:off x="5908320" y="5800320"/>
              <a:ext cx="176760" cy="1080"/>
            </a:xfrm>
            <a:prstGeom prst="straightConnector1">
              <a:avLst/>
            </a:prstGeom>
            <a:ln w="25560">
              <a:solidFill>
                <a:srgbClr val="8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FA51-591E-4E8E-B767-76A1757CB6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4920" y="10033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it-IT" sz="3000" spc="-1" strike="noStrike">
                <a:solidFill>
                  <a:srgbClr val="008484"/>
                </a:solidFill>
                <a:latin typeface="Arial"/>
              </a:rPr>
              <a:t> </a:t>
            </a:r>
            <a:r>
              <a:rPr b="1" lang="it-IT" sz="30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en-US" sz="3000" spc="-1" strike="noStrike">
                <a:solidFill>
                  <a:srgbClr val="800000"/>
                </a:solidFill>
                <a:latin typeface="Arial"/>
              </a:rPr>
              <a:t>ompute concepts at nodes</a:t>
            </a:r>
            <a:r>
              <a:rPr b="1" lang="en-US" sz="30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8484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1640" y="1514520"/>
            <a:ext cx="8064720" cy="27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The idea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Extend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by capturing the knowledge residing in a structure of a graph in order to define a context in which the given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 at a label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occurs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mputation</a:t>
            </a:r>
            <a:r>
              <a:rPr b="1" lang="it-IT" sz="2200" spc="-1" strike="noStrike">
                <a:solidFill>
                  <a:srgbClr val="008484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8484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Concept at a node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for some node </a:t>
            </a:r>
            <a:r>
              <a:rPr b="1" i="1" lang="it-IT" sz="2000" spc="-1" strike="noStrike">
                <a:solidFill>
                  <a:srgbClr val="800000"/>
                </a:solidFill>
                <a:latin typeface="Arial"/>
              </a:rPr>
              <a:t>n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is computed as a conjunction of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</a:rPr>
              <a:t>concepts at labels</a:t>
            </a:r>
            <a:r>
              <a:rPr b="1" lang="it-IT" sz="2000" spc="-1" strike="noStrike">
                <a:solidFill>
                  <a:srgbClr val="008484"/>
                </a:solidFill>
                <a:latin typeface="Arial"/>
              </a:rPr>
              <a:t> located above the given node, including the node itself</a:t>
            </a: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  <a:p>
            <a:pPr marL="19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8484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960" y="3984480"/>
            <a:ext cx="8918640" cy="2385000"/>
            <a:chOff x="453960" y="3984480"/>
            <a:chExt cx="8918640" cy="2385000"/>
          </a:xfrm>
        </p:grpSpPr>
        <p:grpSp>
          <p:nvGrpSpPr>
            <p:cNvPr id="178" name=""/>
            <p:cNvGrpSpPr/>
            <p:nvPr/>
          </p:nvGrpSpPr>
          <p:grpSpPr>
            <a:xfrm>
              <a:off x="925560" y="5024520"/>
              <a:ext cx="3784680" cy="475200"/>
              <a:chOff x="925560" y="5024520"/>
              <a:chExt cx="3784680" cy="475200"/>
            </a:xfrm>
          </p:grpSpPr>
          <p:sp>
            <p:nvSpPr>
              <p:cNvPr id="179" name=""/>
              <p:cNvSpPr/>
              <p:nvPr/>
            </p:nvSpPr>
            <p:spPr>
              <a:xfrm>
                <a:off x="925560" y="5024520"/>
                <a:ext cx="37846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    </a:t>
                </a: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C</a:t>
                </a:r>
                <a:r>
                  <a:rPr b="1" i="1" lang="it-IT" sz="2200" spc="-1" strike="noStrike" baseline="-25000">
                    <a:solidFill>
                      <a:srgbClr val="800000"/>
                    </a:solidFill>
                    <a:latin typeface="Arial"/>
                  </a:rPr>
                  <a:t>2</a:t>
                </a:r>
                <a:r>
                  <a:rPr b="1" lang="it-IT" sz="2200" spc="-1" strike="noStrike" baseline="-25000">
                    <a:solidFill>
                      <a:srgbClr val="777777"/>
                    </a:solidFill>
                    <a:latin typeface="Arial"/>
                  </a:rPr>
                  <a:t> </a:t>
                </a:r>
                <a:r>
                  <a:rPr b="1" lang="it-IT" sz="2200" spc="-1" strike="noStrike">
                    <a:solidFill>
                      <a:srgbClr val="777777"/>
                    </a:solidFill>
                    <a:latin typeface="Arial"/>
                  </a:rPr>
                  <a:t>=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Electronic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PC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174480" y="5163840"/>
                <a:ext cx="227520" cy="211320"/>
                <a:chOff x="3174480" y="5163840"/>
                <a:chExt cx="227520" cy="2113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174840" y="516744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02000" y="516744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83" name=""/>
                <p:cNvCxnSpPr>
                  <a:stCxn id="181" idx="0"/>
                  <a:endCxn id="182" idx="0"/>
                </p:cNvCxnSpPr>
                <p:nvPr/>
              </p:nvCxnSpPr>
              <p:spPr>
                <a:xfrm>
                  <a:off x="3174480" y="5163840"/>
                  <a:ext cx="22788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  <p:sp>
          <p:nvSpPr>
            <p:cNvPr id="184" name=""/>
            <p:cNvSpPr/>
            <p:nvPr/>
          </p:nvSpPr>
          <p:spPr>
            <a:xfrm>
              <a:off x="711360" y="4589640"/>
              <a:ext cx="382716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8484"/>
                  </a:solidFill>
                  <a:latin typeface="Arial"/>
                </a:rPr>
                <a:t>Conjun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9800" y="5484960"/>
              <a:ext cx="38275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190440" indent="-190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	</a:t>
              </a:r>
              <a:r>
                <a:rPr b="1" lang="it-IT" sz="2000" spc="-1" strike="noStrike">
                  <a:solidFill>
                    <a:srgbClr val="008484"/>
                  </a:solidFill>
                  <a:latin typeface="Arial"/>
                </a:rPr>
                <a:t>Disjunc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66960" y="5894280"/>
              <a:ext cx="7162560" cy="475200"/>
              <a:chOff x="966960" y="5894280"/>
              <a:chExt cx="7162560" cy="475200"/>
            </a:xfrm>
          </p:grpSpPr>
          <p:sp>
            <p:nvSpPr>
              <p:cNvPr id="187" name=""/>
              <p:cNvSpPr/>
              <p:nvPr/>
            </p:nvSpPr>
            <p:spPr>
              <a:xfrm>
                <a:off x="966960" y="5894280"/>
                <a:ext cx="71625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    </a:t>
                </a:r>
                <a:r>
                  <a:rPr b="1" i="1" lang="it-IT" sz="2200" spc="-1" strike="noStrike">
                    <a:solidFill>
                      <a:srgbClr val="800000"/>
                    </a:solidFill>
                    <a:latin typeface="Arial"/>
                  </a:rPr>
                  <a:t>C</a:t>
                </a:r>
                <a:r>
                  <a:rPr b="1" i="1" lang="it-IT" sz="2200" spc="-1" strike="noStrike" baseline="-25000">
                    <a:solidFill>
                      <a:srgbClr val="800000"/>
                    </a:solidFill>
                    <a:latin typeface="Arial"/>
                  </a:rPr>
                  <a:t>4</a:t>
                </a:r>
                <a:r>
                  <a:rPr b="1" lang="it-IT" sz="2200" spc="-1" strike="noStrike" baseline="-25000">
                    <a:solidFill>
                      <a:srgbClr val="777777"/>
                    </a:solidFill>
                    <a:latin typeface="Arial"/>
                  </a:rPr>
                  <a:t> </a:t>
                </a:r>
                <a:r>
                  <a:rPr b="1" lang="it-IT" sz="2200" spc="-1" strike="noStrike">
                    <a:solidFill>
                      <a:srgbClr val="777777"/>
                    </a:solidFill>
                    <a:latin typeface="Arial"/>
                  </a:rPr>
                  <a:t>=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Electronic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</a:t>
                </a:r>
                <a:r>
                  <a:rPr b="0" lang="it-IT" sz="2200" spc="-1" strike="noStrike">
                    <a:solidFill>
                      <a:srgbClr val="000099"/>
                    </a:solidFill>
                    <a:latin typeface="Arial"/>
                  </a:rPr>
                  <a:t>(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Cameras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      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Photo</a:t>
                </a:r>
                <a:r>
                  <a:rPr b="0" lang="it-IT" sz="2200" spc="-1" strike="noStrike">
                    <a:solidFill>
                      <a:srgbClr val="000099"/>
                    </a:solidFill>
                    <a:latin typeface="Arial"/>
                  </a:rPr>
                  <a:t>)    </a:t>
                </a:r>
                <a:r>
                  <a:rPr b="0" i="1" lang="it-IT" sz="22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r>
                  <a:rPr b="0" i="1" lang="it-IT" sz="2200" spc="-1" strike="noStrike" baseline="-25000">
                    <a:solidFill>
                      <a:srgbClr val="000099"/>
                    </a:solidFill>
                    <a:latin typeface="Arial"/>
                  </a:rPr>
                  <a:t>Digital Camera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3187440" y="6060600"/>
                <a:ext cx="259200" cy="211680"/>
                <a:chOff x="3187440" y="6060600"/>
                <a:chExt cx="259200" cy="2116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187800" y="6064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446640" y="6064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1" name=""/>
                <p:cNvCxnSpPr>
                  <a:stCxn id="189" idx="0"/>
                  <a:endCxn id="190" idx="0"/>
                </p:cNvCxnSpPr>
                <p:nvPr/>
              </p:nvCxnSpPr>
              <p:spPr>
                <a:xfrm>
                  <a:off x="3187440" y="606060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192" name=""/>
              <p:cNvGrpSpPr/>
              <p:nvPr/>
            </p:nvGrpSpPr>
            <p:grpSpPr>
              <a:xfrm>
                <a:off x="5916240" y="6033600"/>
                <a:ext cx="259200" cy="211680"/>
                <a:chOff x="5916240" y="6033600"/>
                <a:chExt cx="259200" cy="2116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916600" y="6037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175440" y="6037200"/>
                  <a:ext cx="0" cy="20808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5" name=""/>
                <p:cNvCxnSpPr>
                  <a:stCxn id="193" idx="0"/>
                  <a:endCxn id="194" idx="0"/>
                </p:cNvCxnSpPr>
                <p:nvPr/>
              </p:nvCxnSpPr>
              <p:spPr>
                <a:xfrm>
                  <a:off x="5916240" y="603360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  <p:grpSp>
            <p:nvGrpSpPr>
              <p:cNvPr id="196" name=""/>
              <p:cNvGrpSpPr/>
              <p:nvPr/>
            </p:nvGrpSpPr>
            <p:grpSpPr>
              <a:xfrm>
                <a:off x="4722480" y="6046920"/>
                <a:ext cx="259200" cy="211320"/>
                <a:chOff x="4722480" y="6046920"/>
                <a:chExt cx="259200" cy="21132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4981320" y="60469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4722480" y="6046920"/>
                  <a:ext cx="0" cy="20772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cxnSp>
              <p:nvCxnSpPr>
                <p:cNvPr id="199" name=""/>
                <p:cNvCxnSpPr>
                  <a:stCxn id="197" idx="0"/>
                  <a:endCxn id="198" idx="0"/>
                </p:cNvCxnSpPr>
                <p:nvPr/>
              </p:nvCxnSpPr>
              <p:spPr>
                <a:xfrm flipH="1" flipV="1">
                  <a:off x="4722480" y="6257520"/>
                  <a:ext cx="259560" cy="1080"/>
                </a:xfrm>
                <a:prstGeom prst="straightConnector1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</p:cxnSp>
          </p:grpSp>
        </p:grpSp>
        <p:sp>
          <p:nvSpPr>
            <p:cNvPr id="200" name=""/>
            <p:cNvSpPr/>
            <p:nvPr/>
          </p:nvSpPr>
          <p:spPr>
            <a:xfrm>
              <a:off x="453960" y="4143240"/>
              <a:ext cx="4905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Two types of concepts of nod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5437080" y="3984480"/>
              <a:ext cx="3935520" cy="2187360"/>
              <a:chOff x="5437080" y="3984480"/>
              <a:chExt cx="3935520" cy="2187360"/>
            </a:xfrm>
          </p:grpSpPr>
          <p:sp>
            <p:nvSpPr>
              <p:cNvPr id="202" name=""/>
              <p:cNvSpPr/>
              <p:nvPr/>
            </p:nvSpPr>
            <p:spPr>
              <a:xfrm>
                <a:off x="7412040" y="4686120"/>
                <a:ext cx="1770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Cameras and Pho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19840" y="3984480"/>
                <a:ext cx="158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Electronic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4" name=""/>
              <p:cNvCxnSpPr>
                <a:stCxn id="205" idx="4"/>
                <a:endCxn id="206" idx="0"/>
              </p:cNvCxnSpPr>
              <p:nvPr/>
            </p:nvCxnSpPr>
            <p:spPr>
              <a:xfrm flipH="1">
                <a:off x="6136920" y="4558680"/>
                <a:ext cx="568800" cy="3834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07" name=""/>
              <p:cNvSpPr/>
              <p:nvPr/>
            </p:nvSpPr>
            <p:spPr>
              <a:xfrm>
                <a:off x="7504200" y="5529240"/>
                <a:ext cx="186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Digital  Camer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8" name=""/>
              <p:cNvCxnSpPr>
                <a:stCxn id="209" idx="4"/>
                <a:endCxn id="210" idx="0"/>
              </p:cNvCxnSpPr>
              <p:nvPr/>
            </p:nvCxnSpPr>
            <p:spPr>
              <a:xfrm>
                <a:off x="7327440" y="5173560"/>
                <a:ext cx="13320" cy="573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11" name=""/>
              <p:cNvSpPr/>
              <p:nvPr/>
            </p:nvSpPr>
            <p:spPr>
              <a:xfrm>
                <a:off x="5437080" y="4811760"/>
                <a:ext cx="88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P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2" name=""/>
              <p:cNvCxnSpPr>
                <a:stCxn id="205" idx="4"/>
                <a:endCxn id="209" idx="0"/>
              </p:cNvCxnSpPr>
              <p:nvPr/>
            </p:nvCxnSpPr>
            <p:spPr>
              <a:xfrm>
                <a:off x="6705720" y="4558680"/>
                <a:ext cx="622800" cy="3834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205" name=""/>
              <p:cNvSpPr/>
              <p:nvPr/>
            </p:nvSpPr>
            <p:spPr>
              <a:xfrm>
                <a:off x="6591240" y="4327560"/>
                <a:ext cx="228600" cy="2314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02280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215120" y="4941720"/>
                <a:ext cx="22716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24480" y="5746680"/>
                <a:ext cx="230400" cy="231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90440" indent="-19044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8484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81EF-7DF2-4BA5-8EE1-276730E27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10:33:46Z</dcterms:created>
  <dc:creator>Pavel Shvaiko</dc:creator>
  <dc:description/>
  <dc:language>en-US</dc:language>
  <cp:lastModifiedBy>server</cp:lastModifiedBy>
  <dcterms:modified xsi:type="dcterms:W3CDTF">2005-11-01T16:42:06Z</dcterms:modified>
  <cp:revision>811</cp:revision>
  <dc:subject/>
  <dc:title>S-Match CoopIS'05</dc:title>
</cp:coreProperties>
</file>