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media/image16.wmf" ContentType="image/x-wmf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it-IT" sz="1200" spc="-1" strike="noStrike">
                <a:solidFill>
                  <a:srgbClr val="008484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2"/>
          </p:nvPr>
        </p:nvSpPr>
        <p:spPr>
          <a:xfrm>
            <a:off x="3973320" y="-360"/>
            <a:ext cx="30366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it-IT" sz="1200" spc="-1" strike="noStrike">
                <a:solidFill>
                  <a:srgbClr val="008484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it-IT" sz="1200" spc="-1" strike="noStrike">
                <a:solidFill>
                  <a:srgbClr val="008484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96640" y="693720"/>
            <a:ext cx="461628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484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3"/>
          </p:nvPr>
        </p:nvSpPr>
        <p:spPr>
          <a:xfrm>
            <a:off x="0" y="8773920"/>
            <a:ext cx="30369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it-IT" sz="1200" spc="-1" strike="noStrike">
                <a:solidFill>
                  <a:srgbClr val="008484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it-IT" sz="1200" spc="-1" strike="noStrike">
                <a:solidFill>
                  <a:srgbClr val="008484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4"/>
          </p:nvPr>
        </p:nvSpPr>
        <p:spPr>
          <a:xfrm>
            <a:off x="3973320" y="8773920"/>
            <a:ext cx="30366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it-IT" sz="1200" spc="-1" strike="noStrike">
                <a:solidFill>
                  <a:srgbClr val="008484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AD13A1-634E-4DCF-93C4-73EF1865B55B}" type="slidenum">
              <a:rPr b="0" lang="it-IT" sz="1200" spc="-1" strike="noStrike">
                <a:solidFill>
                  <a:srgbClr val="00848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ypony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subordinate, subordinate word -- (a word that is more specific than a given word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ony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part name -- (a word that names a part of a larger whole; "`brim' and `crown' are meronyms of `hat'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yperny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superordinate, superordinate word -- (a word that is more generic than a given wo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ony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hole name -- (a word that names the whole of which a given word is a part; "`hat' is a holonym for `brim' and `crown'"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yns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- (a set of one or more synonyms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FB993-48BA-4680-9F2B-35FBB5D96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BCA0-A335-4FC8-B85F-8337D4DC9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1B30-4D7A-4347-9F9C-845AF9F9D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C716-04D1-456D-9ED6-7A73F0DEA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FF28-07D0-4CCF-8373-C064F00D1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38B5-E868-4AAA-8F5F-5E9C49617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7815-FF0F-4854-B08A-0F322D699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D437-CA70-4025-B4ED-240D5EC582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BE87-8C60-4670-91B9-E300C70AF1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6F1B-3E82-4185-9805-68AAA7AE7C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6726-EA2B-4217-92BB-E2E2BB61F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E3E0-B4C3-48E5-A181-2B4091878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2" name="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A23D-021E-40CD-8BEA-17BE9B098B13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34960" y="6521400"/>
            <a:ext cx="71503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8484"/>
                </a:solidFill>
                <a:latin typeface="Arial"/>
              </a:rPr>
              <a:t>1st European Semantic Web Symposium, 11 May 2004, Crete, Gree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-95040"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428840" indent="-95400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0"/>
            <a:ext cx="5867280" cy="1371600"/>
            <a:chOff x="0" y="0"/>
            <a:chExt cx="5867280" cy="1371600"/>
          </a:xfrm>
        </p:grpSpPr>
        <p:sp>
          <p:nvSpPr>
            <p:cNvPr id="56" name=""/>
            <p:cNvSpPr/>
            <p:nvPr/>
          </p:nvSpPr>
          <p:spPr>
            <a:xfrm rot="16200000">
              <a:off x="2376360" y="-21193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6200000">
              <a:off x="-495000" y="4953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101520"/>
            <a:ext cx="3578040" cy="9972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3276720" y="5486400"/>
            <a:ext cx="5867280" cy="1371600"/>
            <a:chOff x="3276720" y="5486400"/>
            <a:chExt cx="5867280" cy="1371600"/>
          </a:xfrm>
        </p:grpSpPr>
        <p:sp>
          <p:nvSpPr>
            <p:cNvPr id="60" name=""/>
            <p:cNvSpPr/>
            <p:nvPr/>
          </p:nvSpPr>
          <p:spPr>
            <a:xfrm rot="5400000">
              <a:off x="5396040" y="33667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5400000">
              <a:off x="8267760" y="59817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1495080"/>
            <a:ext cx="5994360" cy="390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359000"/>
            <a:ext cx="5854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0"/>
            <a:ext cx="0" cy="13590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63760" y="5492880"/>
            <a:ext cx="0" cy="13651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63760" y="5486400"/>
            <a:ext cx="5880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3808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762120" algn="ctr">
              <a:spcBef>
                <a:spcPts val="374"/>
              </a:spcBef>
              <a:buClr>
                <a:srgbClr val="008484"/>
              </a:buClr>
              <a:buSzPct val="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047600" algn="ctr">
              <a:spcBef>
                <a:spcPts val="349"/>
              </a:spcBef>
              <a:buClr>
                <a:srgbClr val="008484"/>
              </a:buClr>
              <a:buSzPct val="4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333440" algn="ctr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3.png"/><Relationship Id="rId11" Type="http://schemas.openxmlformats.org/officeDocument/2006/relationships/slide" Target="slide6.xml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" Target="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dit.unitn.it/~accord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70080" y="1850760"/>
            <a:ext cx="7478640" cy="195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00000"/>
                </a:solidFill>
                <a:latin typeface="Arial"/>
              </a:rPr>
              <a:t>S-Match:</a:t>
            </a:r>
            <a:br>
              <a:rPr sz="3000"/>
            </a:br>
            <a:r>
              <a:rPr b="1" lang="en-GB" sz="3000" spc="-1" strike="noStrike">
                <a:solidFill>
                  <a:srgbClr val="800000"/>
                </a:solidFill>
                <a:latin typeface="Arial"/>
              </a:rPr>
              <a:t>an Algorithm and an Implementation of Semantic Matching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09880" y="3857400"/>
            <a:ext cx="42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Pavel Shvaik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05160" y="5530680"/>
            <a:ext cx="5614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1</a:t>
            </a:r>
            <a:r>
              <a:rPr b="1" lang="it-IT" sz="1600" spc="-1" strike="noStrike" baseline="30000">
                <a:solidFill>
                  <a:srgbClr val="008484"/>
                </a:solidFill>
                <a:latin typeface="Arial"/>
              </a:rPr>
              <a:t>st</a:t>
            </a: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 European Semantic Web Symposium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11 May 2004, Crete, Gre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84480" y="4406760"/>
            <a:ext cx="557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paper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Fausto Giunchiglia and Mikalai Yatskev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3479760"/>
            <a:ext cx="118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5840" y="3635280"/>
            <a:ext cx="961920" cy="1238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30320" y="4524480"/>
            <a:ext cx="898560" cy="12538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758960" y="5473800"/>
            <a:ext cx="8967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94920" y="1003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Step 2: c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mpute concepts at nod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6436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extend </a:t>
            </a:r>
            <a:r>
              <a:rPr b="1" lang="it-IT" sz="19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by capturing the knowledge residing in a structure of a graph in order to define a context in which the given </a:t>
            </a:r>
            <a:r>
              <a:rPr b="1" lang="it-IT" sz="1900" spc="-1" strike="noStrike">
                <a:solidFill>
                  <a:srgbClr val="000099"/>
                </a:solidFill>
                <a:latin typeface="Arial"/>
              </a:rPr>
              <a:t>concept at a label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occurs</a:t>
            </a:r>
            <a:endParaRPr b="1" lang="en-US" sz="19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Computation: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1900" spc="-1" strike="noStrike">
                <a:solidFill>
                  <a:srgbClr val="800000"/>
                </a:solidFill>
                <a:latin typeface="Arial"/>
              </a:rPr>
              <a:t>Concept at a node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for some node </a:t>
            </a:r>
            <a:r>
              <a:rPr b="1" i="1" lang="it-IT" sz="1900" spc="-1" strike="noStrike">
                <a:solidFill>
                  <a:srgbClr val="008484"/>
                </a:solidFill>
                <a:latin typeface="Arial"/>
              </a:rPr>
              <a:t>n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is computed as an intersection of </a:t>
            </a:r>
            <a:r>
              <a:rPr b="1" lang="it-IT" sz="19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 located above the given node, including the node itself</a:t>
            </a:r>
            <a:endParaRPr b="1" lang="en-US" sz="19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406600" y="3424320"/>
            <a:ext cx="5543640" cy="2328840"/>
            <a:chOff x="2406600" y="3424320"/>
            <a:chExt cx="5543640" cy="2328840"/>
          </a:xfrm>
        </p:grpSpPr>
        <p:sp>
          <p:nvSpPr>
            <p:cNvPr id="267" name=""/>
            <p:cNvSpPr/>
            <p:nvPr/>
          </p:nvSpPr>
          <p:spPr>
            <a:xfrm>
              <a:off x="5283360" y="4344840"/>
              <a:ext cx="26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Wine and Che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406600" y="3424320"/>
              <a:ext cx="4081320" cy="2328840"/>
              <a:chOff x="2406600" y="3424320"/>
              <a:chExt cx="4081320" cy="2328840"/>
            </a:xfrm>
          </p:grpSpPr>
          <p:sp>
            <p:nvSpPr>
              <p:cNvPr id="269" name=""/>
              <p:cNvSpPr/>
              <p:nvPr/>
            </p:nvSpPr>
            <p:spPr>
              <a:xfrm>
                <a:off x="2606400" y="5354280"/>
                <a:ext cx="1793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Italy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671640" y="3424320"/>
                <a:ext cx="169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1" name=""/>
              <p:cNvCxnSpPr>
                <a:stCxn id="272" idx="4"/>
                <a:endCxn id="273" idx="0"/>
              </p:cNvCxnSpPr>
              <p:nvPr/>
            </p:nvCxnSpPr>
            <p:spPr>
              <a:xfrm>
                <a:off x="3904560" y="4670280"/>
                <a:ext cx="1080" cy="600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74" name=""/>
              <p:cNvCxnSpPr>
                <a:stCxn id="275" idx="4"/>
                <a:endCxn id="272" idx="0"/>
              </p:cNvCxnSpPr>
              <p:nvPr/>
            </p:nvCxnSpPr>
            <p:spPr>
              <a:xfrm flipH="1">
                <a:off x="3904200" y="4025160"/>
                <a:ext cx="605880" cy="4021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76" name=""/>
              <p:cNvSpPr/>
              <p:nvPr/>
            </p:nvSpPr>
            <p:spPr>
              <a:xfrm>
                <a:off x="4859280" y="5308200"/>
                <a:ext cx="1628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ustr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7" name=""/>
              <p:cNvCxnSpPr>
                <a:stCxn id="278" idx="4"/>
                <a:endCxn id="279" idx="0"/>
              </p:cNvCxnSpPr>
              <p:nvPr/>
            </p:nvCxnSpPr>
            <p:spPr>
              <a:xfrm>
                <a:off x="5171760" y="4670280"/>
                <a:ext cx="13680" cy="6004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80" name=""/>
              <p:cNvSpPr/>
              <p:nvPr/>
            </p:nvSpPr>
            <p:spPr>
              <a:xfrm>
                <a:off x="2406600" y="4344840"/>
                <a:ext cx="161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Pictu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1" name=""/>
              <p:cNvCxnSpPr>
                <a:stCxn id="275" idx="4"/>
                <a:endCxn id="278" idx="0"/>
              </p:cNvCxnSpPr>
              <p:nvPr/>
            </p:nvCxnSpPr>
            <p:spPr>
              <a:xfrm>
                <a:off x="4510080" y="4025160"/>
                <a:ext cx="662400" cy="40212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75" name=""/>
              <p:cNvSpPr/>
              <p:nvPr/>
            </p:nvSpPr>
            <p:spPr>
              <a:xfrm>
                <a:off x="4387680" y="3782880"/>
                <a:ext cx="243000" cy="24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84320" y="4427280"/>
                <a:ext cx="241560" cy="24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051160" y="4427280"/>
                <a:ext cx="241560" cy="242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84320" y="5270400"/>
                <a:ext cx="241560" cy="24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62320" y="5270400"/>
                <a:ext cx="243000" cy="242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422360" y="5943600"/>
            <a:ext cx="6286680" cy="475200"/>
            <a:chOff x="1422360" y="5943600"/>
            <a:chExt cx="6286680" cy="475200"/>
          </a:xfrm>
        </p:grpSpPr>
        <p:sp>
          <p:nvSpPr>
            <p:cNvPr id="283" name=""/>
            <p:cNvSpPr/>
            <p:nvPr/>
          </p:nvSpPr>
          <p:spPr>
            <a:xfrm>
              <a:off x="1422360" y="5943600"/>
              <a:ext cx="628668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200" spc="-1" strike="noStrike">
                  <a:solidFill>
                    <a:srgbClr val="800000"/>
                  </a:solidFill>
                  <a:latin typeface="Arial"/>
                </a:rPr>
                <a:t>C</a:t>
              </a:r>
              <a:r>
                <a:rPr b="1" i="1" lang="it-IT" sz="2200" spc="-1" strike="noStrike" baseline="-25000">
                  <a:solidFill>
                    <a:srgbClr val="800000"/>
                  </a:solidFill>
                  <a:latin typeface="Arial"/>
                </a:rPr>
                <a:t>Italy</a:t>
              </a:r>
              <a:r>
                <a:rPr b="1" lang="it-IT" sz="2200" spc="-1" strike="noStrike" baseline="-25000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it-IT" sz="2200" spc="-1" strike="noStrike">
                  <a:solidFill>
                    <a:srgbClr val="777777"/>
                  </a:solidFill>
                  <a:latin typeface="Arial"/>
                </a:rPr>
                <a:t>= </a:t>
              </a:r>
              <a:r>
                <a:rPr b="0" i="1" lang="it-IT" sz="2200" spc="-1" strike="noStrike">
                  <a:solidFill>
                    <a:srgbClr val="000099"/>
                  </a:solidFill>
                  <a:latin typeface="Arial"/>
                </a:rPr>
                <a:t>C</a:t>
              </a:r>
              <a:r>
                <a:rPr b="0" i="1" lang="it-IT" sz="2200" spc="-1" strike="noStrike" baseline="-25000">
                  <a:solidFill>
                    <a:srgbClr val="000099"/>
                  </a:solidFill>
                  <a:latin typeface="Arial"/>
                </a:rPr>
                <a:t>Europe</a:t>
              </a:r>
              <a:r>
                <a:rPr b="0" i="1" lang="it-IT" sz="2200" spc="-1" strike="noStrike">
                  <a:solidFill>
                    <a:srgbClr val="000099"/>
                  </a:solidFill>
                  <a:latin typeface="Arial"/>
                </a:rPr>
                <a:t>      C</a:t>
              </a:r>
              <a:r>
                <a:rPr b="0" i="1" lang="it-IT" sz="2200" spc="-1" strike="noStrike" baseline="-25000">
                  <a:solidFill>
                    <a:srgbClr val="000099"/>
                  </a:solidFill>
                  <a:latin typeface="Arial"/>
                </a:rPr>
                <a:t>Pictires</a:t>
              </a:r>
              <a:r>
                <a:rPr b="0" i="1" lang="it-IT" sz="2200" spc="-1" strike="noStrike">
                  <a:solidFill>
                    <a:srgbClr val="000099"/>
                  </a:solidFill>
                  <a:latin typeface="Arial"/>
                </a:rPr>
                <a:t>      C</a:t>
              </a:r>
              <a:r>
                <a:rPr b="0" i="1" lang="it-IT" sz="2200" spc="-1" strike="noStrike" baseline="-25000">
                  <a:solidFill>
                    <a:srgbClr val="000099"/>
                  </a:solidFill>
                  <a:latin typeface="Arial"/>
                </a:rPr>
                <a:t>Ital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3379680" y="6082920"/>
              <a:ext cx="1492560" cy="211320"/>
              <a:chOff x="3379680" y="6082920"/>
              <a:chExt cx="1492560" cy="21132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3379680" y="6082920"/>
                <a:ext cx="227160" cy="211320"/>
                <a:chOff x="3379680" y="6082920"/>
                <a:chExt cx="227160" cy="2113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379680" y="608652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606480" y="608652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88" name=""/>
                <p:cNvCxnSpPr>
                  <a:stCxn id="286" idx="0"/>
                  <a:endCxn id="287" idx="0"/>
                </p:cNvCxnSpPr>
                <p:nvPr/>
              </p:nvCxnSpPr>
              <p:spPr>
                <a:xfrm>
                  <a:off x="3379680" y="6082920"/>
                  <a:ext cx="227520" cy="1080"/>
                </a:xfrm>
                <a:prstGeom prst="straightConnector1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</p:cxnSp>
          </p:grpSp>
          <p:grpSp>
            <p:nvGrpSpPr>
              <p:cNvPr id="289" name=""/>
              <p:cNvGrpSpPr/>
              <p:nvPr/>
            </p:nvGrpSpPr>
            <p:grpSpPr>
              <a:xfrm>
                <a:off x="4645080" y="6082920"/>
                <a:ext cx="227160" cy="211320"/>
                <a:chOff x="4645080" y="6082920"/>
                <a:chExt cx="227160" cy="2113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4645080" y="608652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871880" y="608652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292" name=""/>
                <p:cNvCxnSpPr>
                  <a:stCxn id="290" idx="0"/>
                  <a:endCxn id="291" idx="0"/>
                </p:cNvCxnSpPr>
                <p:nvPr/>
              </p:nvCxnSpPr>
              <p:spPr>
                <a:xfrm>
                  <a:off x="4645080" y="6082920"/>
                  <a:ext cx="227520" cy="1080"/>
                </a:xfrm>
                <a:prstGeom prst="straightConnector1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</p:cxn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6801-6C95-4435-A066-6BFCEF6A3D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4920" y="982440"/>
            <a:ext cx="716292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ep 3: compute relations between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60000" y="1603440"/>
            <a:ext cx="854388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en-US" sz="1900" spc="-1" strike="noStrike">
                <a:solidFill>
                  <a:srgbClr val="008484"/>
                </a:solidFill>
                <a:latin typeface="Arial"/>
              </a:rPr>
              <a:t> Exploit a priori knowledge, e.g., lexical, domain knowledge  </a:t>
            </a:r>
            <a:endParaRPr b="1" lang="en-US" sz="19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trong semantics element level matchers.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Extract semantic relations using  oracles (WordNet):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Equivalence: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is equivalent to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, iff there is at least 1 sense in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which is a synonym of a sense in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More general: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is more general than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iff there is at least 1 sense in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that has a sense in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as hyponym or meronym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Less general: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is less general than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iff there is at least 1 sense in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that has a sense in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B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as hypernym or holonym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Mismatch: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A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mismatches with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 B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if there are two senses (one from each) which are different hyponyms of the same synset or if they are antonyms.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ak semantics element level matchers.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String-based, sense-based, etc.: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Prefix: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777777"/>
                </a:solidFill>
                <a:latin typeface="Arial"/>
              </a:rPr>
              <a:t>net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is considered to be equivalent to </a:t>
            </a:r>
            <a:r>
              <a:rPr b="1" i="1" lang="en-US" sz="1600" spc="-1" strike="noStrike">
                <a:solidFill>
                  <a:srgbClr val="777777"/>
                </a:solidFill>
                <a:latin typeface="Arial"/>
              </a:rPr>
              <a:t>network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xpansion: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777777"/>
                </a:solidFill>
                <a:latin typeface="Arial"/>
              </a:rPr>
              <a:t>P.O.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is considered to be equivalent to </a:t>
            </a:r>
            <a:r>
              <a:rPr b="1" i="1" lang="en-US" sz="1600" spc="-1" strike="noStrike">
                <a:solidFill>
                  <a:srgbClr val="777777"/>
                </a:solidFill>
                <a:latin typeface="Arial"/>
              </a:rPr>
              <a:t>Post Office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oundex: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777777"/>
                </a:solidFill>
                <a:latin typeface="Arial"/>
              </a:rPr>
              <a:t>Fausto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is considered to be equivalent to </a:t>
            </a:r>
            <a:r>
              <a:rPr b="1" i="1" lang="en-US" sz="1600" spc="-1" strike="noStrike">
                <a:solidFill>
                  <a:srgbClr val="777777"/>
                </a:solidFill>
                <a:latin typeface="Arial"/>
              </a:rPr>
              <a:t>Phausto.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3521-CC0B-4FCA-A678-B43BF22BB8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95280" y="1015560"/>
            <a:ext cx="7035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ep 3: cont’d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Recall the example: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Results of step 3: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3960" y="138492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1500120"/>
            <a:ext cx="63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500120"/>
            <a:ext cx="72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500120"/>
            <a:ext cx="72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133720" y="4368960"/>
            <a:ext cx="9360" cy="9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836880" y="1258920"/>
            <a:ext cx="4972320" cy="2030760"/>
            <a:chOff x="3836880" y="1258920"/>
            <a:chExt cx="4972320" cy="2030760"/>
          </a:xfrm>
        </p:grpSpPr>
        <p:sp>
          <p:nvSpPr>
            <p:cNvPr id="304" name=""/>
            <p:cNvSpPr/>
            <p:nvPr/>
          </p:nvSpPr>
          <p:spPr>
            <a:xfrm>
              <a:off x="6097680" y="3013200"/>
              <a:ext cx="12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tal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35680" y="1609920"/>
              <a:ext cx="117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Eur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6" name=""/>
            <p:cNvCxnSpPr>
              <a:stCxn id="307" idx="4"/>
              <a:endCxn id="308" idx="0"/>
            </p:cNvCxnSpPr>
            <p:nvPr/>
          </p:nvCxnSpPr>
          <p:spPr>
            <a:xfrm>
              <a:off x="6997680" y="2514600"/>
              <a:ext cx="1080" cy="437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310" idx="4"/>
              <a:endCxn id="307" idx="0"/>
            </p:cNvCxnSpPr>
            <p:nvPr/>
          </p:nvCxnSpPr>
          <p:spPr>
            <a:xfrm flipH="1">
              <a:off x="6997680" y="2046240"/>
              <a:ext cx="419760" cy="291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1" name=""/>
            <p:cNvSpPr/>
            <p:nvPr/>
          </p:nvSpPr>
          <p:spPr>
            <a:xfrm>
              <a:off x="7893720" y="2194200"/>
              <a:ext cx="915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Wine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Chee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61520" y="2980080"/>
              <a:ext cx="113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Aust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>
              <a:stCxn id="314" idx="4"/>
              <a:endCxn id="315" idx="0"/>
            </p:cNvCxnSpPr>
            <p:nvPr/>
          </p:nvCxnSpPr>
          <p:spPr>
            <a:xfrm>
              <a:off x="7877160" y="2514600"/>
              <a:ext cx="8640" cy="437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6" name=""/>
            <p:cNvSpPr/>
            <p:nvPr/>
          </p:nvSpPr>
          <p:spPr>
            <a:xfrm>
              <a:off x="5957280" y="2277720"/>
              <a:ext cx="112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Pic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"/>
            <p:cNvCxnSpPr>
              <a:stCxn id="310" idx="4"/>
              <a:endCxn id="314" idx="0"/>
            </p:cNvCxnSpPr>
            <p:nvPr/>
          </p:nvCxnSpPr>
          <p:spPr>
            <a:xfrm>
              <a:off x="7417080" y="2046240"/>
              <a:ext cx="460440" cy="291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0" name=""/>
            <p:cNvSpPr/>
            <p:nvPr/>
          </p:nvSpPr>
          <p:spPr>
            <a:xfrm>
              <a:off x="7332840" y="1870200"/>
              <a:ext cx="16812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13080" y="2338200"/>
              <a:ext cx="16848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92560" y="2338200"/>
              <a:ext cx="16812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13080" y="2951640"/>
              <a:ext cx="16848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800840" y="2951640"/>
              <a:ext cx="16812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71400" y="2296080"/>
              <a:ext cx="11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Eur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9" name=""/>
            <p:cNvCxnSpPr>
              <a:stCxn id="320" idx="4"/>
              <a:endCxn id="321" idx="0"/>
            </p:cNvCxnSpPr>
            <p:nvPr/>
          </p:nvCxnSpPr>
          <p:spPr>
            <a:xfrm flipH="1">
              <a:off x="4876560" y="2498760"/>
              <a:ext cx="420120" cy="518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2" name=""/>
            <p:cNvSpPr/>
            <p:nvPr/>
          </p:nvSpPr>
          <p:spPr>
            <a:xfrm>
              <a:off x="5773680" y="287424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ta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36880" y="2955960"/>
              <a:ext cx="112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Aust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4" name=""/>
            <p:cNvCxnSpPr>
              <a:stCxn id="320" idx="4"/>
              <a:endCxn id="325" idx="0"/>
            </p:cNvCxnSpPr>
            <p:nvPr/>
          </p:nvCxnSpPr>
          <p:spPr>
            <a:xfrm>
              <a:off x="5297040" y="2498760"/>
              <a:ext cx="460080" cy="518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0" name=""/>
            <p:cNvSpPr/>
            <p:nvPr/>
          </p:nvSpPr>
          <p:spPr>
            <a:xfrm>
              <a:off x="5212080" y="2322360"/>
              <a:ext cx="16848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92680" y="3016440"/>
              <a:ext cx="16812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72160" y="3016440"/>
              <a:ext cx="16812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26" name=""/>
            <p:cNvCxnSpPr>
              <a:stCxn id="327" idx="4"/>
              <a:endCxn id="320" idx="0"/>
            </p:cNvCxnSpPr>
            <p:nvPr/>
          </p:nvCxnSpPr>
          <p:spPr>
            <a:xfrm flipH="1">
              <a:off x="5296680" y="2070720"/>
              <a:ext cx="8640" cy="251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7" name=""/>
            <p:cNvSpPr/>
            <p:nvPr/>
          </p:nvSpPr>
          <p:spPr>
            <a:xfrm>
              <a:off x="5220000" y="1894320"/>
              <a:ext cx="168480" cy="176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76560" y="1612800"/>
              <a:ext cx="91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ma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76560" y="1258920"/>
              <a:ext cx="91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6640" y="1258920"/>
              <a:ext cx="91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96520" y="3874680"/>
            <a:ext cx="8229960" cy="2157840"/>
            <a:chOff x="596520" y="3874680"/>
            <a:chExt cx="8229960" cy="2157840"/>
          </a:xfrm>
        </p:grpSpPr>
        <p:grpSp>
          <p:nvGrpSpPr>
            <p:cNvPr id="332" name=""/>
            <p:cNvGrpSpPr/>
            <p:nvPr/>
          </p:nvGrpSpPr>
          <p:grpSpPr>
            <a:xfrm>
              <a:off x="596520" y="3874680"/>
              <a:ext cx="8229960" cy="2157480"/>
              <a:chOff x="596520" y="3874680"/>
              <a:chExt cx="8229960" cy="215748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596520" y="3874680"/>
                <a:ext cx="8229960" cy="2157480"/>
                <a:chOff x="596520" y="3874680"/>
                <a:chExt cx="8229960" cy="2157480"/>
              </a:xfrm>
            </p:grpSpPr>
            <p:grpSp>
              <p:nvGrpSpPr>
                <p:cNvPr id="334" name=""/>
                <p:cNvGrpSpPr/>
                <p:nvPr/>
              </p:nvGrpSpPr>
              <p:grpSpPr>
                <a:xfrm>
                  <a:off x="596880" y="3875040"/>
                  <a:ext cx="8229600" cy="2157120"/>
                  <a:chOff x="596880" y="3875040"/>
                  <a:chExt cx="8229600" cy="215712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1422360" y="3875040"/>
                    <a:ext cx="85572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 algn="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500" spc="-1" strike="noStrike">
                        <a:solidFill>
                          <a:srgbClr val="008484"/>
                        </a:solidFill>
                        <a:latin typeface="Arial"/>
                      </a:rPr>
                      <a:t>T2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7605720" y="5624280"/>
                    <a:ext cx="1220760" cy="40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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6432480" y="5624280"/>
                    <a:ext cx="1173240" cy="40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=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4894200" y="5624280"/>
                    <a:ext cx="1538280" cy="40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3673440" y="5624280"/>
                    <a:ext cx="1220760" cy="40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2278080" y="5624280"/>
                    <a:ext cx="1395360" cy="407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596880" y="5624280"/>
                    <a:ext cx="1681200" cy="407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Ital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605720" y="5186160"/>
                    <a:ext cx="12207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=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6432480" y="5186160"/>
                    <a:ext cx="117324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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4894200" y="5186160"/>
                    <a:ext cx="153828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3673440" y="5186160"/>
                    <a:ext cx="12207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278080" y="5186160"/>
                    <a:ext cx="13953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596880" y="5186160"/>
                    <a:ext cx="168120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Austri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605720" y="4751280"/>
                    <a:ext cx="1220760" cy="43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6432480" y="4751280"/>
                    <a:ext cx="1173240" cy="43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4894200" y="4751280"/>
                    <a:ext cx="1538280" cy="43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3673440" y="4751280"/>
                    <a:ext cx="1220760" cy="43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278080" y="4751280"/>
                    <a:ext cx="1395360" cy="434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=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596880" y="4751280"/>
                    <a:ext cx="1681200" cy="434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Europ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7605720" y="4313160"/>
                    <a:ext cx="12207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432480" y="4313160"/>
                    <a:ext cx="117324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4894200" y="4313160"/>
                    <a:ext cx="153828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3673440" y="4313160"/>
                    <a:ext cx="12207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=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278080" y="4313160"/>
                    <a:ext cx="1395360" cy="43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596880" y="4313160"/>
                    <a:ext cx="168120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fr-FR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fr-FR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Image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7605720" y="3875040"/>
                    <a:ext cx="122076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Austri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6432480" y="3875040"/>
                    <a:ext cx="117324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Italy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4894200" y="3875040"/>
                    <a:ext cx="153828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673440" y="3875040"/>
                    <a:ext cx="122076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Pictures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278080" y="3875040"/>
                    <a:ext cx="139536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marL="190440" indent="-190440" algn="ctr">
                      <a:lnSpc>
                        <a:spcPct val="100000"/>
                      </a:lnSpc>
                      <a:tabLst>
                        <a:tab algn="l" pos="0"/>
                        <a:tab algn="l" pos="53964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it-IT" sz="1500" spc="-1" strike="noStrike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r>
                      <a:rPr b="1" i="1" lang="it-IT" sz="1500" spc="-1" strike="noStrike" baseline="-30000">
                        <a:solidFill>
                          <a:srgbClr val="000099"/>
                        </a:solidFill>
                        <a:latin typeface="Times New Roman"/>
                        <a:ea typeface="Times New Roman"/>
                      </a:rPr>
                      <a:t>Europ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596880" y="3875040"/>
                    <a:ext cx="825480" cy="4381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rmAutofit/>
                  </a:bodyPr>
                  <a:p>
                    <a:pPr>
                      <a:lnSpc>
                        <a:spcPct val="100000"/>
                      </a:lnSpc>
                      <a:spcBef>
                        <a:spcPts val="37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1500" spc="-1" strike="noStrike">
                        <a:solidFill>
                          <a:srgbClr val="008484"/>
                        </a:solidFill>
                        <a:latin typeface="Arial"/>
                      </a:rPr>
                      <a:t>T1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596880" y="387504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596880" y="603216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596880" y="38750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826480" y="38750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96880" y="431316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2278080" y="38750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673440" y="38750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894200" y="38750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6432480" y="38750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7605720" y="3875040"/>
                    <a:ext cx="0" cy="215712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596880" y="475128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596880" y="518616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596880" y="5624280"/>
                    <a:ext cx="8229600" cy="0"/>
                  </a:xfrm>
                  <a:prstGeom prst="line">
                    <a:avLst/>
                  </a:prstGeom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596520" y="3874680"/>
                  <a:ext cx="7645680" cy="2078280"/>
                  <a:chOff x="596520" y="3874680"/>
                  <a:chExt cx="7645680" cy="2078280"/>
                </a:xfrm>
              </p:grpSpPr>
              <p:cxnSp>
                <p:nvCxnSpPr>
                  <p:cNvPr id="380" name=""/>
                  <p:cNvCxnSpPr/>
                  <p:nvPr/>
                </p:nvCxnSpPr>
                <p:spPr>
                  <a:xfrm>
                    <a:off x="596520" y="3874680"/>
                    <a:ext cx="1685160" cy="4323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2858760" y="4876560"/>
                    <a:ext cx="5383440" cy="1076400"/>
                    <a:chOff x="2858760" y="4876560"/>
                    <a:chExt cx="5383440" cy="1076400"/>
                  </a:xfrm>
                </p:grpSpPr>
                <p:pic>
                  <p:nvPicPr>
                    <p:cNvPr id="38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932520" y="4890960"/>
                      <a:ext cx="149400" cy="19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8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082000" y="4876560"/>
                      <a:ext cx="160200" cy="20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 flipH="1">
                      <a:off x="2858760" y="5292360"/>
                      <a:ext cx="181080" cy="2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 flipH="1">
                      <a:off x="2858760" y="5738760"/>
                      <a:ext cx="181080" cy="21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sp>
            <p:nvSpPr>
              <p:cNvPr id="386" name=""/>
              <p:cNvSpPr/>
              <p:nvPr/>
            </p:nvSpPr>
            <p:spPr>
              <a:xfrm>
                <a:off x="4965840" y="3936960"/>
                <a:ext cx="60948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500" spc="-1" strike="noStrike">
                    <a:solidFill>
                      <a:srgbClr val="000099"/>
                    </a:solidFill>
                    <a:latin typeface="Times New Roman"/>
                  </a:rPr>
                  <a:t>C</a:t>
                </a:r>
                <a:r>
                  <a:rPr b="1" i="1" lang="it-IT" sz="1500" spc="-1" strike="noStrike" baseline="-25000">
                    <a:solidFill>
                      <a:srgbClr val="000099"/>
                    </a:solidFill>
                    <a:latin typeface="Times New Roman"/>
                  </a:rPr>
                  <a:t>Win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715000" y="3949560"/>
                <a:ext cx="73656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500" spc="-1" strike="noStrike">
                    <a:solidFill>
                      <a:srgbClr val="000099"/>
                    </a:solidFill>
                    <a:latin typeface="Times New Roman"/>
                  </a:rPr>
                  <a:t>C</a:t>
                </a:r>
                <a:r>
                  <a:rPr b="1" i="1" lang="it-IT" sz="1500" spc="-1" strike="noStrike" baseline="-25000">
                    <a:solidFill>
                      <a:srgbClr val="000099"/>
                    </a:solidFill>
                    <a:latin typeface="Times New Roman"/>
                  </a:rPr>
                  <a:t>Chees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5651640" y="3886200"/>
              <a:ext cx="0" cy="21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C72A6-2648-47B6-AF82-04A7E5A6C6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82320" y="982440"/>
            <a:ext cx="71629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Step 4: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mpute relations between concepts at nod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4431960"/>
            <a:ext cx="846288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8484"/>
              </a:solidFill>
              <a:latin typeface="Arial"/>
            </a:endParaRPr>
          </a:p>
          <a:p>
            <a:pPr marL="1904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Context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8484"/>
                </a:solidFill>
                <a:latin typeface="Symbol"/>
                <a:ea typeface="Symbol"/>
              </a:rPr>
              <a:t>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(</a:t>
            </a:r>
            <a:r>
              <a:rPr b="1" lang="it-IT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C1</a:t>
            </a:r>
            <a:r>
              <a:rPr b="1" lang="it-IT" sz="1800" spc="-1" strike="noStrike" baseline="-25000">
                <a:solidFill>
                  <a:srgbClr val="800000"/>
                </a:solidFill>
                <a:latin typeface="Arial"/>
                <a:ea typeface="Times New Roman"/>
              </a:rPr>
              <a:t>i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, </a:t>
            </a:r>
            <a:r>
              <a:rPr b="1" lang="it-IT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C2</a:t>
            </a:r>
            <a:r>
              <a:rPr b="1" lang="it-IT" sz="1800" spc="-1" strike="noStrike" baseline="-25000">
                <a:solidFill>
                  <a:srgbClr val="800000"/>
                </a:solidFill>
                <a:latin typeface="Arial"/>
                <a:ea typeface="Times New Roman"/>
              </a:rPr>
              <a:t>j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)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 propositional formula is valid iff its negation is unsatisfiable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SAT deciders are sound and complete…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" y="1562040"/>
            <a:ext cx="806436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en-US" sz="1900" spc="-1" strike="noStrike">
                <a:solidFill>
                  <a:srgbClr val="008484"/>
                </a:solidFill>
                <a:latin typeface="Arial"/>
              </a:rPr>
              <a:t> Reduce the matching problem to a validity problem</a:t>
            </a:r>
            <a:r>
              <a:rPr b="1" lang="it-IT" sz="15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We take the relations between 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 computed in step 3 as axioms (</a:t>
            </a:r>
            <a:r>
              <a:rPr b="1" lang="it-IT" sz="1800" spc="-1" strike="noStrike">
                <a:solidFill>
                  <a:srgbClr val="000099"/>
                </a:solidFill>
                <a:latin typeface="Arial"/>
              </a:rPr>
              <a:t>Context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) for reasoning about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l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ations between </a:t>
            </a:r>
            <a:r>
              <a:rPr b="1" lang="it-IT" sz="1800" spc="-1" strike="noStrike">
                <a:solidFill>
                  <a:srgbClr val="800000"/>
                </a:solidFill>
                <a:latin typeface="Arial"/>
              </a:rPr>
              <a:t>concepts at nodes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.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69800" y="3225960"/>
            <a:ext cx="8394840" cy="1721520"/>
            <a:chOff x="469800" y="3225960"/>
            <a:chExt cx="8394840" cy="1721520"/>
          </a:xfrm>
        </p:grpSpPr>
        <p:sp>
          <p:nvSpPr>
            <p:cNvPr id="393" name=""/>
            <p:cNvSpPr/>
            <p:nvPr/>
          </p:nvSpPr>
          <p:spPr>
            <a:xfrm>
              <a:off x="469800" y="3225960"/>
              <a:ext cx="8394840" cy="172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451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8484"/>
                  </a:solidFill>
                  <a:latin typeface="Arial"/>
                </a:rPr>
                <a:t>Construct the propositional form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0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777777"/>
                  </a:solidFill>
                  <a:latin typeface="Arial"/>
                </a:rPr>
                <a:t>C1</a:t>
              </a:r>
              <a:r>
                <a:rPr b="1" lang="it-IT" sz="1600" spc="-1" strike="noStrike" baseline="-25000">
                  <a:solidFill>
                    <a:srgbClr val="777777"/>
                  </a:solidFill>
                  <a:latin typeface="Arial"/>
                </a:rPr>
                <a:t>i</a:t>
              </a:r>
              <a:r>
                <a:rPr b="1" lang="it-IT" sz="1600" spc="-1" strike="noStrike">
                  <a:solidFill>
                    <a:srgbClr val="777777"/>
                  </a:solidFill>
                  <a:latin typeface="Arial"/>
                </a:rPr>
                <a:t> = C2</a:t>
              </a:r>
              <a:r>
                <a:rPr b="1" lang="it-IT" sz="1600" spc="-1" strike="noStrike" baseline="-25000">
                  <a:solidFill>
                    <a:srgbClr val="777777"/>
                  </a:solidFill>
                  <a:latin typeface="Arial"/>
                </a:rPr>
                <a:t>j</a:t>
              </a:r>
              <a:r>
                <a:rPr b="1" lang="it-IT" sz="1600" spc="-1" strike="noStrike">
                  <a:solidFill>
                    <a:srgbClr val="008484"/>
                  </a:solidFill>
                  <a:latin typeface="Arial"/>
                </a:rPr>
                <a:t> is translated into </a:t>
              </a:r>
              <a:r>
                <a:rPr b="1" lang="it-IT" sz="1600" spc="-1" strike="noStrike">
                  <a:solidFill>
                    <a:srgbClr val="777777"/>
                  </a:solidFill>
                  <a:latin typeface="Arial"/>
                </a:rPr>
                <a:t>C1</a:t>
              </a:r>
              <a:r>
                <a:rPr b="1" lang="it-IT" sz="1600" spc="-1" strike="noStrike" baseline="-25000">
                  <a:solidFill>
                    <a:srgbClr val="777777"/>
                  </a:solidFill>
                  <a:latin typeface="Arial"/>
                </a:rPr>
                <a:t>i</a:t>
              </a:r>
              <a:r>
                <a:rPr b="1" lang="it-IT" sz="1600" spc="-1" strike="noStrike">
                  <a:solidFill>
                    <a:srgbClr val="008484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777777"/>
                  </a:solidFill>
                  <a:latin typeface="Symbol"/>
                  <a:ea typeface="Symbol"/>
                </a:rPr>
                <a:t></a:t>
              </a:r>
              <a:r>
                <a:rPr b="1" lang="it-IT" sz="1600" spc="-1" strike="noStrike">
                  <a:solidFill>
                    <a:srgbClr val="777777"/>
                  </a:solidFill>
                  <a:latin typeface="Arial"/>
                </a:rPr>
                <a:t> C2</a:t>
              </a:r>
              <a:r>
                <a:rPr b="1" lang="it-IT" sz="1600" spc="-1" strike="noStrike" baseline="-25000">
                  <a:solidFill>
                    <a:srgbClr val="777777"/>
                  </a:solidFill>
                  <a:latin typeface="Arial"/>
                </a:rPr>
                <a:t>j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0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777777"/>
                  </a:solidFill>
                  <a:latin typeface="Arial"/>
                </a:rPr>
                <a:t>C1</a:t>
              </a:r>
              <a:r>
                <a:rPr b="1" lang="it-IT" sz="1600" spc="-1" strike="noStrike" baseline="-25000">
                  <a:solidFill>
                    <a:srgbClr val="777777"/>
                  </a:solidFill>
                  <a:latin typeface="Arial"/>
                </a:rPr>
                <a:t>i</a:t>
              </a:r>
              <a:r>
                <a:rPr b="1" lang="it-IT" sz="1600" spc="-1" strike="noStrike">
                  <a:solidFill>
                    <a:srgbClr val="777777"/>
                  </a:solidFill>
                  <a:latin typeface="Arial"/>
                </a:rPr>
                <a:t>    C2</a:t>
              </a:r>
              <a:r>
                <a:rPr b="1" lang="it-IT" sz="1600" spc="-1" strike="noStrike" baseline="-25000">
                  <a:solidFill>
                    <a:srgbClr val="777777"/>
                  </a:solidFill>
                  <a:latin typeface="Arial"/>
                </a:rPr>
                <a:t>j</a:t>
              </a:r>
              <a:r>
                <a:rPr b="1" lang="it-IT" sz="16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8484"/>
                  </a:solidFill>
                  <a:latin typeface="Arial"/>
                </a:rPr>
                <a:t>is translated into </a:t>
              </a:r>
              <a:r>
                <a:rPr b="1" lang="it-IT" sz="1600" spc="-1" strike="noStrike">
                  <a:solidFill>
                    <a:srgbClr val="777777"/>
                  </a:solidFill>
                  <a:latin typeface="Arial"/>
                </a:rPr>
                <a:t>C1</a:t>
              </a:r>
              <a:r>
                <a:rPr b="1" lang="it-IT" sz="1600" spc="-1" strike="noStrike" baseline="-25000">
                  <a:solidFill>
                    <a:srgbClr val="777777"/>
                  </a:solidFill>
                  <a:latin typeface="Arial"/>
                </a:rPr>
                <a:t>i</a:t>
              </a:r>
              <a:r>
                <a:rPr b="1" lang="it-IT" sz="1600" spc="-1" strike="noStrike">
                  <a:solidFill>
                    <a:srgbClr val="008484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777777"/>
                  </a:solidFill>
                  <a:latin typeface="Symbol"/>
                  <a:ea typeface="Symbol"/>
                </a:rPr>
                <a:t></a:t>
              </a:r>
              <a:r>
                <a:rPr b="1" lang="it-IT" sz="1600" spc="-1" strike="noStrike">
                  <a:solidFill>
                    <a:srgbClr val="777777"/>
                  </a:solidFill>
                  <a:latin typeface="Arial"/>
                </a:rPr>
                <a:t> C2</a:t>
              </a:r>
              <a:r>
                <a:rPr b="1" lang="it-IT" sz="1600" spc="-1" strike="noStrike" baseline="-25000">
                  <a:solidFill>
                    <a:srgbClr val="777777"/>
                  </a:solidFill>
                  <a:latin typeface="Arial"/>
                </a:rPr>
                <a:t>j</a:t>
              </a:r>
              <a:r>
                <a:rPr b="1" lang="it-IT" sz="16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8484"/>
                  </a:solidFill>
                  <a:latin typeface="Arial"/>
                </a:rPr>
                <a:t> (analogously for   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0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8484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777777"/>
                  </a:solidFill>
                  <a:latin typeface="Arial"/>
                </a:rPr>
                <a:t>C1</a:t>
              </a:r>
              <a:r>
                <a:rPr b="1" lang="it-IT" sz="1600" spc="-1" strike="noStrike" baseline="-25000">
                  <a:solidFill>
                    <a:srgbClr val="777777"/>
                  </a:solidFill>
                  <a:latin typeface="Arial"/>
                </a:rPr>
                <a:t>i</a:t>
              </a:r>
              <a:r>
                <a:rPr b="1" lang="it-IT" sz="16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777777"/>
                  </a:solidFill>
                  <a:latin typeface="Symbol"/>
                  <a:ea typeface="Symbol"/>
                </a:rPr>
                <a:t></a:t>
              </a:r>
              <a:r>
                <a:rPr b="1" lang="it-IT" sz="1600" spc="-1" strike="noStrike">
                  <a:solidFill>
                    <a:srgbClr val="777777"/>
                  </a:solidFill>
                  <a:latin typeface="Arial"/>
                </a:rPr>
                <a:t> C2</a:t>
              </a:r>
              <a:r>
                <a:rPr b="1" lang="it-IT" sz="1600" spc="-1" strike="noStrike" baseline="-25000">
                  <a:solidFill>
                    <a:srgbClr val="777777"/>
                  </a:solidFill>
                  <a:latin typeface="Arial"/>
                </a:rPr>
                <a:t>j</a:t>
              </a:r>
              <a:r>
                <a:rPr b="1" lang="it-IT" sz="16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008484"/>
                  </a:solidFill>
                  <a:latin typeface="Arial"/>
                </a:rPr>
                <a:t>is translated into </a:t>
              </a:r>
              <a:r>
                <a:rPr b="1" lang="en-US" sz="1600" spc="-1" strike="noStrike">
                  <a:solidFill>
                    <a:srgbClr val="777777"/>
                  </a:solidFill>
                  <a:latin typeface="Arial"/>
                </a:rPr>
                <a:t>¬ (</a:t>
              </a:r>
              <a:r>
                <a:rPr b="1" lang="it-IT" sz="1600" spc="-1" strike="noStrike">
                  <a:solidFill>
                    <a:srgbClr val="777777"/>
                  </a:solidFill>
                  <a:latin typeface="Arial"/>
                </a:rPr>
                <a:t>C1</a:t>
              </a:r>
              <a:r>
                <a:rPr b="1" lang="it-IT" sz="1600" spc="-1" strike="noStrike" baseline="-25000">
                  <a:solidFill>
                    <a:srgbClr val="777777"/>
                  </a:solidFill>
                  <a:latin typeface="Arial"/>
                </a:rPr>
                <a:t>i</a:t>
              </a:r>
              <a:r>
                <a:rPr b="1" lang="en-US" sz="1600" spc="-1" strike="noStrike">
                  <a:solidFill>
                    <a:srgbClr val="777777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777777"/>
                  </a:solidFill>
                  <a:latin typeface="Symbol"/>
                  <a:ea typeface="Symbol"/>
                </a:rPr>
                <a:t></a:t>
              </a:r>
              <a:r>
                <a:rPr b="1" lang="en-US" sz="16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1" lang="it-IT" sz="1600" spc="-1" strike="noStrike">
                  <a:solidFill>
                    <a:srgbClr val="777777"/>
                  </a:solidFill>
                  <a:latin typeface="Arial"/>
                </a:rPr>
                <a:t>C2</a:t>
              </a:r>
              <a:r>
                <a:rPr b="1" lang="it-IT" sz="1600" spc="-1" strike="noStrike" baseline="-25000">
                  <a:solidFill>
                    <a:srgbClr val="777777"/>
                  </a:solidFill>
                  <a:latin typeface="Arial"/>
                </a:rPr>
                <a:t>j</a:t>
              </a:r>
              <a:r>
                <a:rPr b="1" lang="en-US" sz="1600" spc="-1" strike="noStrike">
                  <a:solidFill>
                    <a:srgbClr val="777777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001"/>
                </a:spcBef>
                <a:buClr>
                  <a:srgbClr val="777777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6424560" y="3981240"/>
              <a:ext cx="120600" cy="128880"/>
              <a:chOff x="6424560" y="3981240"/>
              <a:chExt cx="120600" cy="12888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6424560" y="3981240"/>
                <a:ext cx="120600" cy="101160"/>
                <a:chOff x="6424560" y="3981240"/>
                <a:chExt cx="120600" cy="1011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6426720" y="4082400"/>
                  <a:ext cx="117360" cy="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424560" y="3981240"/>
                  <a:ext cx="119880" cy="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544440" y="3981600"/>
                  <a:ext cx="720" cy="9612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9" name=""/>
              <p:cNvSpPr/>
              <p:nvPr/>
            </p:nvSpPr>
            <p:spPr>
              <a:xfrm>
                <a:off x="6424560" y="4110120"/>
                <a:ext cx="120600" cy="0"/>
              </a:xfrm>
              <a:prstGeom prst="line">
                <a:avLst/>
              </a:prstGeom>
              <a:ln w="190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1546200" y="3983040"/>
              <a:ext cx="109440" cy="131760"/>
              <a:chOff x="1546200" y="3983040"/>
              <a:chExt cx="109440" cy="13176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1546560" y="3983040"/>
                <a:ext cx="109080" cy="103680"/>
                <a:chOff x="1546560" y="3983040"/>
                <a:chExt cx="109080" cy="103680"/>
              </a:xfrm>
            </p:grpSpPr>
            <p:sp>
              <p:nvSpPr>
                <p:cNvPr id="402" name=""/>
                <p:cNvSpPr/>
                <p:nvPr/>
              </p:nvSpPr>
              <p:spPr>
                <a:xfrm flipH="1">
                  <a:off x="1546920" y="3983040"/>
                  <a:ext cx="106560" cy="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1546920" y="4086720"/>
                  <a:ext cx="108720" cy="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 flipV="1">
                  <a:off x="1546560" y="3988080"/>
                  <a:ext cx="360" cy="9864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 flipH="1">
                <a:off x="1546200" y="4114800"/>
                <a:ext cx="109440" cy="0"/>
              </a:xfrm>
              <a:prstGeom prst="line">
                <a:avLst/>
              </a:prstGeom>
              <a:ln w="190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6" name=""/>
          <p:cNvGrpSpPr/>
          <p:nvPr/>
        </p:nvGrpSpPr>
        <p:grpSpPr>
          <a:xfrm>
            <a:off x="1868400" y="2732040"/>
            <a:ext cx="3333960" cy="368280"/>
            <a:chOff x="1868400" y="2732040"/>
            <a:chExt cx="3333960" cy="368280"/>
          </a:xfrm>
        </p:grpSpPr>
        <p:sp>
          <p:nvSpPr>
            <p:cNvPr id="407" name=""/>
            <p:cNvSpPr/>
            <p:nvPr/>
          </p:nvSpPr>
          <p:spPr>
            <a:xfrm>
              <a:off x="1868400" y="273204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rel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 { </a:t>
              </a: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=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,     ,     , </a:t>
              </a:r>
              <a:r>
                <a:rPr b="1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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,     }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2944800" y="2863800"/>
              <a:ext cx="108000" cy="131760"/>
              <a:chOff x="2944800" y="2863800"/>
              <a:chExt cx="108000" cy="13176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2944800" y="2863800"/>
                <a:ext cx="107640" cy="103680"/>
                <a:chOff x="2944800" y="2863800"/>
                <a:chExt cx="107640" cy="1036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2946960" y="2967480"/>
                  <a:ext cx="10512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944800" y="2863800"/>
                  <a:ext cx="10728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052080" y="2863800"/>
                  <a:ext cx="360" cy="98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3" name=""/>
              <p:cNvSpPr/>
              <p:nvPr/>
            </p:nvSpPr>
            <p:spPr>
              <a:xfrm>
                <a:off x="2944800" y="2995560"/>
                <a:ext cx="1080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3336480" y="2865240"/>
              <a:ext cx="109800" cy="131760"/>
              <a:chOff x="3336480" y="2865240"/>
              <a:chExt cx="109800" cy="13176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3336840" y="2865240"/>
                <a:ext cx="109440" cy="103680"/>
                <a:chOff x="3336840" y="2865240"/>
                <a:chExt cx="109440" cy="103680"/>
              </a:xfrm>
            </p:grpSpPr>
            <p:sp>
              <p:nvSpPr>
                <p:cNvPr id="416" name=""/>
                <p:cNvSpPr/>
                <p:nvPr/>
              </p:nvSpPr>
              <p:spPr>
                <a:xfrm flipH="1">
                  <a:off x="3337200" y="2865240"/>
                  <a:ext cx="10692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3337200" y="2968920"/>
                  <a:ext cx="10908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 flipV="1">
                  <a:off x="3336840" y="2870280"/>
                  <a:ext cx="360" cy="98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9" name=""/>
              <p:cNvSpPr/>
              <p:nvPr/>
            </p:nvSpPr>
            <p:spPr>
              <a:xfrm flipH="1">
                <a:off x="3336480" y="2997000"/>
                <a:ext cx="1098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4020840" y="2854440"/>
              <a:ext cx="112680" cy="145440"/>
              <a:chOff x="4020840" y="2854440"/>
              <a:chExt cx="112680" cy="145440"/>
            </a:xfrm>
          </p:grpSpPr>
          <p:sp>
            <p:nvSpPr>
              <p:cNvPr id="421" name=""/>
              <p:cNvSpPr/>
              <p:nvPr/>
            </p:nvSpPr>
            <p:spPr>
              <a:xfrm flipV="1">
                <a:off x="4133520" y="2855160"/>
                <a:ext cx="0" cy="14184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4020840" y="2855160"/>
                <a:ext cx="0" cy="144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4021560" y="2854440"/>
                <a:ext cx="10692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6E82-8FA3-44A7-B22D-12ED41C856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8232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Step 4: cont’d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19040" y="1625760"/>
            <a:ext cx="806472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484"/>
                </a:solidFill>
                <a:latin typeface="Arial"/>
                <a:ea typeface="Times New Roman"/>
              </a:rPr>
              <a:t>Example. Suppose we want to check if </a:t>
            </a:r>
            <a:r>
              <a:rPr b="1" i="1" lang="en-US" sz="1900" spc="-1" strike="noStrike">
                <a:solidFill>
                  <a:srgbClr val="800000"/>
                </a:solidFill>
                <a:latin typeface="Arial"/>
                <a:ea typeface="Times New Roman"/>
              </a:rPr>
              <a:t>C1</a:t>
            </a:r>
            <a:r>
              <a:rPr b="1" i="1" lang="en-US" sz="1900" spc="-1" strike="noStrike" baseline="-25000">
                <a:solidFill>
                  <a:srgbClr val="800000"/>
                </a:solidFill>
                <a:latin typeface="Arial"/>
                <a:ea typeface="Times New Roman"/>
              </a:rPr>
              <a:t>Europe</a:t>
            </a:r>
            <a:r>
              <a:rPr b="1" lang="en-US" sz="1900" spc="-1" strike="noStrike">
                <a:solidFill>
                  <a:srgbClr val="008484"/>
                </a:solidFill>
                <a:latin typeface="Arial"/>
                <a:ea typeface="Times New Roman"/>
              </a:rPr>
              <a:t> = </a:t>
            </a:r>
            <a:r>
              <a:rPr b="1" i="1" lang="en-US" sz="1900" spc="-1" strike="noStrike">
                <a:solidFill>
                  <a:srgbClr val="800000"/>
                </a:solidFill>
                <a:latin typeface="Arial"/>
                <a:ea typeface="Times New Roman"/>
              </a:rPr>
              <a:t>C2</a:t>
            </a:r>
            <a:r>
              <a:rPr b="1" i="1" lang="en-US" sz="1900" spc="-1" strike="noStrike" baseline="-25000">
                <a:solidFill>
                  <a:srgbClr val="800000"/>
                </a:solidFill>
                <a:latin typeface="Arial"/>
                <a:ea typeface="Times New Roman"/>
              </a:rPr>
              <a:t>Pictures</a:t>
            </a:r>
            <a:endParaRPr b="1" lang="en-US" sz="19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349360" y="4584600"/>
            <a:ext cx="9720" cy="9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95360" y="4002120"/>
            <a:ext cx="8229600" cy="2187720"/>
            <a:chOff x="495360" y="4002120"/>
            <a:chExt cx="8229600" cy="2187720"/>
          </a:xfrm>
        </p:grpSpPr>
        <p:grpSp>
          <p:nvGrpSpPr>
            <p:cNvPr id="428" name=""/>
            <p:cNvGrpSpPr/>
            <p:nvPr/>
          </p:nvGrpSpPr>
          <p:grpSpPr>
            <a:xfrm>
              <a:off x="495360" y="4002120"/>
              <a:ext cx="8229600" cy="2187720"/>
              <a:chOff x="495360" y="4002120"/>
              <a:chExt cx="8229600" cy="2187720"/>
            </a:xfrm>
          </p:grpSpPr>
          <p:sp>
            <p:nvSpPr>
              <p:cNvPr id="429" name=""/>
              <p:cNvSpPr/>
              <p:nvPr/>
            </p:nvSpPr>
            <p:spPr>
              <a:xfrm>
                <a:off x="1312920" y="4002120"/>
                <a:ext cx="863640" cy="438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500" spc="-1" strike="noStrike">
                    <a:solidFill>
                      <a:srgbClr val="008484"/>
                    </a:solidFill>
                    <a:latin typeface="Arial"/>
                  </a:rPr>
                  <a:t>T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04200" y="5751720"/>
                <a:ext cx="122076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330960" y="5751720"/>
                <a:ext cx="117324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92680" y="5751720"/>
                <a:ext cx="153828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571920" y="5751720"/>
                <a:ext cx="122076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176560" y="5751720"/>
                <a:ext cx="139536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95360" y="5751720"/>
                <a:ext cx="1681200" cy="438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500" spc="-1" strike="noStrike">
                    <a:solidFill>
                      <a:srgbClr val="8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i="1" lang="it-IT" sz="1500" spc="-1" strike="noStrike" baseline="-30000">
                    <a:solidFill>
                      <a:srgbClr val="800000"/>
                    </a:solidFill>
                    <a:latin typeface="Times New Roman"/>
                    <a:ea typeface="Times New Roman"/>
                  </a:rPr>
                  <a:t>Italy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504200" y="5313600"/>
                <a:ext cx="122076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330960" y="5313600"/>
                <a:ext cx="117324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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92680" y="5313600"/>
                <a:ext cx="153828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571920" y="5313600"/>
                <a:ext cx="122076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176560" y="5313600"/>
                <a:ext cx="139536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95360" y="5313600"/>
                <a:ext cx="1681200" cy="438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500" spc="-1" strike="noStrike">
                    <a:solidFill>
                      <a:srgbClr val="8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i="1" lang="it-IT" sz="1500" spc="-1" strike="noStrike" baseline="-30000">
                    <a:solidFill>
                      <a:srgbClr val="800000"/>
                    </a:solidFill>
                    <a:latin typeface="Times New Roman"/>
                    <a:ea typeface="Times New Roman"/>
                  </a:rPr>
                  <a:t>Austri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504200" y="4878360"/>
                <a:ext cx="122076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330960" y="4878360"/>
                <a:ext cx="117324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92680" y="4878360"/>
                <a:ext cx="153828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71920" y="4878360"/>
                <a:ext cx="122076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176560" y="4878360"/>
                <a:ext cx="139536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95360" y="4878360"/>
                <a:ext cx="1681200" cy="435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500" spc="-1" strike="noStrike">
                    <a:solidFill>
                      <a:srgbClr val="8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i="1" lang="it-IT" sz="1500" spc="-1" strike="noStrike" baseline="-30000">
                    <a:solidFill>
                      <a:srgbClr val="800000"/>
                    </a:solidFill>
                    <a:latin typeface="Times New Roman"/>
                    <a:ea typeface="Times New Roman"/>
                  </a:rPr>
                  <a:t>Europ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504200" y="4440240"/>
                <a:ext cx="122076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330960" y="4440240"/>
                <a:ext cx="117324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92680" y="4440240"/>
                <a:ext cx="153828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571920" y="4440240"/>
                <a:ext cx="122076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176560" y="4440240"/>
                <a:ext cx="1395360" cy="43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95360" y="4440240"/>
                <a:ext cx="1681200" cy="438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500" spc="-1" strike="noStrike">
                    <a:solidFill>
                      <a:srgbClr val="8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i="1" lang="fr-FR" sz="1500" spc="-1" strike="noStrike" baseline="-30000">
                    <a:solidFill>
                      <a:srgbClr val="800000"/>
                    </a:solidFill>
                    <a:latin typeface="Times New Roman"/>
                    <a:ea typeface="Times New Roman"/>
                  </a:rPr>
                  <a:t>Image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04200" y="4002120"/>
                <a:ext cx="1220760" cy="438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500" spc="-1" strike="noStrike">
                    <a:solidFill>
                      <a:srgbClr val="8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i="1" lang="it-IT" sz="1500" spc="-1" strike="noStrike" baseline="-30000">
                    <a:solidFill>
                      <a:srgbClr val="800000"/>
                    </a:solidFill>
                    <a:latin typeface="Times New Roman"/>
                    <a:ea typeface="Times New Roman"/>
                  </a:rPr>
                  <a:t>Austri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330960" y="4002120"/>
                <a:ext cx="1173240" cy="438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500" spc="-1" strike="noStrike">
                    <a:solidFill>
                      <a:srgbClr val="8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i="1" lang="it-IT" sz="1500" spc="-1" strike="noStrike" baseline="-30000">
                    <a:solidFill>
                      <a:srgbClr val="800000"/>
                    </a:solidFill>
                    <a:latin typeface="Times New Roman"/>
                    <a:ea typeface="Times New Roman"/>
                  </a:rPr>
                  <a:t>Italy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792680" y="4002120"/>
                <a:ext cx="1538280" cy="438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500" spc="-1" strike="noStrike">
                    <a:solidFill>
                      <a:srgbClr val="8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i="1" lang="it-IT" sz="1500" spc="-1" strike="noStrike" baseline="-30000">
                    <a:solidFill>
                      <a:srgbClr val="800000"/>
                    </a:solidFill>
                    <a:latin typeface="Times New Roman"/>
                    <a:ea typeface="Times New Roman"/>
                  </a:rPr>
                  <a:t>Wine and Chees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571920" y="4002120"/>
                <a:ext cx="1220760" cy="438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500" spc="-1" strike="noStrike">
                    <a:solidFill>
                      <a:srgbClr val="8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i="1" lang="it-IT" sz="1500" spc="-1" strike="noStrike" baseline="-30000">
                    <a:solidFill>
                      <a:srgbClr val="800000"/>
                    </a:solidFill>
                    <a:latin typeface="Times New Roman"/>
                    <a:ea typeface="Times New Roman"/>
                  </a:rPr>
                  <a:t>Picture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176560" y="4002120"/>
                <a:ext cx="1395360" cy="438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1500" spc="-1" strike="noStrike">
                    <a:solidFill>
                      <a:srgbClr val="800000"/>
                    </a:solidFill>
                    <a:latin typeface="Times New Roman"/>
                    <a:ea typeface="Times New Roman"/>
                  </a:rPr>
                  <a:t>C</a:t>
                </a:r>
                <a:r>
                  <a:rPr b="1" i="1" lang="it-IT" sz="1500" spc="-1" strike="noStrike" baseline="-30000">
                    <a:solidFill>
                      <a:srgbClr val="800000"/>
                    </a:solidFill>
                    <a:latin typeface="Times New Roman"/>
                    <a:ea typeface="Times New Roman"/>
                  </a:rPr>
                  <a:t>Europ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5360" y="4002120"/>
                <a:ext cx="817560" cy="4381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>
                  <a:lnSpc>
                    <a:spcPct val="10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500" spc="-1" strike="noStrike">
                    <a:solidFill>
                      <a:srgbClr val="008484"/>
                    </a:solidFill>
                    <a:latin typeface="Arial"/>
                  </a:rPr>
                  <a:t>T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5360" y="4002120"/>
                <a:ext cx="82296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95360" y="6189840"/>
                <a:ext cx="82296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5360" y="4002120"/>
                <a:ext cx="0" cy="2187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724960" y="4002120"/>
                <a:ext cx="0" cy="2187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5360" y="4440240"/>
                <a:ext cx="82296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176560" y="4002120"/>
                <a:ext cx="0" cy="2187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571920" y="4002120"/>
                <a:ext cx="0" cy="2187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792680" y="4002120"/>
                <a:ext cx="0" cy="2187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330960" y="4002120"/>
                <a:ext cx="0" cy="2187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504200" y="4002120"/>
                <a:ext cx="0" cy="218772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360" y="4878360"/>
                <a:ext cx="82296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95360" y="5313600"/>
                <a:ext cx="82296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95360" y="5751720"/>
                <a:ext cx="82296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495360" y="4002120"/>
              <a:ext cx="7734600" cy="2122560"/>
              <a:chOff x="495360" y="4002120"/>
              <a:chExt cx="7734600" cy="2122560"/>
            </a:xfrm>
          </p:grpSpPr>
          <p:cxnSp>
            <p:nvCxnSpPr>
              <p:cNvPr id="474" name=""/>
              <p:cNvCxnSpPr/>
              <p:nvPr/>
            </p:nvCxnSpPr>
            <p:spPr>
              <a:xfrm>
                <a:off x="495360" y="4002120"/>
                <a:ext cx="1684800" cy="432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7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35680" y="4532400"/>
                <a:ext cx="198360" cy="25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6" name="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2744280" y="5405400"/>
                <a:ext cx="219240" cy="25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7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2744280" y="5865840"/>
                <a:ext cx="219240" cy="25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8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2744280" y="4996080"/>
                <a:ext cx="219240" cy="25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79" name=""/>
              <p:cNvGrpSpPr/>
              <p:nvPr/>
            </p:nvGrpSpPr>
            <p:grpSpPr>
              <a:xfrm>
                <a:off x="2752560" y="4539960"/>
                <a:ext cx="209880" cy="223920"/>
                <a:chOff x="2752560" y="4539960"/>
                <a:chExt cx="209880" cy="22392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2752560" y="4543560"/>
                  <a:ext cx="0" cy="220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962080" y="4543560"/>
                  <a:ext cx="0" cy="220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82" name=""/>
                <p:cNvCxnSpPr>
                  <a:stCxn id="480" idx="0"/>
                  <a:endCxn id="481" idx="0"/>
                </p:cNvCxnSpPr>
                <p:nvPr/>
              </p:nvCxnSpPr>
              <p:spPr>
                <a:xfrm>
                  <a:off x="2752560" y="4539960"/>
                  <a:ext cx="210240" cy="108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483" name=""/>
              <p:cNvGrpSpPr/>
              <p:nvPr/>
            </p:nvGrpSpPr>
            <p:grpSpPr>
              <a:xfrm>
                <a:off x="5495760" y="4539960"/>
                <a:ext cx="209880" cy="223920"/>
                <a:chOff x="5495760" y="4539960"/>
                <a:chExt cx="209880" cy="2239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5495760" y="4543560"/>
                  <a:ext cx="0" cy="220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705280" y="4543560"/>
                  <a:ext cx="0" cy="220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86" name=""/>
                <p:cNvCxnSpPr>
                  <a:stCxn id="484" idx="0"/>
                  <a:endCxn id="485" idx="0"/>
                </p:cNvCxnSpPr>
                <p:nvPr/>
              </p:nvCxnSpPr>
              <p:spPr>
                <a:xfrm>
                  <a:off x="5495760" y="4539960"/>
                  <a:ext cx="210240" cy="108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</p:cxnSp>
          </p:grpSp>
          <p:pic>
            <p:nvPicPr>
              <p:cNvPr id="48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35680" y="4983120"/>
                <a:ext cx="198360" cy="255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88" name=""/>
              <p:cNvGrpSpPr/>
              <p:nvPr/>
            </p:nvGrpSpPr>
            <p:grpSpPr>
              <a:xfrm>
                <a:off x="8020080" y="4539960"/>
                <a:ext cx="209880" cy="223920"/>
                <a:chOff x="8020080" y="4539960"/>
                <a:chExt cx="209880" cy="22392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8020080" y="4543560"/>
                  <a:ext cx="0" cy="220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229600" y="4543560"/>
                  <a:ext cx="0" cy="220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91" name=""/>
                <p:cNvCxnSpPr>
                  <a:stCxn id="489" idx="0"/>
                  <a:endCxn id="490" idx="0"/>
                </p:cNvCxnSpPr>
                <p:nvPr/>
              </p:nvCxnSpPr>
              <p:spPr>
                <a:xfrm>
                  <a:off x="8020080" y="4539960"/>
                  <a:ext cx="210240" cy="108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492" name=""/>
              <p:cNvGrpSpPr/>
              <p:nvPr/>
            </p:nvGrpSpPr>
            <p:grpSpPr>
              <a:xfrm>
                <a:off x="8020080" y="4991040"/>
                <a:ext cx="209880" cy="223560"/>
                <a:chOff x="8020080" y="4991040"/>
                <a:chExt cx="209880" cy="2235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8020080" y="4994640"/>
                  <a:ext cx="0" cy="219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229600" y="4994640"/>
                  <a:ext cx="0" cy="219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95" name=""/>
                <p:cNvCxnSpPr>
                  <a:stCxn id="493" idx="0"/>
                  <a:endCxn id="494" idx="0"/>
                </p:cNvCxnSpPr>
                <p:nvPr/>
              </p:nvCxnSpPr>
              <p:spPr>
                <a:xfrm>
                  <a:off x="8020080" y="4991040"/>
                  <a:ext cx="210240" cy="108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496" name=""/>
              <p:cNvGrpSpPr/>
              <p:nvPr/>
            </p:nvGrpSpPr>
            <p:grpSpPr>
              <a:xfrm>
                <a:off x="8020080" y="5412960"/>
                <a:ext cx="209880" cy="223920"/>
                <a:chOff x="8020080" y="5412960"/>
                <a:chExt cx="209880" cy="2239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8020080" y="5416560"/>
                  <a:ext cx="0" cy="220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8229600" y="5416560"/>
                  <a:ext cx="0" cy="220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99" name=""/>
                <p:cNvCxnSpPr>
                  <a:stCxn id="497" idx="0"/>
                  <a:endCxn id="498" idx="0"/>
                </p:cNvCxnSpPr>
                <p:nvPr/>
              </p:nvCxnSpPr>
              <p:spPr>
                <a:xfrm>
                  <a:off x="8020080" y="5412960"/>
                  <a:ext cx="210240" cy="108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500" name=""/>
              <p:cNvGrpSpPr/>
              <p:nvPr/>
            </p:nvGrpSpPr>
            <p:grpSpPr>
              <a:xfrm>
                <a:off x="5495760" y="4989240"/>
                <a:ext cx="209880" cy="223920"/>
                <a:chOff x="5495760" y="4989240"/>
                <a:chExt cx="209880" cy="2239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495760" y="4992840"/>
                  <a:ext cx="0" cy="220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705280" y="4992840"/>
                  <a:ext cx="0" cy="220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503" name=""/>
                <p:cNvCxnSpPr>
                  <a:stCxn id="501" idx="0"/>
                  <a:endCxn id="502" idx="0"/>
                </p:cNvCxnSpPr>
                <p:nvPr/>
              </p:nvCxnSpPr>
              <p:spPr>
                <a:xfrm>
                  <a:off x="5495760" y="4989240"/>
                  <a:ext cx="210240" cy="108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504" name=""/>
              <p:cNvGrpSpPr/>
              <p:nvPr/>
            </p:nvGrpSpPr>
            <p:grpSpPr>
              <a:xfrm>
                <a:off x="5495760" y="5400360"/>
                <a:ext cx="209880" cy="223920"/>
                <a:chOff x="5495760" y="5400360"/>
                <a:chExt cx="209880" cy="2239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5495760" y="5403960"/>
                  <a:ext cx="0" cy="220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705280" y="5403960"/>
                  <a:ext cx="0" cy="220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507" name=""/>
                <p:cNvCxnSpPr>
                  <a:stCxn id="505" idx="0"/>
                  <a:endCxn id="506" idx="0"/>
                </p:cNvCxnSpPr>
                <p:nvPr/>
              </p:nvCxnSpPr>
              <p:spPr>
                <a:xfrm>
                  <a:off x="5495760" y="5400360"/>
                  <a:ext cx="210240" cy="108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508" name=""/>
              <p:cNvGrpSpPr/>
              <p:nvPr/>
            </p:nvGrpSpPr>
            <p:grpSpPr>
              <a:xfrm>
                <a:off x="5495760" y="5849640"/>
                <a:ext cx="209880" cy="223920"/>
                <a:chOff x="5495760" y="5849640"/>
                <a:chExt cx="209880" cy="22392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5495760" y="5853240"/>
                  <a:ext cx="0" cy="220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705280" y="5853240"/>
                  <a:ext cx="0" cy="220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511" name=""/>
                <p:cNvCxnSpPr>
                  <a:stCxn id="509" idx="0"/>
                  <a:endCxn id="510" idx="0"/>
                </p:cNvCxnSpPr>
                <p:nvPr/>
              </p:nvCxnSpPr>
              <p:spPr>
                <a:xfrm>
                  <a:off x="5495760" y="5849640"/>
                  <a:ext cx="210240" cy="1080"/>
                </a:xfrm>
                <a:prstGeom prst="straightConnector1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</p:cxnSp>
          </p:grpSp>
          <p:pic>
            <p:nvPicPr>
              <p:cNvPr id="51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078080" y="4532400"/>
                <a:ext cx="198720" cy="25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4056120" y="5405400"/>
                <a:ext cx="218880" cy="25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4056120" y="5865840"/>
                <a:ext cx="218880" cy="258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15" name=""/>
          <p:cNvSpPr/>
          <p:nvPr/>
        </p:nvSpPr>
        <p:spPr>
          <a:xfrm>
            <a:off x="0" y="2146320"/>
            <a:ext cx="9144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(C1</a:t>
            </a:r>
            <a:r>
              <a:rPr b="1" lang="en-US" sz="1600" spc="-1" strike="noStrike" baseline="-25000">
                <a:solidFill>
                  <a:srgbClr val="008484"/>
                </a:solidFill>
                <a:latin typeface="Arial"/>
              </a:rPr>
              <a:t>Images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Symbol"/>
                <a:ea typeface="Symbol"/>
              </a:rPr>
              <a:t>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C2</a:t>
            </a:r>
            <a:r>
              <a:rPr b="1" lang="en-US" sz="1600" spc="-1" strike="noStrike" baseline="-25000">
                <a:solidFill>
                  <a:srgbClr val="008484"/>
                </a:solidFill>
                <a:latin typeface="Arial"/>
              </a:rPr>
              <a:t>Pictures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008484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(C1</a:t>
            </a:r>
            <a:r>
              <a:rPr b="1" lang="en-US" sz="1600" spc="-1" strike="noStrike" baseline="-25000">
                <a:solidFill>
                  <a:srgbClr val="008484"/>
                </a:solidFill>
                <a:latin typeface="Arial"/>
              </a:rPr>
              <a:t>Europe </a:t>
            </a:r>
            <a:r>
              <a:rPr b="1" lang="en-US" sz="1600" spc="-1" strike="noStrike">
                <a:solidFill>
                  <a:srgbClr val="008484"/>
                </a:solidFill>
                <a:latin typeface="Symbol"/>
                <a:ea typeface="Symbol"/>
              </a:rPr>
              <a:t>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C2</a:t>
            </a:r>
            <a:r>
              <a:rPr b="1" lang="en-US" sz="1600" spc="-1" strike="noStrike" baseline="-25000">
                <a:solidFill>
                  <a:srgbClr val="008484"/>
                </a:solidFill>
                <a:latin typeface="Arial"/>
              </a:rPr>
              <a:t>Europe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008484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(C1</a:t>
            </a:r>
            <a:r>
              <a:rPr b="1" lang="en-US" sz="1600" spc="-1" strike="noStrike" baseline="-25000">
                <a:solidFill>
                  <a:srgbClr val="008484"/>
                </a:solidFill>
                <a:latin typeface="Arial"/>
              </a:rPr>
              <a:t>Images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C1</a:t>
            </a:r>
            <a:r>
              <a:rPr b="1" lang="en-US" sz="1600" spc="-1" strike="noStrike" baseline="-25000">
                <a:solidFill>
                  <a:srgbClr val="008484"/>
                </a:solidFill>
                <a:latin typeface="Arial"/>
              </a:rPr>
              <a:t>Europe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008484"/>
                </a:solidFill>
                <a:latin typeface="Symbol"/>
                <a:ea typeface="Symbol"/>
              </a:rPr>
              <a:t>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(C2</a:t>
            </a:r>
            <a:r>
              <a:rPr b="1" lang="en-US" sz="1600" spc="-1" strike="noStrike" baseline="-25000">
                <a:solidFill>
                  <a:srgbClr val="008484"/>
                </a:solidFill>
                <a:latin typeface="Arial"/>
              </a:rPr>
              <a:t>Europe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C2</a:t>
            </a:r>
            <a:r>
              <a:rPr b="1" lang="en-US" sz="1600" spc="-1" strike="noStrike" baseline="-25000">
                <a:solidFill>
                  <a:srgbClr val="008484"/>
                </a:solidFill>
                <a:latin typeface="Arial"/>
              </a:rPr>
              <a:t>Pictures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14480" y="2508120"/>
            <a:ext cx="8521200" cy="603360"/>
            <a:chOff x="114480" y="2508120"/>
            <a:chExt cx="8521200" cy="603360"/>
          </a:xfrm>
        </p:grpSpPr>
        <p:sp>
          <p:nvSpPr>
            <p:cNvPr id="517" name=""/>
            <p:cNvSpPr/>
            <p:nvPr/>
          </p:nvSpPr>
          <p:spPr>
            <a:xfrm rot="5400000">
              <a:off x="2089080" y="533160"/>
              <a:ext cx="190800" cy="4140000"/>
            </a:xfrm>
            <a:custGeom>
              <a:avLst/>
              <a:gdLst>
                <a:gd name="textAreaLeft" fmla="*/ 0 w 190800"/>
                <a:gd name="textAreaRight" fmla="*/ 68760 w 190800"/>
                <a:gd name="textAreaTop" fmla="*/ 107640 h 4140000"/>
                <a:gd name="textAreaBottom" fmla="*/ 4032360 h 41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999"/>
                  </a:lnTo>
                  <a:cubicBezTo>
                    <a:pt x="10800" y="9899"/>
                    <a:pt x="16200" y="10799"/>
                    <a:pt x="21600" y="10799"/>
                  </a:cubicBezTo>
                  <a:cubicBezTo>
                    <a:pt x="16200" y="10799"/>
                    <a:pt x="10800" y="11699"/>
                    <a:pt x="10800" y="12599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buClr>
                  <a:srgbClr val="000099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49440" y="2743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Contex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5400000">
              <a:off x="5467320" y="1727280"/>
              <a:ext cx="139680" cy="1752480"/>
            </a:xfrm>
            <a:custGeom>
              <a:avLst/>
              <a:gdLst>
                <a:gd name="textAreaLeft" fmla="*/ 0 w 139680"/>
                <a:gd name="textAreaRight" fmla="*/ 50400 w 1396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999"/>
                  </a:lnTo>
                  <a:cubicBezTo>
                    <a:pt x="10800" y="9899"/>
                    <a:pt x="16200" y="10799"/>
                    <a:pt x="21600" y="10799"/>
                  </a:cubicBezTo>
                  <a:cubicBezTo>
                    <a:pt x="16200" y="10799"/>
                    <a:pt x="10800" y="11699"/>
                    <a:pt x="10800" y="12599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buClr>
                  <a:srgbClr val="000099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15080" y="2679840"/>
              <a:ext cx="14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C1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Euro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5400000">
              <a:off x="7657560" y="1695240"/>
              <a:ext cx="139680" cy="1816200"/>
            </a:xfrm>
            <a:custGeom>
              <a:avLst/>
              <a:gdLst>
                <a:gd name="textAreaLeft" fmla="*/ 0 w 139680"/>
                <a:gd name="textAreaRight" fmla="*/ 50400 w 139680"/>
                <a:gd name="textAreaTop" fmla="*/ 47160 h 1816200"/>
                <a:gd name="textAreaBottom" fmla="*/ 1769040 h 181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999"/>
                  </a:lnTo>
                  <a:cubicBezTo>
                    <a:pt x="10800" y="9899"/>
                    <a:pt x="16200" y="10799"/>
                    <a:pt x="21600" y="10799"/>
                  </a:cubicBezTo>
                  <a:cubicBezTo>
                    <a:pt x="16200" y="10799"/>
                    <a:pt x="10800" y="11699"/>
                    <a:pt x="10800" y="12599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buClr>
                  <a:srgbClr val="000099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72480" y="2666880"/>
              <a:ext cx="146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00000"/>
                  </a:solidFill>
                  <a:latin typeface="Arial"/>
                </a:rPr>
                <a:t>C2</a:t>
              </a:r>
              <a:r>
                <a:rPr b="1" i="1" lang="en-US" sz="1800" spc="-1" strike="noStrike" baseline="-25000">
                  <a:solidFill>
                    <a:srgbClr val="800000"/>
                  </a:solidFill>
                  <a:latin typeface="Arial"/>
                </a:rPr>
                <a:t>Pict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68280" y="3416400"/>
            <a:ext cx="8331120" cy="383400"/>
            <a:chOff x="368280" y="3416400"/>
            <a:chExt cx="8331120" cy="383400"/>
          </a:xfrm>
        </p:grpSpPr>
        <p:sp>
          <p:nvSpPr>
            <p:cNvPr id="524" name=""/>
            <p:cNvSpPr/>
            <p:nvPr/>
          </p:nvSpPr>
          <p:spPr>
            <a:xfrm>
              <a:off x="368280" y="3416400"/>
              <a:ext cx="83311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476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8484"/>
                  </a:solidFill>
                  <a:latin typeface="Arial"/>
                </a:rPr>
                <a:t>If a check for &lt;     ,    , </a:t>
              </a:r>
              <a:r>
                <a:rPr b="1" lang="en-US" sz="1900" spc="-1" strike="noStrike">
                  <a:solidFill>
                    <a:srgbClr val="008484"/>
                  </a:solidFill>
                  <a:latin typeface="Symbol"/>
                  <a:ea typeface="Symbol"/>
                </a:rPr>
                <a:t></a:t>
              </a:r>
              <a:r>
                <a:rPr b="1" lang="en-US" sz="1900" spc="-1" strike="noStrike">
                  <a:solidFill>
                    <a:srgbClr val="008484"/>
                  </a:solidFill>
                  <a:latin typeface="Arial"/>
                </a:rPr>
                <a:t> &gt; fails, then overlapping is returne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2486160" y="3536640"/>
              <a:ext cx="439560" cy="133560"/>
              <a:chOff x="2486160" y="3536640"/>
              <a:chExt cx="439560" cy="133560"/>
            </a:xfrm>
          </p:grpSpPr>
          <p:grpSp>
            <p:nvGrpSpPr>
              <p:cNvPr id="526" name=""/>
              <p:cNvGrpSpPr/>
              <p:nvPr/>
            </p:nvGrpSpPr>
            <p:grpSpPr>
              <a:xfrm>
                <a:off x="2805120" y="3536640"/>
                <a:ext cx="120600" cy="128880"/>
                <a:chOff x="2805120" y="3536640"/>
                <a:chExt cx="120600" cy="128880"/>
              </a:xfrm>
            </p:grpSpPr>
            <p:grpSp>
              <p:nvGrpSpPr>
                <p:cNvPr id="527" name=""/>
                <p:cNvGrpSpPr/>
                <p:nvPr/>
              </p:nvGrpSpPr>
              <p:grpSpPr>
                <a:xfrm>
                  <a:off x="2805120" y="3536640"/>
                  <a:ext cx="120600" cy="101160"/>
                  <a:chOff x="2805120" y="3536640"/>
                  <a:chExt cx="120600" cy="10116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2807280" y="3637800"/>
                    <a:ext cx="117360" cy="0"/>
                  </a:xfrm>
                  <a:prstGeom prst="line">
                    <a:avLst/>
                  </a:prstGeom>
                  <a:ln w="19080">
                    <a:solidFill>
                      <a:srgbClr val="00848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2805120" y="3536640"/>
                    <a:ext cx="119880" cy="0"/>
                  </a:xfrm>
                  <a:prstGeom prst="line">
                    <a:avLst/>
                  </a:prstGeom>
                  <a:ln w="19080">
                    <a:solidFill>
                      <a:srgbClr val="00848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925000" y="3537000"/>
                    <a:ext cx="720" cy="96120"/>
                  </a:xfrm>
                  <a:prstGeom prst="line">
                    <a:avLst/>
                  </a:prstGeom>
                  <a:ln w="19080">
                    <a:solidFill>
                      <a:srgbClr val="00848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1" name=""/>
                <p:cNvSpPr/>
                <p:nvPr/>
              </p:nvSpPr>
              <p:spPr>
                <a:xfrm>
                  <a:off x="2805120" y="3665520"/>
                  <a:ext cx="120600" cy="0"/>
                </a:xfrm>
                <a:prstGeom prst="line">
                  <a:avLst/>
                </a:prstGeom>
                <a:ln w="19080">
                  <a:solidFill>
                    <a:srgbClr val="00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2486160" y="3538440"/>
                <a:ext cx="109440" cy="131760"/>
                <a:chOff x="2486160" y="3538440"/>
                <a:chExt cx="109440" cy="131760"/>
              </a:xfrm>
            </p:grpSpPr>
            <p:grpSp>
              <p:nvGrpSpPr>
                <p:cNvPr id="533" name=""/>
                <p:cNvGrpSpPr/>
                <p:nvPr/>
              </p:nvGrpSpPr>
              <p:grpSpPr>
                <a:xfrm>
                  <a:off x="2486520" y="3538440"/>
                  <a:ext cx="109080" cy="103680"/>
                  <a:chOff x="2486520" y="3538440"/>
                  <a:chExt cx="109080" cy="10368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 flipH="1">
                    <a:off x="2486880" y="3538440"/>
                    <a:ext cx="106560" cy="0"/>
                  </a:xfrm>
                  <a:prstGeom prst="line">
                    <a:avLst/>
                  </a:prstGeom>
                  <a:ln w="19080">
                    <a:solidFill>
                      <a:srgbClr val="00848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>
                    <a:off x="2486880" y="3642120"/>
                    <a:ext cx="108720" cy="0"/>
                  </a:xfrm>
                  <a:prstGeom prst="line">
                    <a:avLst/>
                  </a:prstGeom>
                  <a:ln w="19080">
                    <a:solidFill>
                      <a:srgbClr val="00848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flipV="1">
                    <a:off x="2486520" y="3543480"/>
                    <a:ext cx="360" cy="98640"/>
                  </a:xfrm>
                  <a:prstGeom prst="line">
                    <a:avLst/>
                  </a:prstGeom>
                  <a:ln w="19080">
                    <a:solidFill>
                      <a:srgbClr val="00848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7" name=""/>
                <p:cNvSpPr/>
                <p:nvPr/>
              </p:nvSpPr>
              <p:spPr>
                <a:xfrm flipH="1">
                  <a:off x="2486160" y="3670200"/>
                  <a:ext cx="109440" cy="0"/>
                </a:xfrm>
                <a:prstGeom prst="line">
                  <a:avLst/>
                </a:prstGeom>
                <a:ln w="19080">
                  <a:solidFill>
                    <a:srgbClr val="00848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38" name="">
            <a:hlinkClick r:id="rId11" action="ppaction://hlinksldjump"/>
          </p:cNvPr>
          <p:cNvSpPr/>
          <p:nvPr/>
        </p:nvSpPr>
        <p:spPr>
          <a:xfrm>
            <a:off x="609480" y="1623960"/>
            <a:ext cx="1219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484"/>
                </a:solidFill>
                <a:latin typeface="Arial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94179-1C76-4894-B8C3-8E0F1C3B92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177840" y="1501920"/>
            <a:ext cx="4253040" cy="1776600"/>
            <a:chOff x="177840" y="1501920"/>
            <a:chExt cx="4253040" cy="1776600"/>
          </a:xfrm>
        </p:grpSpPr>
        <p:sp>
          <p:nvSpPr>
            <p:cNvPr id="540" name=""/>
            <p:cNvSpPr/>
            <p:nvPr/>
          </p:nvSpPr>
          <p:spPr>
            <a:xfrm>
              <a:off x="2111400" y="3002040"/>
              <a:ext cx="106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tal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42840" y="1802160"/>
              <a:ext cx="100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Eur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2" name=""/>
            <p:cNvCxnSpPr>
              <a:stCxn id="543" idx="4"/>
              <a:endCxn id="544" idx="0"/>
            </p:cNvCxnSpPr>
            <p:nvPr/>
          </p:nvCxnSpPr>
          <p:spPr>
            <a:xfrm>
              <a:off x="2881440" y="2575800"/>
              <a:ext cx="1080" cy="374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5" name=""/>
            <p:cNvCxnSpPr>
              <a:stCxn id="546" idx="4"/>
              <a:endCxn id="543" idx="0"/>
            </p:cNvCxnSpPr>
            <p:nvPr/>
          </p:nvCxnSpPr>
          <p:spPr>
            <a:xfrm flipH="1">
              <a:off x="2881800" y="2175480"/>
              <a:ext cx="358920" cy="249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7" name=""/>
            <p:cNvSpPr/>
            <p:nvPr/>
          </p:nvSpPr>
          <p:spPr>
            <a:xfrm>
              <a:off x="3646800" y="2301480"/>
              <a:ext cx="784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Wine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Chee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48440" y="2973960"/>
              <a:ext cx="96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Aust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9" name=""/>
            <p:cNvCxnSpPr>
              <a:stCxn id="550" idx="4"/>
              <a:endCxn id="551" idx="0"/>
            </p:cNvCxnSpPr>
            <p:nvPr/>
          </p:nvCxnSpPr>
          <p:spPr>
            <a:xfrm>
              <a:off x="3633480" y="2575800"/>
              <a:ext cx="7560" cy="374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2" name=""/>
            <p:cNvSpPr/>
            <p:nvPr/>
          </p:nvSpPr>
          <p:spPr>
            <a:xfrm>
              <a:off x="1992240" y="2373120"/>
              <a:ext cx="95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Pic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3" name=""/>
            <p:cNvCxnSpPr>
              <a:stCxn id="546" idx="4"/>
              <a:endCxn id="550" idx="0"/>
            </p:cNvCxnSpPr>
            <p:nvPr/>
          </p:nvCxnSpPr>
          <p:spPr>
            <a:xfrm>
              <a:off x="3240360" y="2175480"/>
              <a:ext cx="393840" cy="249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6" name=""/>
            <p:cNvSpPr/>
            <p:nvPr/>
          </p:nvSpPr>
          <p:spPr>
            <a:xfrm>
              <a:off x="3168000" y="2024640"/>
              <a:ext cx="14364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809080" y="2424960"/>
              <a:ext cx="14400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61480" y="2424960"/>
              <a:ext cx="14364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809080" y="2949480"/>
              <a:ext cx="14400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68320" y="2949480"/>
              <a:ext cx="14364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49360" y="2387880"/>
              <a:ext cx="100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Eur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5" name=""/>
            <p:cNvCxnSpPr>
              <a:stCxn id="556" idx="4"/>
              <a:endCxn id="557" idx="0"/>
            </p:cNvCxnSpPr>
            <p:nvPr/>
          </p:nvCxnSpPr>
          <p:spPr>
            <a:xfrm flipH="1">
              <a:off x="1067760" y="2562120"/>
              <a:ext cx="358920" cy="443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8" name=""/>
            <p:cNvSpPr/>
            <p:nvPr/>
          </p:nvSpPr>
          <p:spPr>
            <a:xfrm>
              <a:off x="1833840" y="2883240"/>
              <a:ext cx="78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ta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7840" y="2953800"/>
              <a:ext cx="95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Aust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0" name=""/>
            <p:cNvCxnSpPr>
              <a:stCxn id="556" idx="4"/>
              <a:endCxn id="561" idx="0"/>
            </p:cNvCxnSpPr>
            <p:nvPr/>
          </p:nvCxnSpPr>
          <p:spPr>
            <a:xfrm>
              <a:off x="1426680" y="2562120"/>
              <a:ext cx="393840" cy="443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6" name=""/>
            <p:cNvSpPr/>
            <p:nvPr/>
          </p:nvSpPr>
          <p:spPr>
            <a:xfrm>
              <a:off x="1354320" y="2411280"/>
              <a:ext cx="14400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95400" y="3004920"/>
              <a:ext cx="14364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47440" y="3004920"/>
              <a:ext cx="14364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>
              <a:stCxn id="563" idx="4"/>
              <a:endCxn id="556" idx="0"/>
            </p:cNvCxnSpPr>
            <p:nvPr/>
          </p:nvCxnSpPr>
          <p:spPr>
            <a:xfrm flipH="1">
              <a:off x="1425960" y="2196360"/>
              <a:ext cx="7560" cy="215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1361160" y="2045160"/>
              <a:ext cx="14400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67040" y="1804680"/>
              <a:ext cx="78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ma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7040" y="1501920"/>
              <a:ext cx="78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846520" y="1501920"/>
              <a:ext cx="78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957680" y="1289160"/>
            <a:ext cx="784080" cy="55080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8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660920" y="1501920"/>
            <a:ext cx="4253040" cy="1776600"/>
            <a:chOff x="4660920" y="1501920"/>
            <a:chExt cx="4253040" cy="1776600"/>
          </a:xfrm>
        </p:grpSpPr>
        <p:sp>
          <p:nvSpPr>
            <p:cNvPr id="569" name=""/>
            <p:cNvSpPr/>
            <p:nvPr/>
          </p:nvSpPr>
          <p:spPr>
            <a:xfrm>
              <a:off x="6594480" y="3002040"/>
              <a:ext cx="106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tal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25920" y="1802160"/>
              <a:ext cx="100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Eur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1" name=""/>
            <p:cNvCxnSpPr>
              <a:stCxn id="572" idx="4"/>
              <a:endCxn id="573" idx="0"/>
            </p:cNvCxnSpPr>
            <p:nvPr/>
          </p:nvCxnSpPr>
          <p:spPr>
            <a:xfrm>
              <a:off x="7364520" y="2575800"/>
              <a:ext cx="1080" cy="374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4" name=""/>
            <p:cNvCxnSpPr>
              <a:stCxn id="575" idx="4"/>
              <a:endCxn id="572" idx="0"/>
            </p:cNvCxnSpPr>
            <p:nvPr/>
          </p:nvCxnSpPr>
          <p:spPr>
            <a:xfrm flipH="1">
              <a:off x="7364880" y="2175480"/>
              <a:ext cx="358920" cy="249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6" name=""/>
            <p:cNvSpPr/>
            <p:nvPr/>
          </p:nvSpPr>
          <p:spPr>
            <a:xfrm>
              <a:off x="8129880" y="2301480"/>
              <a:ext cx="784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Wine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Chee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931520" y="2973960"/>
              <a:ext cx="96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Aust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8" name=""/>
            <p:cNvCxnSpPr>
              <a:stCxn id="579" idx="4"/>
              <a:endCxn id="580" idx="0"/>
            </p:cNvCxnSpPr>
            <p:nvPr/>
          </p:nvCxnSpPr>
          <p:spPr>
            <a:xfrm>
              <a:off x="8116560" y="2575800"/>
              <a:ext cx="7560" cy="374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81" name=""/>
            <p:cNvSpPr/>
            <p:nvPr/>
          </p:nvSpPr>
          <p:spPr>
            <a:xfrm>
              <a:off x="6475320" y="2373120"/>
              <a:ext cx="95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Pic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>
              <a:stCxn id="575" idx="4"/>
              <a:endCxn id="579" idx="0"/>
            </p:cNvCxnSpPr>
            <p:nvPr/>
          </p:nvCxnSpPr>
          <p:spPr>
            <a:xfrm>
              <a:off x="7723440" y="2175480"/>
              <a:ext cx="393840" cy="249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5" name=""/>
            <p:cNvSpPr/>
            <p:nvPr/>
          </p:nvSpPr>
          <p:spPr>
            <a:xfrm>
              <a:off x="7651080" y="2024640"/>
              <a:ext cx="14364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292160" y="2424960"/>
              <a:ext cx="14400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044560" y="2424960"/>
              <a:ext cx="14364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292160" y="2949480"/>
              <a:ext cx="14400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051400" y="2949480"/>
              <a:ext cx="14364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32440" y="2387880"/>
              <a:ext cx="100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Eur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4" name=""/>
            <p:cNvCxnSpPr>
              <a:stCxn id="585" idx="4"/>
              <a:endCxn id="586" idx="0"/>
            </p:cNvCxnSpPr>
            <p:nvPr/>
          </p:nvCxnSpPr>
          <p:spPr>
            <a:xfrm flipH="1">
              <a:off x="5550840" y="2562120"/>
              <a:ext cx="358920" cy="443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87" name=""/>
            <p:cNvSpPr/>
            <p:nvPr/>
          </p:nvSpPr>
          <p:spPr>
            <a:xfrm>
              <a:off x="6316920" y="2883240"/>
              <a:ext cx="78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ta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660920" y="2953800"/>
              <a:ext cx="95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Aust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9" name=""/>
            <p:cNvCxnSpPr>
              <a:stCxn id="585" idx="4"/>
              <a:endCxn id="590" idx="0"/>
            </p:cNvCxnSpPr>
            <p:nvPr/>
          </p:nvCxnSpPr>
          <p:spPr>
            <a:xfrm>
              <a:off x="5909760" y="2562120"/>
              <a:ext cx="393840" cy="443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85" name=""/>
            <p:cNvSpPr/>
            <p:nvPr/>
          </p:nvSpPr>
          <p:spPr>
            <a:xfrm>
              <a:off x="5837400" y="2411280"/>
              <a:ext cx="14400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478480" y="3004920"/>
              <a:ext cx="14364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30520" y="3004920"/>
              <a:ext cx="14364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1" name=""/>
            <p:cNvCxnSpPr>
              <a:stCxn id="592" idx="4"/>
              <a:endCxn id="585" idx="0"/>
            </p:cNvCxnSpPr>
            <p:nvPr/>
          </p:nvCxnSpPr>
          <p:spPr>
            <a:xfrm flipH="1">
              <a:off x="5909040" y="2196360"/>
              <a:ext cx="7560" cy="215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5844240" y="2045160"/>
              <a:ext cx="14400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550120" y="1804680"/>
              <a:ext cx="78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ma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550120" y="1501920"/>
              <a:ext cx="78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29600" y="1501920"/>
              <a:ext cx="78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96" name=""/>
          <p:cNvCxnSpPr>
            <a:stCxn id="556" idx="6"/>
            <a:endCxn id="543" idx="1"/>
          </p:cNvCxnSpPr>
          <p:nvPr/>
        </p:nvCxnSpPr>
        <p:spPr>
          <a:xfrm flipV="1">
            <a:off x="1498680" y="2447640"/>
            <a:ext cx="1332720" cy="40320"/>
          </a:xfrm>
          <a:prstGeom prst="curvedConnector5">
            <a:avLst>
              <a:gd name="adj1" fmla="val 46230"/>
              <a:gd name="adj2" fmla="val 105405"/>
              <a:gd name="adj3" fmla="val 46230"/>
            </a:avLst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97" name=""/>
          <p:cNvCxnSpPr>
            <a:stCxn id="561" idx="4"/>
            <a:endCxn id="544" idx="5"/>
          </p:cNvCxnSpPr>
          <p:nvPr/>
        </p:nvCxnSpPr>
        <p:spPr>
          <a:xfrm flipH="1" flipV="1" rot="5400000">
            <a:off x="2336400" y="2560680"/>
            <a:ext cx="78840" cy="1112040"/>
          </a:xfrm>
          <a:prstGeom prst="curvedConnector5">
            <a:avLst>
              <a:gd name="adj1" fmla="val -434403"/>
              <a:gd name="adj2" fmla="val 50000"/>
              <a:gd name="adj3" fmla="val -434403"/>
            </a:avLst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98" name=""/>
          <p:cNvCxnSpPr>
            <a:stCxn id="585" idx="6"/>
            <a:endCxn id="575" idx="2"/>
          </p:cNvCxnSpPr>
          <p:nvPr/>
        </p:nvCxnSpPr>
        <p:spPr>
          <a:xfrm flipV="1">
            <a:off x="5981400" y="2099880"/>
            <a:ext cx="1670760" cy="388080"/>
          </a:xfrm>
          <a:prstGeom prst="curvedConnector5">
            <a:avLst>
              <a:gd name="adj1" fmla="val 50000"/>
              <a:gd name="adj2" fmla="val 49953"/>
              <a:gd name="adj3" fmla="val 50000"/>
            </a:avLst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599" name=""/>
          <p:cNvCxnSpPr>
            <a:stCxn id="586" idx="6"/>
            <a:endCxn id="575" idx="2"/>
          </p:cNvCxnSpPr>
          <p:nvPr/>
        </p:nvCxnSpPr>
        <p:spPr>
          <a:xfrm flipV="1">
            <a:off x="5622840" y="2099520"/>
            <a:ext cx="2029680" cy="981720"/>
          </a:xfrm>
          <a:prstGeom prst="curvedConnector5">
            <a:avLst>
              <a:gd name="adj1" fmla="val 31133"/>
              <a:gd name="adj2" fmla="val 50000"/>
              <a:gd name="adj3" fmla="val 31133"/>
            </a:avLst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600" name=""/>
          <p:cNvCxnSpPr>
            <a:stCxn id="590" idx="7"/>
            <a:endCxn id="575" idx="2"/>
          </p:cNvCxnSpPr>
          <p:nvPr/>
        </p:nvCxnSpPr>
        <p:spPr>
          <a:xfrm flipH="1" flipV="1" rot="5400000">
            <a:off x="6539400" y="1914480"/>
            <a:ext cx="927720" cy="1297800"/>
          </a:xfrm>
          <a:prstGeom prst="curvedConnector2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grpSp>
        <p:nvGrpSpPr>
          <p:cNvPr id="601" name=""/>
          <p:cNvGrpSpPr/>
          <p:nvPr/>
        </p:nvGrpSpPr>
        <p:grpSpPr>
          <a:xfrm>
            <a:off x="177840" y="3903840"/>
            <a:ext cx="4253040" cy="1776600"/>
            <a:chOff x="177840" y="3903840"/>
            <a:chExt cx="4253040" cy="1776600"/>
          </a:xfrm>
        </p:grpSpPr>
        <p:sp>
          <p:nvSpPr>
            <p:cNvPr id="602" name=""/>
            <p:cNvSpPr/>
            <p:nvPr/>
          </p:nvSpPr>
          <p:spPr>
            <a:xfrm>
              <a:off x="2111400" y="5403960"/>
              <a:ext cx="106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tal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742840" y="4204080"/>
              <a:ext cx="100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Eur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4" name=""/>
            <p:cNvCxnSpPr>
              <a:stCxn id="605" idx="4"/>
              <a:endCxn id="606" idx="0"/>
            </p:cNvCxnSpPr>
            <p:nvPr/>
          </p:nvCxnSpPr>
          <p:spPr>
            <a:xfrm>
              <a:off x="2881440" y="4977720"/>
              <a:ext cx="1080" cy="374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7" name=""/>
            <p:cNvCxnSpPr>
              <a:stCxn id="608" idx="4"/>
              <a:endCxn id="605" idx="0"/>
            </p:cNvCxnSpPr>
            <p:nvPr/>
          </p:nvCxnSpPr>
          <p:spPr>
            <a:xfrm flipH="1">
              <a:off x="2881800" y="4577400"/>
              <a:ext cx="358920" cy="249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9" name=""/>
            <p:cNvSpPr/>
            <p:nvPr/>
          </p:nvSpPr>
          <p:spPr>
            <a:xfrm>
              <a:off x="3646800" y="4703400"/>
              <a:ext cx="784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Wine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Chee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448440" y="5375880"/>
              <a:ext cx="96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Aust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1" name=""/>
            <p:cNvCxnSpPr>
              <a:stCxn id="612" idx="4"/>
              <a:endCxn id="613" idx="0"/>
            </p:cNvCxnSpPr>
            <p:nvPr/>
          </p:nvCxnSpPr>
          <p:spPr>
            <a:xfrm>
              <a:off x="3633480" y="4977720"/>
              <a:ext cx="7560" cy="374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1992240" y="4775040"/>
              <a:ext cx="95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Pic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5" name=""/>
            <p:cNvCxnSpPr>
              <a:stCxn id="608" idx="4"/>
              <a:endCxn id="612" idx="0"/>
            </p:cNvCxnSpPr>
            <p:nvPr/>
          </p:nvCxnSpPr>
          <p:spPr>
            <a:xfrm>
              <a:off x="3240360" y="4577400"/>
              <a:ext cx="393840" cy="249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8" name=""/>
            <p:cNvSpPr/>
            <p:nvPr/>
          </p:nvSpPr>
          <p:spPr>
            <a:xfrm>
              <a:off x="3168000" y="4426560"/>
              <a:ext cx="14364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09080" y="4826880"/>
              <a:ext cx="14400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61480" y="4826880"/>
              <a:ext cx="14364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809080" y="5351400"/>
              <a:ext cx="14400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568320" y="5351400"/>
              <a:ext cx="14364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9360" y="4789800"/>
              <a:ext cx="100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Eur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7" name=""/>
            <p:cNvCxnSpPr>
              <a:stCxn id="618" idx="4"/>
              <a:endCxn id="619" idx="0"/>
            </p:cNvCxnSpPr>
            <p:nvPr/>
          </p:nvCxnSpPr>
          <p:spPr>
            <a:xfrm flipH="1">
              <a:off x="1067760" y="4964040"/>
              <a:ext cx="358920" cy="443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0" name=""/>
            <p:cNvSpPr/>
            <p:nvPr/>
          </p:nvSpPr>
          <p:spPr>
            <a:xfrm>
              <a:off x="1833840" y="5285160"/>
              <a:ext cx="78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ta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7840" y="5355720"/>
              <a:ext cx="95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Aust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2" name=""/>
            <p:cNvCxnSpPr>
              <a:stCxn id="618" idx="4"/>
              <a:endCxn id="623" idx="0"/>
            </p:cNvCxnSpPr>
            <p:nvPr/>
          </p:nvCxnSpPr>
          <p:spPr>
            <a:xfrm>
              <a:off x="1426680" y="4964040"/>
              <a:ext cx="393840" cy="443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8" name=""/>
            <p:cNvSpPr/>
            <p:nvPr/>
          </p:nvSpPr>
          <p:spPr>
            <a:xfrm>
              <a:off x="1354320" y="4813200"/>
              <a:ext cx="14400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995400" y="5406840"/>
              <a:ext cx="14364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47440" y="5406840"/>
              <a:ext cx="14364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4" name=""/>
            <p:cNvCxnSpPr>
              <a:stCxn id="625" idx="4"/>
              <a:endCxn id="618" idx="0"/>
            </p:cNvCxnSpPr>
            <p:nvPr/>
          </p:nvCxnSpPr>
          <p:spPr>
            <a:xfrm flipH="1">
              <a:off x="1425960" y="4598280"/>
              <a:ext cx="7560" cy="215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5" name=""/>
            <p:cNvSpPr/>
            <p:nvPr/>
          </p:nvSpPr>
          <p:spPr>
            <a:xfrm>
              <a:off x="1361160" y="4447080"/>
              <a:ext cx="14400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67040" y="4206600"/>
              <a:ext cx="78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ma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7040" y="3903840"/>
              <a:ext cx="78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46520" y="3903840"/>
              <a:ext cx="78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1922760" y="3673440"/>
            <a:ext cx="828360" cy="55080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800000"/>
                </a:solidFill>
                <a:latin typeface="Symbol"/>
                <a:ea typeface="Symbol"/>
              </a:rPr>
              <a:t>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660920" y="3903840"/>
            <a:ext cx="4253040" cy="1776600"/>
            <a:chOff x="4660920" y="3903840"/>
            <a:chExt cx="4253040" cy="1776600"/>
          </a:xfrm>
        </p:grpSpPr>
        <p:sp>
          <p:nvSpPr>
            <p:cNvPr id="631" name=""/>
            <p:cNvSpPr/>
            <p:nvPr/>
          </p:nvSpPr>
          <p:spPr>
            <a:xfrm>
              <a:off x="6594480" y="5403960"/>
              <a:ext cx="106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tal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25920" y="4204080"/>
              <a:ext cx="100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Eur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3" name=""/>
            <p:cNvCxnSpPr>
              <a:stCxn id="634" idx="4"/>
              <a:endCxn id="635" idx="0"/>
            </p:cNvCxnSpPr>
            <p:nvPr/>
          </p:nvCxnSpPr>
          <p:spPr>
            <a:xfrm>
              <a:off x="7364520" y="4977720"/>
              <a:ext cx="1080" cy="374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6" name=""/>
            <p:cNvCxnSpPr>
              <a:stCxn id="637" idx="4"/>
              <a:endCxn id="634" idx="0"/>
            </p:cNvCxnSpPr>
            <p:nvPr/>
          </p:nvCxnSpPr>
          <p:spPr>
            <a:xfrm flipH="1">
              <a:off x="7364880" y="4577400"/>
              <a:ext cx="358920" cy="249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8" name=""/>
            <p:cNvSpPr/>
            <p:nvPr/>
          </p:nvSpPr>
          <p:spPr>
            <a:xfrm>
              <a:off x="8129880" y="4703400"/>
              <a:ext cx="784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Wine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Chee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931520" y="5375880"/>
              <a:ext cx="96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Aust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0" name=""/>
            <p:cNvCxnSpPr>
              <a:stCxn id="641" idx="4"/>
              <a:endCxn id="642" idx="0"/>
            </p:cNvCxnSpPr>
            <p:nvPr/>
          </p:nvCxnSpPr>
          <p:spPr>
            <a:xfrm>
              <a:off x="8116560" y="4977720"/>
              <a:ext cx="7560" cy="3740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3" name=""/>
            <p:cNvSpPr/>
            <p:nvPr/>
          </p:nvSpPr>
          <p:spPr>
            <a:xfrm>
              <a:off x="6475320" y="4775040"/>
              <a:ext cx="95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Pic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4" name=""/>
            <p:cNvCxnSpPr>
              <a:stCxn id="637" idx="4"/>
              <a:endCxn id="641" idx="0"/>
            </p:cNvCxnSpPr>
            <p:nvPr/>
          </p:nvCxnSpPr>
          <p:spPr>
            <a:xfrm>
              <a:off x="7723440" y="4577400"/>
              <a:ext cx="393840" cy="249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7" name=""/>
            <p:cNvSpPr/>
            <p:nvPr/>
          </p:nvSpPr>
          <p:spPr>
            <a:xfrm>
              <a:off x="7651080" y="4426560"/>
              <a:ext cx="14364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92160" y="4826880"/>
              <a:ext cx="14400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044560" y="4826880"/>
              <a:ext cx="14364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92160" y="5351400"/>
              <a:ext cx="14400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051400" y="5351400"/>
              <a:ext cx="14364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32440" y="4789800"/>
              <a:ext cx="100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Eur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6" name=""/>
            <p:cNvCxnSpPr>
              <a:stCxn id="647" idx="4"/>
              <a:endCxn id="648" idx="0"/>
            </p:cNvCxnSpPr>
            <p:nvPr/>
          </p:nvCxnSpPr>
          <p:spPr>
            <a:xfrm flipH="1">
              <a:off x="5550840" y="4964040"/>
              <a:ext cx="358920" cy="443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9" name=""/>
            <p:cNvSpPr/>
            <p:nvPr/>
          </p:nvSpPr>
          <p:spPr>
            <a:xfrm>
              <a:off x="6316920" y="5285160"/>
              <a:ext cx="78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ta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60920" y="5355720"/>
              <a:ext cx="95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Austr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7" idx="4"/>
              <a:endCxn id="652" idx="0"/>
            </p:cNvCxnSpPr>
            <p:nvPr/>
          </p:nvCxnSpPr>
          <p:spPr>
            <a:xfrm>
              <a:off x="5909760" y="4964040"/>
              <a:ext cx="393840" cy="443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7" name=""/>
            <p:cNvSpPr/>
            <p:nvPr/>
          </p:nvSpPr>
          <p:spPr>
            <a:xfrm>
              <a:off x="5837400" y="4813200"/>
              <a:ext cx="14400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78480" y="5406840"/>
              <a:ext cx="14364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230520" y="5406840"/>
              <a:ext cx="14364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3" name=""/>
            <p:cNvCxnSpPr>
              <a:stCxn id="654" idx="4"/>
              <a:endCxn id="647" idx="0"/>
            </p:cNvCxnSpPr>
            <p:nvPr/>
          </p:nvCxnSpPr>
          <p:spPr>
            <a:xfrm flipH="1">
              <a:off x="5909040" y="4598280"/>
              <a:ext cx="7560" cy="215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4" name=""/>
            <p:cNvSpPr/>
            <p:nvPr/>
          </p:nvSpPr>
          <p:spPr>
            <a:xfrm>
              <a:off x="5844240" y="4447080"/>
              <a:ext cx="144000" cy="150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8484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50120" y="4206600"/>
              <a:ext cx="78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ahoma"/>
                </a:rPr>
                <a:t>Imag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50120" y="3903840"/>
              <a:ext cx="78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329600" y="3903840"/>
              <a:ext cx="78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8" name=""/>
          <p:cNvCxnSpPr>
            <a:stCxn id="619" idx="6"/>
            <a:endCxn id="606" idx="1"/>
          </p:cNvCxnSpPr>
          <p:nvPr/>
        </p:nvCxnSpPr>
        <p:spPr>
          <a:xfrm flipV="1">
            <a:off x="1139400" y="5373360"/>
            <a:ext cx="1691640" cy="110160"/>
          </a:xfrm>
          <a:prstGeom prst="curvedConnector5">
            <a:avLst>
              <a:gd name="adj1" fmla="val 20178"/>
              <a:gd name="adj2" fmla="val 126557"/>
              <a:gd name="adj3" fmla="val 20178"/>
            </a:avLst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9" name=""/>
          <p:cNvCxnSpPr>
            <a:stCxn id="623" idx="4"/>
            <a:endCxn id="613" idx="4"/>
          </p:cNvCxnSpPr>
          <p:nvPr/>
        </p:nvCxnSpPr>
        <p:spPr>
          <a:xfrm flipH="1" flipV="1" rot="5400000">
            <a:off x="2701440" y="4619880"/>
            <a:ext cx="56160" cy="1819800"/>
          </a:xfrm>
          <a:prstGeom prst="curvedConnector5">
            <a:avLst>
              <a:gd name="adj1" fmla="val -410967"/>
              <a:gd name="adj2" fmla="val 50000"/>
              <a:gd name="adj3" fmla="val -410967"/>
            </a:avLst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60" name=""/>
          <p:cNvCxnSpPr>
            <a:stCxn id="654" idx="6"/>
            <a:endCxn id="635" idx="2"/>
          </p:cNvCxnSpPr>
          <p:nvPr/>
        </p:nvCxnSpPr>
        <p:spPr>
          <a:xfrm>
            <a:off x="5987520" y="4522680"/>
            <a:ext cx="1305720" cy="905760"/>
          </a:xfrm>
          <a:prstGeom prst="curvedConnector5">
            <a:avLst>
              <a:gd name="adj1" fmla="val 33314"/>
              <a:gd name="adj2" fmla="val 49980"/>
              <a:gd name="adj3" fmla="val 33314"/>
            </a:avLst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661" name=""/>
          <p:cNvCxnSpPr>
            <a:stCxn id="647" idx="6"/>
            <a:endCxn id="635" idx="2"/>
          </p:cNvCxnSpPr>
          <p:nvPr/>
        </p:nvCxnSpPr>
        <p:spPr>
          <a:xfrm>
            <a:off x="5981760" y="4889160"/>
            <a:ext cx="1311480" cy="538920"/>
          </a:xfrm>
          <a:prstGeom prst="curvedConnector5">
            <a:avLst>
              <a:gd name="adj1" fmla="val 30258"/>
              <a:gd name="adj2" fmla="val 50000"/>
              <a:gd name="adj3" fmla="val 30258"/>
            </a:avLst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662" name=""/>
          <p:cNvCxnSpPr/>
          <p:nvPr/>
        </p:nvCxnSpPr>
        <p:spPr>
          <a:xfrm>
            <a:off x="5987520" y="4521240"/>
            <a:ext cx="130572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663" name=""/>
          <p:cNvCxnSpPr/>
          <p:nvPr/>
        </p:nvCxnSpPr>
        <p:spPr>
          <a:xfrm flipV="1">
            <a:off x="5622480" y="2515680"/>
            <a:ext cx="1670760" cy="580320"/>
          </a:xfrm>
          <a:prstGeom prst="curvedConnector5">
            <a:avLst>
              <a:gd name="adj1" fmla="val 17392"/>
              <a:gd name="adj2" fmla="val 49968"/>
              <a:gd name="adj3" fmla="val 17392"/>
            </a:avLst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cxnSp>
        <p:nvCxnSpPr>
          <p:cNvPr id="664" name=""/>
          <p:cNvCxnSpPr/>
          <p:nvPr/>
        </p:nvCxnSpPr>
        <p:spPr>
          <a:xfrm flipH="1" flipV="1" rot="5400000">
            <a:off x="6560640" y="2309400"/>
            <a:ext cx="526320" cy="938880"/>
          </a:xfrm>
          <a:prstGeom prst="curvedConnector2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665" name=""/>
          <p:cNvSpPr/>
          <p:nvPr/>
        </p:nvSpPr>
        <p:spPr>
          <a:xfrm>
            <a:off x="128268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Step 4: cont’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6792840" y="3816360"/>
            <a:ext cx="222480" cy="280800"/>
            <a:chOff x="6792840" y="3816360"/>
            <a:chExt cx="222480" cy="280800"/>
          </a:xfrm>
        </p:grpSpPr>
        <p:grpSp>
          <p:nvGrpSpPr>
            <p:cNvPr id="667" name=""/>
            <p:cNvGrpSpPr/>
            <p:nvPr/>
          </p:nvGrpSpPr>
          <p:grpSpPr>
            <a:xfrm>
              <a:off x="6792840" y="3816360"/>
              <a:ext cx="222120" cy="221040"/>
              <a:chOff x="6792840" y="3816360"/>
              <a:chExt cx="222120" cy="221040"/>
            </a:xfrm>
          </p:grpSpPr>
          <p:sp>
            <p:nvSpPr>
              <p:cNvPr id="668" name=""/>
              <p:cNvSpPr/>
              <p:nvPr/>
            </p:nvSpPr>
            <p:spPr>
              <a:xfrm>
                <a:off x="6797160" y="4037400"/>
                <a:ext cx="21636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792840" y="3816360"/>
                <a:ext cx="22104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13880" y="3817080"/>
                <a:ext cx="1080" cy="20988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1" name=""/>
            <p:cNvSpPr/>
            <p:nvPr/>
          </p:nvSpPr>
          <p:spPr>
            <a:xfrm>
              <a:off x="6792840" y="4097160"/>
              <a:ext cx="2224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6765840" y="1442880"/>
            <a:ext cx="236160" cy="284400"/>
            <a:chOff x="6765840" y="1442880"/>
            <a:chExt cx="236160" cy="284400"/>
          </a:xfrm>
        </p:grpSpPr>
        <p:grpSp>
          <p:nvGrpSpPr>
            <p:cNvPr id="673" name=""/>
            <p:cNvGrpSpPr/>
            <p:nvPr/>
          </p:nvGrpSpPr>
          <p:grpSpPr>
            <a:xfrm>
              <a:off x="6766200" y="1442880"/>
              <a:ext cx="235800" cy="223920"/>
              <a:chOff x="6766200" y="1442880"/>
              <a:chExt cx="235800" cy="2239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6767640" y="1442880"/>
                <a:ext cx="22968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6767640" y="1666800"/>
                <a:ext cx="234360" cy="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 flipV="1">
                <a:off x="6766200" y="1453680"/>
                <a:ext cx="1440" cy="21276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 flipH="1">
              <a:off x="6765840" y="1727280"/>
              <a:ext cx="236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14228-C5DC-4F5B-BEB6-BD2FE64D62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863280" y="2768400"/>
            <a:ext cx="79642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24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The S-Match System: 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  <a:p>
            <a:pPr marL="324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Architecture and Implementation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5885-6566-4856-9014-17128828D0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-Match: Logical Level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57480" y="5931000"/>
            <a:ext cx="726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OTE: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version of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S-Mat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a rationalized re-implementation of the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CTXmatc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 with a few added function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1409760" y="1454040"/>
            <a:ext cx="7531200" cy="443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2229-CB08-428B-8AEA-33E2658BE0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371600" y="990720"/>
            <a:ext cx="7175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-Match: Algorithmic Level</a:t>
            </a:r>
            <a:r>
              <a:rPr b="1" lang="en-US" sz="28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46120" y="3149640"/>
            <a:ext cx="8356680" cy="27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-line part (Steps 3,4)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Strong semantics matc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WordNet 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Weak semantics matchers (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String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Sense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Corpus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wo SAT solvers (JSAT, SAT4J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71680" y="1816200"/>
            <a:ext cx="761976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-line part (Steps 1,2)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Java WordNet Library (JWNL) 1.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WN 2.0 (text file or database or memory resident datab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C827-1BAE-411A-8739-760CA65063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863280" y="2768400"/>
            <a:ext cx="79642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24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A Comparative Evaluation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B5F0-4ADD-402B-A2C0-8D10341219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45760" y="1815840"/>
            <a:ext cx="796284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80720" indent="-1807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8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80720" indent="-1807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The S-Match Algorithm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8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80720" indent="-1807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The S-Match System: Architecture and  Implementation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8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80720" indent="-18072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A Comparative Evaluation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8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80720" indent="-1807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Future Work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47F3-E2E7-432A-8093-9DF098B9FE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Testing Methodology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96880" y="2470320"/>
            <a:ext cx="8217000" cy="37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ing match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Expert mappings are inherently subj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wo degrees of freed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Direc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Use of Ora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Indic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Precision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[0,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Recall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[0,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Overall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[-1,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F-measure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[0,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Time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>
            <a:hlinkClick r:id="rId11" action="ppaction://hlinksldjump"/>
          </p:cNvPr>
          <p:cNvSpPr/>
          <p:nvPr/>
        </p:nvSpPr>
        <p:spPr>
          <a:xfrm>
            <a:off x="5460840" y="5067360"/>
            <a:ext cx="559080" cy="444600"/>
          </a:xfrm>
          <a:custGeom>
            <a:avLst/>
            <a:gdLst>
              <a:gd name="textAreaLeft" fmla="*/ 28800 w 559080"/>
              <a:gd name="textAreaRight" fmla="*/ 530280 w 559080"/>
              <a:gd name="textAreaTop" fmla="*/ 28800 h 444600"/>
              <a:gd name="textAreaBottom" fmla="*/ 415800 h 444600"/>
            </a:gdLst>
            <a:ahLst/>
            <a:rect l="textAreaLeft" t="textAreaTop" r="textAreaRight" b="textAreaBottom"/>
            <a:pathLst>
              <a:path w="27157" h="21600">
                <a:moveTo>
                  <a:pt x="0" y="0"/>
                </a:moveTo>
                <a:lnTo>
                  <a:pt x="27157" y="0"/>
                </a:lnTo>
                <a:lnTo>
                  <a:pt x="27157" y="21600"/>
                </a:lnTo>
                <a:lnTo>
                  <a:pt x="0" y="21600"/>
                </a:lnTo>
                <a:close/>
              </a:path>
              <a:path fill="lightenLess" w="27157" h="21600">
                <a:moveTo>
                  <a:pt x="0" y="0"/>
                </a:moveTo>
                <a:lnTo>
                  <a:pt x="27157" y="0"/>
                </a:lnTo>
                <a:lnTo>
                  <a:pt x="25757" y="1400"/>
                </a:lnTo>
                <a:lnTo>
                  <a:pt x="1400" y="1400"/>
                </a:lnTo>
                <a:close/>
              </a:path>
              <a:path fill="darken" w="27157" h="21600">
                <a:moveTo>
                  <a:pt x="27157" y="0"/>
                </a:moveTo>
                <a:lnTo>
                  <a:pt x="27157" y="21600"/>
                </a:lnTo>
                <a:lnTo>
                  <a:pt x="25757" y="20200"/>
                </a:lnTo>
                <a:lnTo>
                  <a:pt x="25757" y="1400"/>
                </a:lnTo>
                <a:close/>
              </a:path>
              <a:path fill="darkenLess" w="27157" h="21600">
                <a:moveTo>
                  <a:pt x="27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57" y="20200"/>
                </a:lnTo>
                <a:close/>
              </a:path>
              <a:path fill="lighten" w="27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157" h="21600">
                <a:moveTo>
                  <a:pt x="1357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157" h="21600">
                <a:moveTo>
                  <a:pt x="1357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157" h="21600">
                <a:moveTo>
                  <a:pt x="11002" y="8224"/>
                </a:moveTo>
                <a:lnTo>
                  <a:pt x="14867" y="8224"/>
                </a:lnTo>
                <a:lnTo>
                  <a:pt x="14867" y="15221"/>
                </a:lnTo>
                <a:lnTo>
                  <a:pt x="16155" y="15221"/>
                </a:lnTo>
                <a:lnTo>
                  <a:pt x="16155" y="16144"/>
                </a:lnTo>
                <a:lnTo>
                  <a:pt x="11002" y="16144"/>
                </a:lnTo>
                <a:lnTo>
                  <a:pt x="11002" y="15221"/>
                </a:lnTo>
                <a:lnTo>
                  <a:pt x="12290" y="15221"/>
                </a:lnTo>
                <a:lnTo>
                  <a:pt x="12290" y="9129"/>
                </a:lnTo>
                <a:lnTo>
                  <a:pt x="11002" y="912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96880" y="1587600"/>
            <a:ext cx="81532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ch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-Match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vs.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upid, COMA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F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s implemented in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o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0DF5-3782-4A86-A2B8-945E040E90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reliminary Experimental Result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1359000" y="2700360"/>
          <a:ext cx="7175520" cy="365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2700360"/>
                    <a:ext cx="717552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5" name=""/>
          <p:cNvSpPr/>
          <p:nvPr/>
        </p:nvSpPr>
        <p:spPr>
          <a:xfrm>
            <a:off x="723960" y="2336760"/>
            <a:ext cx="78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PC: PIV 1,7Ghz; 256Mb. RAM; Win 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23960" y="1663560"/>
            <a:ext cx="7810560" cy="699840"/>
            <a:chOff x="723960" y="1663560"/>
            <a:chExt cx="7810560" cy="699840"/>
          </a:xfrm>
        </p:grpSpPr>
        <p:sp>
          <p:nvSpPr>
            <p:cNvPr id="697" name=""/>
            <p:cNvSpPr/>
            <p:nvPr/>
          </p:nvSpPr>
          <p:spPr>
            <a:xfrm>
              <a:off x="723960" y="1663560"/>
              <a:ext cx="781056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451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8484"/>
                  </a:solidFill>
                  <a:latin typeface="Arial"/>
                </a:rPr>
                <a:t>Three experiments, test cases from different domai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451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8484"/>
                  </a:solidFill>
                  <a:latin typeface="Arial"/>
                </a:rPr>
                <a:t>Some characteristics of test cases: #nodes 4-39, depth 2-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>
              <a:hlinkClick r:id="rId6" action="ppaction://hlinksldjump"/>
            </p:cNvPr>
            <p:cNvSpPr/>
            <p:nvPr/>
          </p:nvSpPr>
          <p:spPr>
            <a:xfrm>
              <a:off x="7620120" y="2019240"/>
              <a:ext cx="507960" cy="279360"/>
            </a:xfrm>
            <a:custGeom>
              <a:avLst/>
              <a:gdLst>
                <a:gd name="textAreaLeft" fmla="*/ 18000 w 507960"/>
                <a:gd name="textAreaRight" fmla="*/ 489960 w 507960"/>
                <a:gd name="textAreaTop" fmla="*/ 18000 h 279360"/>
                <a:gd name="textAreaBottom" fmla="*/ 261360 h 279360"/>
              </a:gdLst>
              <a:ahLst/>
              <a:rect l="textAreaLeft" t="textAreaTop" r="textAreaRight" b="textAreaBottom"/>
              <a:pathLst>
                <a:path w="39253" h="21600">
                  <a:moveTo>
                    <a:pt x="0" y="0"/>
                  </a:moveTo>
                  <a:lnTo>
                    <a:pt x="39253" y="0"/>
                  </a:lnTo>
                  <a:lnTo>
                    <a:pt x="39253" y="21600"/>
                  </a:lnTo>
                  <a:lnTo>
                    <a:pt x="0" y="21600"/>
                  </a:lnTo>
                  <a:close/>
                </a:path>
                <a:path fill="lightenLess" w="39253" h="21600">
                  <a:moveTo>
                    <a:pt x="0" y="0"/>
                  </a:moveTo>
                  <a:lnTo>
                    <a:pt x="39253" y="0"/>
                  </a:lnTo>
                  <a:lnTo>
                    <a:pt x="37853" y="1400"/>
                  </a:lnTo>
                  <a:lnTo>
                    <a:pt x="1400" y="1400"/>
                  </a:lnTo>
                  <a:close/>
                </a:path>
                <a:path fill="darken" w="39253" h="21600">
                  <a:moveTo>
                    <a:pt x="39253" y="0"/>
                  </a:moveTo>
                  <a:lnTo>
                    <a:pt x="39253" y="21600"/>
                  </a:lnTo>
                  <a:lnTo>
                    <a:pt x="37853" y="20200"/>
                  </a:lnTo>
                  <a:lnTo>
                    <a:pt x="37853" y="1400"/>
                  </a:lnTo>
                  <a:close/>
                </a:path>
                <a:path fill="darkenLess" w="39253" h="21600">
                  <a:moveTo>
                    <a:pt x="3925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53" y="20200"/>
                  </a:lnTo>
                  <a:close/>
                </a:path>
                <a:path fill="lighten" w="3925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9253" h="21600">
                  <a:moveTo>
                    <a:pt x="19626" y="3794"/>
                  </a:moveTo>
                  <a:arcTo wR="7006" hR="7006" stAng="16200000" swAng="-5400000"/>
                  <a:arcTo wR="7006" hR="7006" stAng="10800000" swAng="-5400000"/>
                  <a:arcTo wR="7006" hR="7006" stAng="5400000" swAng="-5400000"/>
                  <a:arcTo wR="7006" hR="7006" stAng="0" swAng="-5400000"/>
                  <a:close/>
                </a:path>
                <a:path fill="lighten" w="39253" h="21600">
                  <a:moveTo>
                    <a:pt x="19626" y="4168"/>
                  </a:moveTo>
                  <a:arcTo wR="1793" hR="1793" stAng="16200000" swAng="-5400000"/>
                  <a:arcTo wR="1793" hR="1793" stAng="10800000" swAng="-5400000"/>
                  <a:arcTo wR="1793" hR="1793" stAng="5400000" swAng="-5400000"/>
                  <a:arcTo wR="1793" hR="1793" stAng="0" swAng="-5400000"/>
                  <a:close/>
                </a:path>
                <a:path fill="lighten" w="39253" h="21600">
                  <a:moveTo>
                    <a:pt x="17050" y="8224"/>
                  </a:moveTo>
                  <a:lnTo>
                    <a:pt x="20914" y="8224"/>
                  </a:lnTo>
                  <a:lnTo>
                    <a:pt x="20914" y="15221"/>
                  </a:lnTo>
                  <a:lnTo>
                    <a:pt x="22203" y="15221"/>
                  </a:lnTo>
                  <a:lnTo>
                    <a:pt x="22203" y="16144"/>
                  </a:lnTo>
                  <a:lnTo>
                    <a:pt x="17050" y="16144"/>
                  </a:lnTo>
                  <a:lnTo>
                    <a:pt x="17050" y="15221"/>
                  </a:lnTo>
                  <a:lnTo>
                    <a:pt x="18338" y="15221"/>
                  </a:lnTo>
                  <a:lnTo>
                    <a:pt x="18338" y="9129"/>
                  </a:lnTo>
                  <a:lnTo>
                    <a:pt x="17050" y="9129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DE35A-8851-4092-9B12-5B5990762D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800000"/>
                </a:solidFill>
                <a:latin typeface="Arial"/>
              </a:rPr>
              <a:t>Future Work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25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Extend the semantic matching approach to allow handling graphs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Extend the semantic matching algorithm for computing mappings between graphs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Develop a theory of iterative semantic matching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Elaborate results filtering strategies according to the binding strength of the resulting mappings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Optimize the algorithm and its implementation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Develop GUI to make the system </a:t>
            </a:r>
            <a:r>
              <a:rPr b="1" i="1" lang="it-IT" sz="1800" spc="-1" strike="noStrike">
                <a:solidFill>
                  <a:srgbClr val="008484"/>
                </a:solidFill>
                <a:latin typeface="Arial"/>
              </a:rPr>
              <a:t>interactive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Extend libraries  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Develop semantic matching testing methodology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Do throught testing of the system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A38DA-772F-4200-9905-7EF217564D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71240" y="8762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Reference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95000" y="1473120"/>
            <a:ext cx="800244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Project website - ACCORD: </a:t>
            </a:r>
            <a:r>
              <a:rPr b="1" lang="en-US" sz="17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dit.unitn.it/~accord/</a:t>
            </a: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8484"/>
                </a:solidFill>
                <a:latin typeface="Arial"/>
              </a:rPr>
              <a:t>F. Giunchiglia, P.Shvaiko, M. Yatskevich: </a:t>
            </a:r>
            <a:r>
              <a:rPr b="1" lang="en-GB" sz="1700" spc="-1" strike="noStrike">
                <a:solidFill>
                  <a:srgbClr val="800000"/>
                </a:solidFill>
                <a:latin typeface="Arial"/>
              </a:rPr>
              <a:t>S-Match: an algorithm and an implementation of semantic matching</a:t>
            </a:r>
            <a:r>
              <a:rPr b="1" lang="en-GB" sz="1700" spc="-1" strike="noStrike">
                <a:solidFill>
                  <a:srgbClr val="008484"/>
                </a:solidFill>
                <a:latin typeface="Arial"/>
              </a:rPr>
              <a:t>. In Proceedings of </a:t>
            </a:r>
            <a:r>
              <a:rPr b="1" i="1" lang="en-GB" sz="1700" spc="-1" strike="noStrike">
                <a:solidFill>
                  <a:srgbClr val="008484"/>
                </a:solidFill>
                <a:latin typeface="Arial"/>
              </a:rPr>
              <a:t>ESWS’04</a:t>
            </a:r>
            <a:r>
              <a:rPr b="1" lang="en-GB" sz="1700" spc="-1" strike="noStrike">
                <a:solidFill>
                  <a:srgbClr val="008484"/>
                </a:solidFill>
                <a:latin typeface="Arial"/>
              </a:rPr>
              <a:t>.</a:t>
            </a: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8484"/>
                </a:solidFill>
                <a:latin typeface="Arial"/>
              </a:rPr>
              <a:t>F. Giunchiglia, P.Shvaiko: </a:t>
            </a:r>
            <a:r>
              <a:rPr b="1" lang="en-GB" sz="17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r>
              <a:rPr b="1" lang="en-GB" sz="1700" spc="-1" strike="noStrike">
                <a:solidFill>
                  <a:srgbClr val="008484"/>
                </a:solidFill>
                <a:latin typeface="Arial"/>
              </a:rPr>
              <a:t>. To appear in The Knowledge Engineering Review journal, 18(3) 2004. Short versions in Proceedings of</a:t>
            </a:r>
            <a:r>
              <a:rPr b="1" i="1" lang="en-GB" sz="1700" spc="-1" strike="noStrike">
                <a:solidFill>
                  <a:srgbClr val="008484"/>
                </a:solidFill>
                <a:latin typeface="Arial"/>
              </a:rPr>
              <a:t> SI </a:t>
            </a:r>
            <a:r>
              <a:rPr b="1" lang="en-GB" sz="1700" spc="-1" strike="noStrike">
                <a:solidFill>
                  <a:srgbClr val="008484"/>
                </a:solidFill>
                <a:latin typeface="Arial"/>
              </a:rPr>
              <a:t>workshop</a:t>
            </a:r>
            <a:r>
              <a:rPr b="1" i="1" lang="en-GB" sz="17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008484"/>
                </a:solidFill>
                <a:latin typeface="Arial"/>
              </a:rPr>
              <a:t>at</a:t>
            </a:r>
            <a:r>
              <a:rPr b="1" i="1" lang="en-GB" sz="1700" spc="-1" strike="noStrike">
                <a:solidFill>
                  <a:srgbClr val="008484"/>
                </a:solidFill>
                <a:latin typeface="Arial"/>
              </a:rPr>
              <a:t> ISWC’03 </a:t>
            </a:r>
            <a:r>
              <a:rPr b="1" lang="en-GB" sz="1700" spc="-1" strike="noStrike">
                <a:solidFill>
                  <a:srgbClr val="008484"/>
                </a:solidFill>
                <a:latin typeface="Arial"/>
              </a:rPr>
              <a:t>and</a:t>
            </a:r>
            <a:r>
              <a:rPr b="1" i="1" lang="en-GB" sz="1700" spc="-1" strike="noStrike">
                <a:solidFill>
                  <a:srgbClr val="008484"/>
                </a:solidFill>
                <a:latin typeface="Arial"/>
              </a:rPr>
              <a:t> ODS </a:t>
            </a:r>
            <a:r>
              <a:rPr b="1" lang="en-GB" sz="1700" spc="-1" strike="noStrike">
                <a:solidFill>
                  <a:srgbClr val="008484"/>
                </a:solidFill>
                <a:latin typeface="Arial"/>
              </a:rPr>
              <a:t>workshop at </a:t>
            </a:r>
            <a:r>
              <a:rPr b="1" i="1" lang="en-GB" sz="1700" spc="-1" strike="noStrike">
                <a:solidFill>
                  <a:srgbClr val="008484"/>
                </a:solidFill>
                <a:latin typeface="Arial"/>
              </a:rPr>
              <a:t>IJCAI’03</a:t>
            </a:r>
            <a:r>
              <a:rPr b="1" lang="en-GB" sz="1700" spc="-1" strike="noStrike">
                <a:solidFill>
                  <a:srgbClr val="008484"/>
                </a:solidFill>
                <a:latin typeface="Arial"/>
              </a:rPr>
              <a:t>.</a:t>
            </a: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P. Bouquet, L. Serafini, S. Zanobini: </a:t>
            </a:r>
            <a:r>
              <a:rPr b="1" lang="en-US" sz="1700" spc="-1" strike="noStrike">
                <a:solidFill>
                  <a:srgbClr val="800000"/>
                </a:solidFill>
                <a:latin typeface="Arial"/>
              </a:rPr>
              <a:t>Semantic coordination: a new approach and an application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. In Proceedings of </a:t>
            </a:r>
            <a:r>
              <a:rPr b="1" i="1" lang="en-US" sz="1700" spc="-1" strike="noStrike">
                <a:solidFill>
                  <a:srgbClr val="008484"/>
                </a:solidFill>
                <a:latin typeface="Arial"/>
              </a:rPr>
              <a:t>ISWC’03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.</a:t>
            </a: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8484"/>
                </a:solidFill>
                <a:latin typeface="Arial"/>
              </a:rPr>
              <a:t>F. Giunchiglia, I. Zaihrayeu: </a:t>
            </a:r>
            <a:r>
              <a:rPr b="1" lang="en-GB" sz="1700" spc="-1" strike="noStrike">
                <a:solidFill>
                  <a:srgbClr val="800000"/>
                </a:solidFill>
                <a:latin typeface="Arial"/>
              </a:rPr>
              <a:t>Making peer databases interact – a vision for an architecture supporting data coordination</a:t>
            </a:r>
            <a:r>
              <a:rPr b="1" lang="en-GB" sz="1700" spc="-1" strike="noStrike">
                <a:solidFill>
                  <a:srgbClr val="008484"/>
                </a:solidFill>
                <a:latin typeface="Arial"/>
              </a:rPr>
              <a:t>. In Proceedings of</a:t>
            </a:r>
            <a:r>
              <a:rPr b="1" i="1" lang="en-GB" sz="1700" spc="-1" strike="noStrike">
                <a:solidFill>
                  <a:srgbClr val="008484"/>
                </a:solidFill>
                <a:latin typeface="Arial"/>
              </a:rPr>
              <a:t> CIA’02.</a:t>
            </a: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marL="324000" indent="-32400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C. Ghidini, F. Giunchiglia: </a:t>
            </a:r>
            <a:r>
              <a:rPr b="1" lang="en-US" sz="1700" spc="-1" strike="noStrike">
                <a:solidFill>
                  <a:srgbClr val="800000"/>
                </a:solidFill>
                <a:latin typeface="Arial"/>
              </a:rPr>
              <a:t>Local models semantics, or contextual reasoning = locality + compatibility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. Artificial Intelligence journal, 127(3):221-259, 2001.</a:t>
            </a: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CB1E-EE0C-4CBD-BB5B-8AE3B927F4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1193760" y="1600200"/>
            <a:ext cx="72280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24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0000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4C5D5-87DC-49EC-8733-FCD209AD03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rId1" action="ppaction://hlinksldjump"/>
          </p:cNvPr>
          <p:cNvSpPr/>
          <p:nvPr/>
        </p:nvSpPr>
        <p:spPr>
          <a:xfrm>
            <a:off x="8178840" y="6350040"/>
            <a:ext cx="965160" cy="507960"/>
          </a:xfrm>
          <a:custGeom>
            <a:avLst/>
            <a:gdLst>
              <a:gd name="textAreaLeft" fmla="*/ 32760 w 965160"/>
              <a:gd name="textAreaRight" fmla="*/ 932400 w 965160"/>
              <a:gd name="textAreaTop" fmla="*/ 32760 h 507960"/>
              <a:gd name="textAreaBottom" fmla="*/ 475200 h 50796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20514" y="3837"/>
                </a:moveTo>
                <a:lnTo>
                  <a:pt x="23090" y="6448"/>
                </a:lnTo>
                <a:lnTo>
                  <a:pt x="23090" y="4707"/>
                </a:lnTo>
                <a:lnTo>
                  <a:pt x="24866" y="4707"/>
                </a:lnTo>
                <a:lnTo>
                  <a:pt x="24866" y="8224"/>
                </a:lnTo>
                <a:lnTo>
                  <a:pt x="27477" y="10800"/>
                </a:lnTo>
                <a:lnTo>
                  <a:pt x="25823" y="10800"/>
                </a:lnTo>
                <a:lnTo>
                  <a:pt x="25823" y="17989"/>
                </a:lnTo>
                <a:lnTo>
                  <a:pt x="15205" y="17989"/>
                </a:lnTo>
                <a:lnTo>
                  <a:pt x="15205" y="10800"/>
                </a:lnTo>
                <a:lnTo>
                  <a:pt x="13551" y="10800"/>
                </a:lnTo>
                <a:close/>
              </a:path>
              <a:path fill="darkenLess" w="41028" h="21600">
                <a:moveTo>
                  <a:pt x="23090" y="6448"/>
                </a:moveTo>
                <a:lnTo>
                  <a:pt x="23090" y="4707"/>
                </a:lnTo>
                <a:lnTo>
                  <a:pt x="24866" y="4707"/>
                </a:lnTo>
                <a:lnTo>
                  <a:pt x="24866" y="8224"/>
                </a:lnTo>
                <a:close/>
              </a:path>
              <a:path fill="darkenLess" w="41028" h="21600">
                <a:moveTo>
                  <a:pt x="19591" y="14299"/>
                </a:moveTo>
                <a:lnTo>
                  <a:pt x="21436" y="14299"/>
                </a:lnTo>
                <a:lnTo>
                  <a:pt x="21436" y="17989"/>
                </a:lnTo>
                <a:lnTo>
                  <a:pt x="25823" y="17989"/>
                </a:lnTo>
                <a:lnTo>
                  <a:pt x="25823" y="10800"/>
                </a:lnTo>
                <a:lnTo>
                  <a:pt x="15205" y="10800"/>
                </a:lnTo>
                <a:lnTo>
                  <a:pt x="15205" y="17989"/>
                </a:lnTo>
                <a:lnTo>
                  <a:pt x="19591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521000" y="4308480"/>
            <a:ext cx="280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– False 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– True po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– False posi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– True neg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560600" y="1006560"/>
            <a:ext cx="6272280" cy="28432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301840" y="2071800"/>
            <a:ext cx="2592360" cy="12952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11560" y="2071800"/>
            <a:ext cx="2592360" cy="1295280"/>
          </a:xfrm>
          <a:prstGeom prst="ellipse">
            <a:avLst/>
          </a:prstGeom>
          <a:solidFill>
            <a:srgbClr val="dbdb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90920" y="2243160"/>
            <a:ext cx="501840" cy="987480"/>
          </a:xfrm>
          <a:custGeom>
            <a:avLst/>
            <a:gdLst/>
            <a:ahLst/>
            <a:rect l="l" t="t" r="r" b="b"/>
            <a:pathLst>
              <a:path w="316" h="622">
                <a:moveTo>
                  <a:pt x="50" y="0"/>
                </a:moveTo>
                <a:cubicBezTo>
                  <a:pt x="66" y="8"/>
                  <a:pt x="114" y="29"/>
                  <a:pt x="144" y="49"/>
                </a:cubicBezTo>
                <a:cubicBezTo>
                  <a:pt x="174" y="69"/>
                  <a:pt x="206" y="95"/>
                  <a:pt x="230" y="120"/>
                </a:cubicBezTo>
                <a:cubicBezTo>
                  <a:pt x="254" y="145"/>
                  <a:pt x="278" y="177"/>
                  <a:pt x="292" y="203"/>
                </a:cubicBezTo>
                <a:cubicBezTo>
                  <a:pt x="306" y="229"/>
                  <a:pt x="309" y="258"/>
                  <a:pt x="312" y="279"/>
                </a:cubicBezTo>
                <a:cubicBezTo>
                  <a:pt x="315" y="300"/>
                  <a:pt x="316" y="310"/>
                  <a:pt x="312" y="330"/>
                </a:cubicBezTo>
                <a:cubicBezTo>
                  <a:pt x="308" y="350"/>
                  <a:pt x="304" y="375"/>
                  <a:pt x="291" y="400"/>
                </a:cubicBezTo>
                <a:cubicBezTo>
                  <a:pt x="278" y="425"/>
                  <a:pt x="260" y="454"/>
                  <a:pt x="232" y="481"/>
                </a:cubicBezTo>
                <a:cubicBezTo>
                  <a:pt x="204" y="508"/>
                  <a:pt x="162" y="541"/>
                  <a:pt x="123" y="565"/>
                </a:cubicBezTo>
                <a:cubicBezTo>
                  <a:pt x="84" y="589"/>
                  <a:pt x="26" y="610"/>
                  <a:pt x="0" y="62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936880" y="2568600"/>
            <a:ext cx="5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327560" y="249228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680080" y="25876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810480" y="3222720"/>
            <a:ext cx="6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60680" y="1177920"/>
            <a:ext cx="20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 Match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72080" y="117144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Ma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7680" y="1577880"/>
            <a:ext cx="533520" cy="52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6251400" y="1549440"/>
            <a:ext cx="619200" cy="60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4248000" y="3862440"/>
                <a:ext cx="4643640" cy="24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ecision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call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verall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call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-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Precision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-Measure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num>
                          <m:den>
                            <m:r>
                              <m:t xml:space="preserve">(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recision</m:t>
                            </m:r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cal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Precision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call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87B6-2E80-4FF5-A788-532C7B3344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726" name="">
            <a:hlinkClick r:id="rId2" action="ppaction://hlinksldjump"/>
          </p:cNvPr>
          <p:cNvSpPr/>
          <p:nvPr/>
        </p:nvSpPr>
        <p:spPr>
          <a:xfrm>
            <a:off x="8623440" y="6502320"/>
            <a:ext cx="520560" cy="355680"/>
          </a:xfrm>
          <a:custGeom>
            <a:avLst/>
            <a:gdLst>
              <a:gd name="textAreaLeft" fmla="*/ 23040 w 520560"/>
              <a:gd name="textAreaRight" fmla="*/ 497520 w 520560"/>
              <a:gd name="textAreaTop" fmla="*/ 23040 h 355680"/>
              <a:gd name="textAreaBottom" fmla="*/ 332640 h 355680"/>
            </a:gdLst>
            <a:ahLst/>
            <a:rect l="textAreaLeft" t="textAreaTop" r="textAreaRight" b="textAreaBottom"/>
            <a:pathLst>
              <a:path w="31603" h="21600">
                <a:moveTo>
                  <a:pt x="0" y="0"/>
                </a:moveTo>
                <a:lnTo>
                  <a:pt x="31603" y="0"/>
                </a:lnTo>
                <a:lnTo>
                  <a:pt x="31603" y="21600"/>
                </a:lnTo>
                <a:lnTo>
                  <a:pt x="0" y="21600"/>
                </a:lnTo>
                <a:close/>
              </a:path>
              <a:path fill="lightenLess" w="31603" h="21600">
                <a:moveTo>
                  <a:pt x="0" y="0"/>
                </a:moveTo>
                <a:lnTo>
                  <a:pt x="31603" y="0"/>
                </a:lnTo>
                <a:lnTo>
                  <a:pt x="30203" y="1400"/>
                </a:lnTo>
                <a:lnTo>
                  <a:pt x="1400" y="1400"/>
                </a:lnTo>
                <a:close/>
              </a:path>
              <a:path fill="darken" w="31603" h="21600">
                <a:moveTo>
                  <a:pt x="31603" y="0"/>
                </a:moveTo>
                <a:lnTo>
                  <a:pt x="31603" y="21600"/>
                </a:lnTo>
                <a:lnTo>
                  <a:pt x="30203" y="20200"/>
                </a:lnTo>
                <a:lnTo>
                  <a:pt x="30203" y="1400"/>
                </a:lnTo>
                <a:close/>
              </a:path>
              <a:path fill="darkenLess" w="31603" h="21600">
                <a:moveTo>
                  <a:pt x="31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03" y="20200"/>
                </a:lnTo>
                <a:close/>
              </a:path>
              <a:path fill="lighten" w="31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603" h="21600">
                <a:moveTo>
                  <a:pt x="15801" y="3837"/>
                </a:moveTo>
                <a:lnTo>
                  <a:pt x="18378" y="6448"/>
                </a:lnTo>
                <a:lnTo>
                  <a:pt x="18378" y="4707"/>
                </a:lnTo>
                <a:lnTo>
                  <a:pt x="20153" y="4707"/>
                </a:lnTo>
                <a:lnTo>
                  <a:pt x="20153" y="8224"/>
                </a:lnTo>
                <a:lnTo>
                  <a:pt x="22764" y="10800"/>
                </a:lnTo>
                <a:lnTo>
                  <a:pt x="21111" y="10800"/>
                </a:lnTo>
                <a:lnTo>
                  <a:pt x="21111" y="17989"/>
                </a:lnTo>
                <a:lnTo>
                  <a:pt x="10492" y="17989"/>
                </a:lnTo>
                <a:lnTo>
                  <a:pt x="10492" y="10800"/>
                </a:lnTo>
                <a:lnTo>
                  <a:pt x="8838" y="10800"/>
                </a:lnTo>
                <a:close/>
              </a:path>
              <a:path fill="darkenLess" w="31603" h="21600">
                <a:moveTo>
                  <a:pt x="18378" y="6448"/>
                </a:moveTo>
                <a:lnTo>
                  <a:pt x="18378" y="4707"/>
                </a:lnTo>
                <a:lnTo>
                  <a:pt x="20153" y="4707"/>
                </a:lnTo>
                <a:lnTo>
                  <a:pt x="20153" y="8224"/>
                </a:lnTo>
                <a:close/>
              </a:path>
              <a:path fill="darkenLess" w="31603" h="21600">
                <a:moveTo>
                  <a:pt x="14879" y="14299"/>
                </a:moveTo>
                <a:lnTo>
                  <a:pt x="16724" y="14299"/>
                </a:lnTo>
                <a:lnTo>
                  <a:pt x="16724" y="17989"/>
                </a:lnTo>
                <a:lnTo>
                  <a:pt x="21111" y="17989"/>
                </a:lnTo>
                <a:lnTo>
                  <a:pt x="21111" y="10800"/>
                </a:lnTo>
                <a:lnTo>
                  <a:pt x="10492" y="10800"/>
                </a:lnTo>
                <a:lnTo>
                  <a:pt x="10492" y="17989"/>
                </a:lnTo>
                <a:lnTo>
                  <a:pt x="14879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98231-6A89-462B-9571-4D8C8CBC6B9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88840" y="2971800"/>
            <a:ext cx="77472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  <a:p>
            <a:pPr marL="324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B493-5ACD-42B1-9601-C2E7902226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89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tching: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given two graph-like structures (e.g., concept hierarchies or ontologies), produce a mapping between the nodes of the graphs that semantically correspond to each other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325520" y="2673360"/>
            <a:ext cx="7354800" cy="2069280"/>
            <a:chOff x="1325520" y="2673360"/>
            <a:chExt cx="7354800" cy="2069280"/>
          </a:xfrm>
        </p:grpSpPr>
        <p:sp>
          <p:nvSpPr>
            <p:cNvPr id="126" name=""/>
            <p:cNvSpPr/>
            <p:nvPr/>
          </p:nvSpPr>
          <p:spPr>
            <a:xfrm>
              <a:off x="4575240" y="3081240"/>
              <a:ext cx="169920" cy="169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43360" y="2673360"/>
              <a:ext cx="168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85880" y="4101840"/>
              <a:ext cx="169920" cy="169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13560" y="4098960"/>
              <a:ext cx="169920" cy="169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27720" y="4282920"/>
              <a:ext cx="32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Semantic 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25520" y="4259160"/>
              <a:ext cx="315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ahoma"/>
                </a:rPr>
                <a:t>Syntactic Match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771640" y="3249360"/>
              <a:ext cx="1818000" cy="83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21400" y="3249360"/>
              <a:ext cx="1854000" cy="86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365120" y="4727520"/>
            <a:ext cx="2994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computed between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label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 = {x</a:t>
            </a: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[0,1]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475240" y="4726080"/>
            <a:ext cx="3333600" cy="1059840"/>
            <a:chOff x="5475240" y="4726080"/>
            <a:chExt cx="3333600" cy="1059840"/>
          </a:xfrm>
        </p:grpSpPr>
        <p:sp>
          <p:nvSpPr>
            <p:cNvPr id="136" name=""/>
            <p:cNvSpPr/>
            <p:nvPr/>
          </p:nvSpPr>
          <p:spPr>
            <a:xfrm>
              <a:off x="5475240" y="4726080"/>
              <a:ext cx="3333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8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Relations ar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computed between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 concept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 no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8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R = { </a:t>
              </a: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=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,     ,     , </a:t>
              </a:r>
              <a:r>
                <a:rPr b="1" lang="en-US" sz="1800" spc="-1" strike="noStrike">
                  <a:solidFill>
                    <a:srgbClr val="800000"/>
                  </a:solidFill>
                  <a:latin typeface="Symbol"/>
                  <a:ea typeface="Symbol"/>
                </a:rPr>
                <a:t></a:t>
              </a: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,    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526080" y="5543640"/>
              <a:ext cx="108000" cy="131760"/>
              <a:chOff x="6526080" y="5543640"/>
              <a:chExt cx="108000" cy="13176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6526080" y="5543640"/>
                <a:ext cx="107640" cy="103680"/>
                <a:chOff x="6526080" y="5543640"/>
                <a:chExt cx="107640" cy="1036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6528240" y="5647320"/>
                  <a:ext cx="10512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526080" y="5543640"/>
                  <a:ext cx="10728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633360" y="5543640"/>
                  <a:ext cx="360" cy="98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6526080" y="5675400"/>
                <a:ext cx="1080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6931080" y="5545440"/>
              <a:ext cx="109440" cy="131760"/>
              <a:chOff x="6931080" y="5545440"/>
              <a:chExt cx="109440" cy="1317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6931440" y="5545440"/>
                <a:ext cx="109080" cy="103680"/>
                <a:chOff x="6931440" y="5545440"/>
                <a:chExt cx="109080" cy="103680"/>
              </a:xfrm>
            </p:grpSpPr>
            <p:sp>
              <p:nvSpPr>
                <p:cNvPr id="145" name=""/>
                <p:cNvSpPr/>
                <p:nvPr/>
              </p:nvSpPr>
              <p:spPr>
                <a:xfrm flipH="1">
                  <a:off x="6931800" y="5545440"/>
                  <a:ext cx="1065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6931800" y="5649120"/>
                  <a:ext cx="10872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6931440" y="5550480"/>
                  <a:ext cx="360" cy="9864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" name=""/>
              <p:cNvSpPr/>
              <p:nvPr/>
            </p:nvSpPr>
            <p:spPr>
              <a:xfrm flipH="1">
                <a:off x="6931080" y="5677200"/>
                <a:ext cx="10944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602120" y="5547240"/>
              <a:ext cx="112680" cy="145800"/>
              <a:chOff x="7602120" y="5547240"/>
              <a:chExt cx="112680" cy="145800"/>
            </a:xfrm>
          </p:grpSpPr>
          <p:sp>
            <p:nvSpPr>
              <p:cNvPr id="150" name=""/>
              <p:cNvSpPr/>
              <p:nvPr/>
            </p:nvSpPr>
            <p:spPr>
              <a:xfrm flipV="1">
                <a:off x="7714800" y="5547960"/>
                <a:ext cx="0" cy="1422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7602120" y="5547960"/>
                <a:ext cx="0" cy="14508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7602840" y="5547240"/>
                <a:ext cx="106920" cy="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1206360" y="585468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previous systems are syntactic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95960" y="5840280"/>
            <a:ext cx="41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Note:</a:t>
            </a:r>
            <a:r>
              <a:rPr b="0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implementation CTXmatch [Bouquet e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. 200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6CF5-7DC4-4795-A1E4-25DB7E9E5E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42720" y="1498680"/>
            <a:ext cx="808956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7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pping element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is a 4-tuple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&lt;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ID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j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n</a:t>
            </a:r>
            <a:r>
              <a:rPr b="1" i="1" lang="en-US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n</a:t>
            </a:r>
            <a:r>
              <a:rPr b="1" i="1" lang="en-US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, R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&gt;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,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where 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31360" indent="-17712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777777"/>
                </a:solidFill>
                <a:latin typeface="Arial"/>
                <a:ea typeface="Times New Roman"/>
              </a:rPr>
              <a:t>ID</a:t>
            </a:r>
            <a:r>
              <a:rPr b="1" i="1" lang="en-US" sz="18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j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is a unique identifier of the given mapping element;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lvl="1" marL="531360" indent="-1771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n</a:t>
            </a:r>
            <a:r>
              <a:rPr b="1" i="1" lang="en-US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i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is the </a:t>
            </a:r>
            <a:r>
              <a:rPr b="1" i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i-th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node of the first graph;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31360" indent="-1771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n</a:t>
            </a:r>
            <a:r>
              <a:rPr b="1" i="1" lang="en-GB" sz="1600" spc="-1" strike="noStrike">
                <a:solidFill>
                  <a:srgbClr val="777777"/>
                </a:solidFill>
                <a:latin typeface="Arial"/>
                <a:ea typeface="Times New Roman"/>
              </a:rPr>
              <a:t>2</a:t>
            </a:r>
            <a:r>
              <a:rPr b="1" i="1" lang="en-US" sz="2000" spc="-1" strike="noStrike" baseline="-30000">
                <a:solidFill>
                  <a:srgbClr val="777777"/>
                </a:solidFill>
                <a:latin typeface="Arial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is the </a:t>
            </a:r>
            <a:r>
              <a:rPr b="1" i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j-th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node of the second graph;</a:t>
            </a:r>
            <a:r>
              <a:rPr b="1" lang="en-GB" sz="2000" spc="-1" strike="noStrike">
                <a:solidFill>
                  <a:srgbClr val="008484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31360" indent="-17712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77777"/>
                </a:solidFill>
                <a:latin typeface="Arial"/>
                <a:ea typeface="Times New Roman"/>
              </a:rPr>
              <a:t> </a:t>
            </a:r>
            <a:r>
              <a:rPr b="1" i="1" lang="en-GB" sz="1800" spc="-1" strike="noStrike">
                <a:solidFill>
                  <a:srgbClr val="777777"/>
                </a:solidFill>
                <a:latin typeface="Arial"/>
                <a:ea typeface="Times New Roman"/>
              </a:rPr>
              <a:t>R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specifies a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semantic relation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  <a:ea typeface="Times New Roman"/>
              </a:rPr>
              <a:t> between the concepts at the given nodes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5410080"/>
            <a:ext cx="821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Semantic Matching:</a:t>
            </a: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Given two graphs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1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2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for any node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find the strongest semantic relation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R’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holding with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node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69800" y="3629160"/>
            <a:ext cx="7683480" cy="1694520"/>
            <a:chOff x="469800" y="3629160"/>
            <a:chExt cx="7683480" cy="1694520"/>
          </a:xfrm>
        </p:grpSpPr>
        <p:sp>
          <p:nvSpPr>
            <p:cNvPr id="159" name=""/>
            <p:cNvSpPr/>
            <p:nvPr/>
          </p:nvSpPr>
          <p:spPr>
            <a:xfrm>
              <a:off x="469800" y="3629160"/>
              <a:ext cx="76834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mputed</a:t>
              </a:r>
              <a:r>
                <a:rPr b="1" lang="en-GB" sz="1800" spc="-1" strike="noStrike">
                  <a:solidFill>
                    <a:srgbClr val="008484"/>
                  </a:solidFill>
                  <a:latin typeface="Arial"/>
                </a:rPr>
                <a:t> </a:t>
              </a:r>
              <a:r>
                <a:rPr b="1" i="1" lang="en-GB" sz="1800" spc="-1" strike="noStrike">
                  <a:solidFill>
                    <a:srgbClr val="777777"/>
                  </a:solidFill>
                  <a:latin typeface="Arial"/>
                </a:rPr>
                <a:t>R’s</a:t>
              </a:r>
              <a:r>
                <a:rPr b="1" lang="en-GB" sz="1800" spc="-1" strike="noStrike">
                  <a:solidFill>
                    <a:srgbClr val="008484"/>
                  </a:solidFill>
                  <a:latin typeface="Arial"/>
                </a:rPr>
                <a:t>, listed in the decreasing binding strength orde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equivalence { = 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more general/specific {    ,     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mismatch { </a:t>
              </a:r>
              <a:r>
                <a:rPr b="1" lang="en-GB" sz="1800" spc="-1" strike="noStrike">
                  <a:solidFill>
                    <a:srgbClr val="777777"/>
                  </a:solidFill>
                  <a:latin typeface="Symbol"/>
                  <a:ea typeface="Symbol"/>
                </a:rPr>
                <a:t>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overlapping {     }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3931920" y="4438440"/>
              <a:ext cx="1533600" cy="796320"/>
              <a:chOff x="3931920" y="4438440"/>
              <a:chExt cx="1533600" cy="79632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4964040" y="4438440"/>
                <a:ext cx="108000" cy="131760"/>
                <a:chOff x="4964040" y="4438440"/>
                <a:chExt cx="108000" cy="13176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4964040" y="4438440"/>
                  <a:ext cx="107640" cy="103320"/>
                  <a:chOff x="4964040" y="4438440"/>
                  <a:chExt cx="107640" cy="10332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4966200" y="4541760"/>
                    <a:ext cx="105120" cy="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4964040" y="4438440"/>
                    <a:ext cx="107280" cy="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5071320" y="4438800"/>
                    <a:ext cx="360" cy="9828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>
                  <a:off x="4964040" y="4570200"/>
                  <a:ext cx="108000" cy="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5355720" y="4440240"/>
                <a:ext cx="109800" cy="131400"/>
                <a:chOff x="5355720" y="4440240"/>
                <a:chExt cx="109800" cy="1314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5356080" y="4440240"/>
                  <a:ext cx="109440" cy="103320"/>
                  <a:chOff x="5356080" y="4440240"/>
                  <a:chExt cx="109440" cy="10332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flipH="1">
                    <a:off x="5356440" y="4440240"/>
                    <a:ext cx="106920" cy="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>
                    <a:off x="5356440" y="4543560"/>
                    <a:ext cx="109080" cy="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flipV="1">
                    <a:off x="5356080" y="4444920"/>
                    <a:ext cx="360" cy="98280"/>
                  </a:xfrm>
                  <a:prstGeom prst="line">
                    <a:avLst/>
                  </a:prstGeom>
                  <a:ln w="190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 flipH="1">
                  <a:off x="5355720" y="4571640"/>
                  <a:ext cx="109800" cy="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3931920" y="5089320"/>
                <a:ext cx="112680" cy="145440"/>
                <a:chOff x="3931920" y="5089320"/>
                <a:chExt cx="112680" cy="145440"/>
              </a:xfrm>
            </p:grpSpPr>
            <p:sp>
              <p:nvSpPr>
                <p:cNvPr id="174" name=""/>
                <p:cNvSpPr/>
                <p:nvPr/>
              </p:nvSpPr>
              <p:spPr>
                <a:xfrm flipV="1">
                  <a:off x="4044600" y="5090040"/>
                  <a:ext cx="0" cy="14184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3931920" y="5090040"/>
                  <a:ext cx="0" cy="14472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3932640" y="5089320"/>
                  <a:ext cx="106920" cy="72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7F0C-24EC-4EBF-9473-B752F1E431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xample: Two simple concept hierarchie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347840" y="1608120"/>
            <a:ext cx="7593120" cy="2935800"/>
            <a:chOff x="1347840" y="1608120"/>
            <a:chExt cx="7593120" cy="2935800"/>
          </a:xfrm>
        </p:grpSpPr>
        <p:grpSp>
          <p:nvGrpSpPr>
            <p:cNvPr id="179" name=""/>
            <p:cNvGrpSpPr/>
            <p:nvPr/>
          </p:nvGrpSpPr>
          <p:grpSpPr>
            <a:xfrm>
              <a:off x="1347840" y="1608120"/>
              <a:ext cx="2195640" cy="2935800"/>
              <a:chOff x="1347840" y="1608120"/>
              <a:chExt cx="2195640" cy="2935800"/>
            </a:xfrm>
          </p:grpSpPr>
          <p:sp>
            <p:nvSpPr>
              <p:cNvPr id="180" name=""/>
              <p:cNvSpPr/>
              <p:nvPr/>
            </p:nvSpPr>
            <p:spPr>
              <a:xfrm>
                <a:off x="1641600" y="160812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Imag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698840" y="2840040"/>
                <a:ext cx="134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2" name=""/>
              <p:cNvCxnSpPr>
                <a:stCxn id="180" idx="2"/>
                <a:endCxn id="181" idx="0"/>
              </p:cNvCxnSpPr>
              <p:nvPr/>
            </p:nvCxnSpPr>
            <p:spPr>
              <a:xfrm flipH="1">
                <a:off x="2372760" y="2004840"/>
                <a:ext cx="2520" cy="8355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83" name=""/>
              <p:cNvSpPr/>
              <p:nvPr/>
            </p:nvSpPr>
            <p:spPr>
              <a:xfrm>
                <a:off x="2581560" y="412920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Ital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347840" y="4145040"/>
                <a:ext cx="1204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ustr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85" name=""/>
              <p:cNvCxnSpPr>
                <a:stCxn id="181" idx="2"/>
                <a:endCxn id="183" idx="0"/>
              </p:cNvCxnSpPr>
              <p:nvPr/>
            </p:nvCxnSpPr>
            <p:spPr>
              <a:xfrm>
                <a:off x="2373480" y="3237120"/>
                <a:ext cx="689760" cy="8928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  <p:cxnSp>
            <p:nvCxnSpPr>
              <p:cNvPr id="186" name=""/>
              <p:cNvCxnSpPr>
                <a:stCxn id="181" idx="2"/>
                <a:endCxn id="184" idx="0"/>
              </p:cNvCxnSpPr>
              <p:nvPr/>
            </p:nvCxnSpPr>
            <p:spPr>
              <a:xfrm flipH="1">
                <a:off x="1950480" y="3237120"/>
                <a:ext cx="423000" cy="9086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</p:cxnSp>
        </p:grpSp>
        <p:grpSp>
          <p:nvGrpSpPr>
            <p:cNvPr id="187" name=""/>
            <p:cNvGrpSpPr/>
            <p:nvPr/>
          </p:nvGrpSpPr>
          <p:grpSpPr>
            <a:xfrm>
              <a:off x="4807080" y="1709640"/>
              <a:ext cx="4133880" cy="2811600"/>
              <a:chOff x="4807080" y="1709640"/>
              <a:chExt cx="4133880" cy="2811600"/>
            </a:xfrm>
          </p:grpSpPr>
          <p:sp>
            <p:nvSpPr>
              <p:cNvPr id="188" name=""/>
              <p:cNvSpPr/>
              <p:nvPr/>
            </p:nvSpPr>
            <p:spPr>
              <a:xfrm>
                <a:off x="4822920" y="4122360"/>
                <a:ext cx="1959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Italy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669280" y="1709640"/>
                <a:ext cx="184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Euro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0" name=""/>
              <p:cNvCxnSpPr>
                <a:stCxn id="191" idx="2"/>
              </p:cNvCxnSpPr>
              <p:nvPr/>
            </p:nvCxnSpPr>
            <p:spPr>
              <a:xfrm>
                <a:off x="5689440" y="3287520"/>
                <a:ext cx="11880" cy="8352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92" name=""/>
              <p:cNvCxnSpPr>
                <a:stCxn id="189" idx="2"/>
              </p:cNvCxnSpPr>
              <p:nvPr/>
            </p:nvCxnSpPr>
            <p:spPr>
              <a:xfrm>
                <a:off x="6594480" y="2106000"/>
                <a:ext cx="1130760" cy="7923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93" name=""/>
              <p:cNvSpPr/>
              <p:nvPr/>
            </p:nvSpPr>
            <p:spPr>
              <a:xfrm>
                <a:off x="6456600" y="2911320"/>
                <a:ext cx="2484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Wine and Chee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915240" y="4119120"/>
                <a:ext cx="177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ustr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5" name=""/>
              <p:cNvCxnSpPr>
                <a:stCxn id="193" idx="2"/>
              </p:cNvCxnSpPr>
              <p:nvPr/>
            </p:nvCxnSpPr>
            <p:spPr>
              <a:xfrm>
                <a:off x="7699680" y="3308040"/>
                <a:ext cx="18000" cy="7862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91" name=""/>
              <p:cNvSpPr/>
              <p:nvPr/>
            </p:nvSpPr>
            <p:spPr>
              <a:xfrm>
                <a:off x="4807080" y="2890440"/>
                <a:ext cx="176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  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Pictu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6" name=""/>
              <p:cNvCxnSpPr>
                <a:stCxn id="189" idx="2"/>
              </p:cNvCxnSpPr>
              <p:nvPr/>
            </p:nvCxnSpPr>
            <p:spPr>
              <a:xfrm flipH="1">
                <a:off x="5727600" y="2106000"/>
                <a:ext cx="867600" cy="7592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97" name=""/>
          <p:cNvGrpSpPr/>
          <p:nvPr/>
        </p:nvGrpSpPr>
        <p:grpSpPr>
          <a:xfrm>
            <a:off x="1523880" y="2870280"/>
            <a:ext cx="4953240" cy="466200"/>
            <a:chOff x="1523880" y="2870280"/>
            <a:chExt cx="4953240" cy="466200"/>
          </a:xfrm>
        </p:grpSpPr>
        <p:sp>
          <p:nvSpPr>
            <p:cNvPr id="198" name=""/>
            <p:cNvSpPr/>
            <p:nvPr/>
          </p:nvSpPr>
          <p:spPr>
            <a:xfrm>
              <a:off x="1523880" y="2883600"/>
              <a:ext cx="1689120" cy="37080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40280" y="2911320"/>
              <a:ext cx="1536840" cy="38376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76720" y="3130920"/>
              <a:ext cx="1612800" cy="205560"/>
            </a:xfrm>
            <a:custGeom>
              <a:avLst/>
              <a:gdLst/>
              <a:ahLst/>
              <a:rect l="l" t="t" r="r" b="b"/>
              <a:pathLst>
                <a:path w="1016" h="120">
                  <a:moveTo>
                    <a:pt x="0" y="0"/>
                  </a:moveTo>
                  <a:cubicBezTo>
                    <a:pt x="85" y="19"/>
                    <a:pt x="343" y="120"/>
                    <a:pt x="512" y="120"/>
                  </a:cubicBezTo>
                  <a:cubicBezTo>
                    <a:pt x="681" y="120"/>
                    <a:pt x="911" y="25"/>
                    <a:pt x="1016" y="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24360" y="2870280"/>
              <a:ext cx="50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434960" y="2844720"/>
            <a:ext cx="3378240" cy="2260080"/>
            <a:chOff x="1434960" y="2844720"/>
            <a:chExt cx="3378240" cy="2260080"/>
          </a:xfrm>
        </p:grpSpPr>
        <p:sp>
          <p:nvSpPr>
            <p:cNvPr id="203" name=""/>
            <p:cNvSpPr/>
            <p:nvPr/>
          </p:nvSpPr>
          <p:spPr>
            <a:xfrm>
              <a:off x="1434960" y="4699080"/>
              <a:ext cx="3378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&lt; </a:t>
              </a: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ID</a:t>
              </a:r>
              <a:r>
                <a:rPr b="1" i="1" lang="en-US" sz="1800" spc="-1" strike="noStrike" baseline="-25000">
                  <a:solidFill>
                    <a:srgbClr val="808080"/>
                  </a:solidFill>
                  <a:latin typeface="Arial"/>
                </a:rPr>
                <a:t>22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, </a:t>
              </a: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Europe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, </a:t>
              </a: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Pictures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, = &gt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98800" y="2844720"/>
              <a:ext cx="444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517760" y="1727280"/>
            <a:ext cx="5886360" cy="1523880"/>
            <a:chOff x="1517760" y="1727280"/>
            <a:chExt cx="5886360" cy="1523880"/>
          </a:xfrm>
        </p:grpSpPr>
        <p:sp>
          <p:nvSpPr>
            <p:cNvPr id="206" name=""/>
            <p:cNvSpPr/>
            <p:nvPr/>
          </p:nvSpPr>
          <p:spPr>
            <a:xfrm>
              <a:off x="5753160" y="1727280"/>
              <a:ext cx="1650960" cy="36828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17760" y="2882880"/>
              <a:ext cx="1695240" cy="36828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63760" y="2019240"/>
              <a:ext cx="2502000" cy="965160"/>
            </a:xfrm>
            <a:custGeom>
              <a:avLst/>
              <a:gdLst/>
              <a:ahLst/>
              <a:rect l="l" t="t" r="r" b="b"/>
              <a:pathLst>
                <a:path w="1576" h="608">
                  <a:moveTo>
                    <a:pt x="0" y="608"/>
                  </a:moveTo>
                  <a:cubicBezTo>
                    <a:pt x="104" y="537"/>
                    <a:pt x="361" y="285"/>
                    <a:pt x="624" y="184"/>
                  </a:cubicBezTo>
                  <a:cubicBezTo>
                    <a:pt x="887" y="83"/>
                    <a:pt x="1378" y="38"/>
                    <a:pt x="1576" y="0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86200" y="1854360"/>
              <a:ext cx="4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517760" y="2882880"/>
            <a:ext cx="4997520" cy="1650960"/>
            <a:chOff x="1517760" y="2882880"/>
            <a:chExt cx="4997520" cy="1650960"/>
          </a:xfrm>
        </p:grpSpPr>
        <p:sp>
          <p:nvSpPr>
            <p:cNvPr id="211" name=""/>
            <p:cNvSpPr/>
            <p:nvPr/>
          </p:nvSpPr>
          <p:spPr>
            <a:xfrm>
              <a:off x="5003640" y="4152960"/>
              <a:ext cx="1511640" cy="38088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17760" y="2882880"/>
              <a:ext cx="1695240" cy="368280"/>
            </a:xfrm>
            <a:prstGeom prst="ellipse">
              <a:avLst/>
            </a:prstGeom>
            <a:noFill/>
            <a:ln w="2844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74840" y="3263760"/>
              <a:ext cx="1740240" cy="1113120"/>
            </a:xfrm>
            <a:custGeom>
              <a:avLst/>
              <a:gdLst/>
              <a:ahLst/>
              <a:rect l="l" t="t" r="r" b="b"/>
              <a:pathLst>
                <a:path w="1112" h="677">
                  <a:moveTo>
                    <a:pt x="0" y="0"/>
                  </a:moveTo>
                  <a:cubicBezTo>
                    <a:pt x="77" y="95"/>
                    <a:pt x="279" y="459"/>
                    <a:pt x="464" y="568"/>
                  </a:cubicBezTo>
                  <a:cubicBezTo>
                    <a:pt x="649" y="677"/>
                    <a:pt x="977" y="638"/>
                    <a:pt x="1112" y="656"/>
                  </a:cubicBezTo>
                </a:path>
              </a:pathLst>
            </a:custGeom>
            <a:noFill/>
            <a:ln w="28440">
              <a:solidFill>
                <a:srgbClr val="800000"/>
              </a:solidFill>
              <a:round/>
              <a:headEnd len="lg" type="stealth" w="sm"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11760" y="3822840"/>
              <a:ext cx="5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940280" y="4800600"/>
            <a:ext cx="3809880" cy="1270080"/>
            <a:chOff x="4940280" y="4800600"/>
            <a:chExt cx="3809880" cy="1270080"/>
          </a:xfrm>
        </p:grpSpPr>
        <p:sp>
          <p:nvSpPr>
            <p:cNvPr id="216" name=""/>
            <p:cNvSpPr/>
            <p:nvPr/>
          </p:nvSpPr>
          <p:spPr>
            <a:xfrm>
              <a:off x="4952880" y="4800600"/>
              <a:ext cx="0" cy="1270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72280" y="5232240"/>
              <a:ext cx="337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&lt; </a:t>
              </a: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ID</a:t>
              </a:r>
              <a:r>
                <a:rPr b="1" i="1" lang="en-US" sz="1800" spc="-1" strike="noStrike" baseline="-25000">
                  <a:solidFill>
                    <a:srgbClr val="808080"/>
                  </a:solidFill>
                  <a:latin typeface="Arial"/>
                </a:rPr>
                <a:t>22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, </a:t>
              </a: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Europe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, </a:t>
              </a:r>
              <a:r>
                <a:rPr b="1" i="1" lang="en-US" sz="1800" spc="-1" strike="noStrike">
                  <a:solidFill>
                    <a:srgbClr val="808080"/>
                  </a:solidFill>
                  <a:latin typeface="Arial"/>
                </a:rPr>
                <a:t>Pictures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, = 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40280" y="5168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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460520" y="1790640"/>
            <a:ext cx="3505320" cy="3834720"/>
            <a:chOff x="1460520" y="1790640"/>
            <a:chExt cx="3505320" cy="3834720"/>
          </a:xfrm>
        </p:grpSpPr>
        <p:grpSp>
          <p:nvGrpSpPr>
            <p:cNvPr id="220" name=""/>
            <p:cNvGrpSpPr/>
            <p:nvPr/>
          </p:nvGrpSpPr>
          <p:grpSpPr>
            <a:xfrm>
              <a:off x="1460520" y="1790640"/>
              <a:ext cx="3505320" cy="3834720"/>
              <a:chOff x="1460520" y="1790640"/>
              <a:chExt cx="3505320" cy="3834720"/>
            </a:xfrm>
          </p:grpSpPr>
          <p:sp>
            <p:nvSpPr>
              <p:cNvPr id="221" name=""/>
              <p:cNvSpPr/>
              <p:nvPr/>
            </p:nvSpPr>
            <p:spPr>
              <a:xfrm>
                <a:off x="1460520" y="5219640"/>
                <a:ext cx="35053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8080"/>
                    </a:solidFill>
                    <a:latin typeface="Arial"/>
                  </a:rPr>
                  <a:t>&lt; </a:t>
                </a:r>
                <a:r>
                  <a:rPr b="1" i="1" lang="en-US" sz="1800" spc="-1" strike="noStrike">
                    <a:solidFill>
                      <a:srgbClr val="808080"/>
                    </a:solidFill>
                    <a:latin typeface="Arial"/>
                  </a:rPr>
                  <a:t>ID</a:t>
                </a:r>
                <a:r>
                  <a:rPr b="1" i="1" lang="en-US" sz="1800" spc="-1" strike="noStrike" baseline="-25000">
                    <a:solidFill>
                      <a:srgbClr val="808080"/>
                    </a:solidFill>
                    <a:latin typeface="Arial"/>
                  </a:rPr>
                  <a:t>21</a:t>
                </a:r>
                <a:r>
                  <a:rPr b="0" lang="en-US" sz="1800" spc="-1" strike="noStrike">
                    <a:solidFill>
                      <a:srgbClr val="808080"/>
                    </a:solidFill>
                    <a:latin typeface="Arial"/>
                  </a:rPr>
                  <a:t>, </a:t>
                </a:r>
                <a:r>
                  <a:rPr b="1" i="1" lang="en-US" sz="1800" spc="-1" strike="noStrike">
                    <a:solidFill>
                      <a:srgbClr val="808080"/>
                    </a:solidFill>
                    <a:latin typeface="Arial"/>
                  </a:rPr>
                  <a:t>Europe</a:t>
                </a:r>
                <a:r>
                  <a:rPr b="0" lang="en-US" sz="1800" spc="-1" strike="noStrike">
                    <a:solidFill>
                      <a:srgbClr val="808080"/>
                    </a:solidFill>
                    <a:latin typeface="Arial"/>
                  </a:rPr>
                  <a:t>, </a:t>
                </a:r>
                <a:r>
                  <a:rPr b="1" i="1" lang="en-US" sz="1800" spc="-1" strike="noStrike">
                    <a:solidFill>
                      <a:srgbClr val="808080"/>
                    </a:solidFill>
                    <a:latin typeface="Arial"/>
                  </a:rPr>
                  <a:t>Europe</a:t>
                </a:r>
                <a:r>
                  <a:rPr b="0" lang="en-US" sz="1800" spc="-1" strike="noStrike">
                    <a:solidFill>
                      <a:srgbClr val="808080"/>
                    </a:solidFill>
                    <a:latin typeface="Arial"/>
                  </a:rPr>
                  <a:t>,     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48040" y="1790640"/>
                <a:ext cx="5335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4047840" y="1989000"/>
              <a:ext cx="135000" cy="156960"/>
              <a:chOff x="4047840" y="1989000"/>
              <a:chExt cx="135000" cy="15696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4047840" y="1989000"/>
                <a:ext cx="135000" cy="123840"/>
                <a:chOff x="4047840" y="1989000"/>
                <a:chExt cx="135000" cy="123840"/>
              </a:xfrm>
            </p:grpSpPr>
            <p:sp>
              <p:nvSpPr>
                <p:cNvPr id="225" name=""/>
                <p:cNvSpPr/>
                <p:nvPr/>
              </p:nvSpPr>
              <p:spPr>
                <a:xfrm flipH="1">
                  <a:off x="4048920" y="1989000"/>
                  <a:ext cx="13140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4048560" y="2112840"/>
                  <a:ext cx="13428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 flipV="1">
                  <a:off x="4047840" y="1994760"/>
                  <a:ext cx="72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 flipH="1">
                <a:off x="4047840" y="2145960"/>
                <a:ext cx="1350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149360" y="5329080"/>
              <a:ext cx="135000" cy="156960"/>
              <a:chOff x="4149360" y="5329080"/>
              <a:chExt cx="135000" cy="1569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4149360" y="5329080"/>
                <a:ext cx="135000" cy="123840"/>
                <a:chOff x="4149360" y="5329080"/>
                <a:chExt cx="135000" cy="123840"/>
              </a:xfrm>
            </p:grpSpPr>
            <p:sp>
              <p:nvSpPr>
                <p:cNvPr id="231" name=""/>
                <p:cNvSpPr/>
                <p:nvPr/>
              </p:nvSpPr>
              <p:spPr>
                <a:xfrm flipH="1">
                  <a:off x="4150440" y="5329080"/>
                  <a:ext cx="131400" cy="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>
                  <a:off x="4150080" y="5452920"/>
                  <a:ext cx="134280" cy="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 flipV="1">
                  <a:off x="4149360" y="5334840"/>
                  <a:ext cx="720" cy="11772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 flipH="1">
                <a:off x="4149360" y="5486040"/>
                <a:ext cx="135000" cy="0"/>
              </a:xfrm>
              <a:prstGeom prst="line">
                <a:avLst/>
              </a:prstGeom>
              <a:ln w="190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1460520" y="3720960"/>
            <a:ext cx="3352680" cy="2412360"/>
            <a:chOff x="1460520" y="3720960"/>
            <a:chExt cx="3352680" cy="2412360"/>
          </a:xfrm>
        </p:grpSpPr>
        <p:grpSp>
          <p:nvGrpSpPr>
            <p:cNvPr id="236" name=""/>
            <p:cNvGrpSpPr/>
            <p:nvPr/>
          </p:nvGrpSpPr>
          <p:grpSpPr>
            <a:xfrm>
              <a:off x="1460520" y="3720960"/>
              <a:ext cx="3352680" cy="2412360"/>
              <a:chOff x="1460520" y="3720960"/>
              <a:chExt cx="3352680" cy="2412360"/>
            </a:xfrm>
          </p:grpSpPr>
          <p:sp>
            <p:nvSpPr>
              <p:cNvPr id="237" name=""/>
              <p:cNvSpPr/>
              <p:nvPr/>
            </p:nvSpPr>
            <p:spPr>
              <a:xfrm>
                <a:off x="1460520" y="5727600"/>
                <a:ext cx="33526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8080"/>
                    </a:solidFill>
                    <a:latin typeface="Arial"/>
                  </a:rPr>
                  <a:t>&lt; </a:t>
                </a:r>
                <a:r>
                  <a:rPr b="1" i="1" lang="en-US" sz="1800" spc="-1" strike="noStrike">
                    <a:solidFill>
                      <a:srgbClr val="808080"/>
                    </a:solidFill>
                    <a:latin typeface="Arial"/>
                  </a:rPr>
                  <a:t>ID</a:t>
                </a:r>
                <a:r>
                  <a:rPr b="1" i="1" lang="en-US" sz="1800" spc="-1" strike="noStrike" baseline="-25000">
                    <a:solidFill>
                      <a:srgbClr val="808080"/>
                    </a:solidFill>
                    <a:latin typeface="Arial"/>
                  </a:rPr>
                  <a:t>24</a:t>
                </a:r>
                <a:r>
                  <a:rPr b="0" lang="en-US" sz="1800" spc="-1" strike="noStrike">
                    <a:solidFill>
                      <a:srgbClr val="808080"/>
                    </a:solidFill>
                    <a:latin typeface="Arial"/>
                  </a:rPr>
                  <a:t>, </a:t>
                </a:r>
                <a:r>
                  <a:rPr b="1" i="1" lang="en-US" sz="1800" spc="-1" strike="noStrike">
                    <a:solidFill>
                      <a:srgbClr val="808080"/>
                    </a:solidFill>
                    <a:latin typeface="Arial"/>
                  </a:rPr>
                  <a:t>Europe</a:t>
                </a:r>
                <a:r>
                  <a:rPr b="0" lang="en-US" sz="1800" spc="-1" strike="noStrike">
                    <a:solidFill>
                      <a:srgbClr val="808080"/>
                    </a:solidFill>
                    <a:latin typeface="Arial"/>
                  </a:rPr>
                  <a:t>, </a:t>
                </a:r>
                <a:r>
                  <a:rPr b="1" i="1" lang="en-US" sz="1800" spc="-1" strike="noStrike">
                    <a:solidFill>
                      <a:srgbClr val="808080"/>
                    </a:solidFill>
                    <a:latin typeface="Arial"/>
                  </a:rPr>
                  <a:t>Italy</a:t>
                </a:r>
                <a:r>
                  <a:rPr b="0" lang="en-US" sz="1800" spc="-1" strike="noStrike">
                    <a:solidFill>
                      <a:srgbClr val="808080"/>
                    </a:solidFill>
                    <a:latin typeface="Arial"/>
                  </a:rPr>
                  <a:t>,    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73600" y="3720960"/>
                <a:ext cx="5713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770280" y="5848200"/>
              <a:ext cx="120600" cy="157320"/>
              <a:chOff x="3770280" y="5848200"/>
              <a:chExt cx="120600" cy="15732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3770280" y="5848200"/>
                <a:ext cx="120600" cy="123840"/>
                <a:chOff x="3770280" y="5848200"/>
                <a:chExt cx="120600" cy="1238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3772440" y="5972040"/>
                  <a:ext cx="117360" cy="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770280" y="5848200"/>
                  <a:ext cx="119880" cy="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890160" y="5848560"/>
                  <a:ext cx="720" cy="117720"/>
                </a:xfrm>
                <a:prstGeom prst="line">
                  <a:avLst/>
                </a:prstGeom>
                <a:ln w="190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3770280" y="6005520"/>
                <a:ext cx="120600" cy="0"/>
              </a:xfrm>
              <a:prstGeom prst="line">
                <a:avLst/>
              </a:prstGeom>
              <a:ln w="190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3998880" y="3956040"/>
              <a:ext cx="120600" cy="157320"/>
              <a:chOff x="3998880" y="3956040"/>
              <a:chExt cx="120600" cy="15732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3998880" y="3956040"/>
                <a:ext cx="120600" cy="123840"/>
                <a:chOff x="3998880" y="3956040"/>
                <a:chExt cx="120600" cy="1238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001040" y="4079880"/>
                  <a:ext cx="11736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998880" y="3956040"/>
                  <a:ext cx="119880" cy="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118760" y="3956400"/>
                  <a:ext cx="720" cy="1177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3998880" y="4113360"/>
                <a:ext cx="120600" cy="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">
            <a:hlinkClick r:id="rId1" action="ppaction://hlinksldjump"/>
          </p:cNvPr>
          <p:cNvSpPr/>
          <p:nvPr/>
        </p:nvSpPr>
        <p:spPr>
          <a:xfrm>
            <a:off x="0" y="5589720"/>
            <a:ext cx="9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p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0" y="5272200"/>
            <a:ext cx="7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8768-46B0-4668-96A4-7F925E3B62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358640" y="3047760"/>
            <a:ext cx="718812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The S-Match Algorithm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371240" y="951480"/>
            <a:ext cx="71629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9AA4-E991-4320-8823-360BCF98AE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79884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labels in T1 and T2 compute </a:t>
            </a:r>
            <a:r>
              <a:rPr b="1" i="1" lang="it-IT" sz="20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nodes in T1 and T2 compute </a:t>
            </a:r>
            <a:r>
              <a:rPr b="1" i="1" lang="it-IT" sz="2000" spc="-1" strike="noStrike">
                <a:solidFill>
                  <a:srgbClr val="800000"/>
                </a:solidFill>
                <a:latin typeface="Arial"/>
              </a:rPr>
              <a:t>concepts at node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pairs of labels in T1 and T2 compute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relations between concepts at label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pairs of nodes in T1 and T2 compute 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relations between concepts at node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484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Steps 1 and 2 constitute the preprocessing phase, and are executed once and each time after the schema/ontology is changed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OFF- LINE part)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Steps 3 and 4 constitute the matching phase, and are executed every time the two schemas/ontologies are to be matched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ON - LINE part)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371600" y="990720"/>
            <a:ext cx="7175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our Macro Steps</a:t>
            </a:r>
            <a:endParaRPr b="1" lang="en-US" sz="2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444600" y="1766880"/>
            <a:ext cx="54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iven two labeled trees T1 and T2, 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9100-6B3C-4C0B-8A09-E314866065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94920" y="1003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Step 1: compute 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93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dea: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Translate natural language expressions into internal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formal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language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Compute concepts based on possible </a:t>
            </a:r>
            <a:r>
              <a:rPr b="1" i="1" lang="en-US" sz="1600" spc="-1" strike="noStrike">
                <a:solidFill>
                  <a:srgbClr val="008484"/>
                </a:solidFill>
                <a:latin typeface="Arial"/>
              </a:rPr>
              <a:t>senses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of words in a label and their interrelations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rocessing: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Tokenization.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Labels (according to punctuation, spaces, etc.) are parsed into tokens. E.g.,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Wine and Cheese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&lt;Wine, and, Cheese&gt;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emmatization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. Tokens are morphologically analyzed in order to find all their possible basic forms. E.g.,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Images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Image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Building atomic concepts.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 An oracle (WordNet) is used to extract senses of lemmatized tokens. E.g.,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Image has 8 senses, 7 as a noun and 1 as a verb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Building complex concepts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. Prepositions, conjunctions, etc. are translated into logical connectives and used to build complex concepts</a:t>
            </a:r>
            <a:br>
              <a:rPr sz="1600"/>
            </a:b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out of the atomic concepts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8484"/>
                </a:solidFill>
                <a:latin typeface="Arial"/>
                <a:ea typeface="Arial"/>
              </a:rPr>
              <a:t>E.g.,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C</a:t>
            </a:r>
            <a:r>
              <a:rPr b="0" i="1" lang="en-US" sz="1600" spc="-1" strike="noStrike" baseline="-25000">
                <a:solidFill>
                  <a:srgbClr val="000099"/>
                </a:solidFill>
                <a:latin typeface="Arial"/>
                <a:ea typeface="Arial"/>
              </a:rPr>
              <a:t>Wine and Cheese</a:t>
            </a:r>
            <a:r>
              <a:rPr b="0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 = 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&lt;Wine, U(WN</a:t>
            </a:r>
            <a:r>
              <a:rPr b="1" lang="en-US" sz="1600" spc="-1" strike="noStrike" baseline="-25000">
                <a:solidFill>
                  <a:srgbClr val="777777"/>
                </a:solidFill>
                <a:latin typeface="Arial"/>
                <a:ea typeface="Arial"/>
              </a:rPr>
              <a:t>Wine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)&gt;     &lt;Cheese, U(WN</a:t>
            </a:r>
            <a:r>
              <a:rPr b="1" lang="en-US" sz="1600" spc="-1" strike="noStrike" baseline="-25000">
                <a:solidFill>
                  <a:srgbClr val="777777"/>
                </a:solidFill>
                <a:latin typeface="Arial"/>
                <a:ea typeface="Arial"/>
              </a:rPr>
              <a:t>Cheese</a:t>
            </a:r>
            <a:r>
              <a:rPr b="1" lang="en-US" sz="1600" spc="-1" strike="noStrike">
                <a:solidFill>
                  <a:srgbClr val="777777"/>
                </a:solidFill>
                <a:latin typeface="Arial"/>
                <a:ea typeface="Arial"/>
              </a:rPr>
              <a:t>)&gt;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968360" y="5537160"/>
            <a:ext cx="176760" cy="187560"/>
            <a:chOff x="4968360" y="5537160"/>
            <a:chExt cx="176760" cy="187560"/>
          </a:xfrm>
        </p:grpSpPr>
        <p:sp>
          <p:nvSpPr>
            <p:cNvPr id="261" name=""/>
            <p:cNvSpPr/>
            <p:nvPr/>
          </p:nvSpPr>
          <p:spPr>
            <a:xfrm flipV="1">
              <a:off x="5145120" y="5537160"/>
              <a:ext cx="0" cy="1843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4968720" y="5537160"/>
              <a:ext cx="0" cy="1843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1" idx="0"/>
              <a:endCxn id="262" idx="0"/>
            </p:cNvCxnSpPr>
            <p:nvPr/>
          </p:nvCxnSpPr>
          <p:spPr>
            <a:xfrm flipH="1" flipV="1">
              <a:off x="4968360" y="5724000"/>
              <a:ext cx="177120" cy="1080"/>
            </a:xfrm>
            <a:prstGeom prst="straightConnector1">
              <a:avLst/>
            </a:prstGeom>
            <a:ln w="25560">
              <a:solidFill>
                <a:srgbClr val="80808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CFA9-82AD-4BF8-B272-B7CBC6AD72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0:33:46Z</dcterms:created>
  <dc:creator>Pavel Shvaiko</dc:creator>
  <dc:description/>
  <dc:language>en-US</dc:language>
  <cp:lastModifiedBy>server 9</cp:lastModifiedBy>
  <dcterms:modified xsi:type="dcterms:W3CDTF">2004-05-03T09:15:26Z</dcterms:modified>
  <cp:revision>636</cp:revision>
  <dc:subject/>
  <dc:title>S-Match ESWS</dc:title>
</cp:coreProperties>
</file>