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9AA6-DCD3-4E50-90E0-95B869FD6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DE19-5953-4A52-B1B8-7C6ACACF3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031F-37DC-43BC-B5D0-DF18F0BF0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0870-23DF-4D0D-8D23-D39CC6E32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3AB0-04B7-42C7-A43D-7AD77178D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2561-7FB3-4D34-AFAC-1F98D4AC4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63BA-7659-4569-A1E0-5ED3EC4D6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94E2-AF94-4A1A-AFF9-0BC20FE3C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F6F3-465C-407B-9653-7B0F38B21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DA25-FEA0-45FF-926C-27B90C920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00AA-D840-4D3F-9D73-9A7E08D01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CD8B-4F3A-4942-B96D-184429BE0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E2D-8E97-4FCA-8E35-C92065DFA978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34960" y="6521400"/>
            <a:ext cx="7150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ESWC, June 1, 2005, Crete, G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6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60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it.unitn.it/~accord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w.stanford.ed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5880" y="1444320"/>
            <a:ext cx="799956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Web Explanations for </a:t>
            </a: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Semantic Heterogeneity Discovery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2480" y="3514680"/>
            <a:ext cx="42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5160" y="5530680"/>
            <a:ext cx="5614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484"/>
                </a:solidFill>
                <a:latin typeface="Arial"/>
              </a:rPr>
              <a:t>2</a:t>
            </a:r>
            <a:r>
              <a:rPr b="0" lang="it-IT" sz="1800" spc="-1" strike="noStrike" baseline="30000">
                <a:solidFill>
                  <a:srgbClr val="008484"/>
                </a:solidFill>
                <a:latin typeface="Arial"/>
              </a:rPr>
              <a:t>nd</a:t>
            </a:r>
            <a:r>
              <a:rPr b="0" lang="it-IT" sz="1800" spc="-1" strike="noStrike">
                <a:solidFill>
                  <a:srgbClr val="008484"/>
                </a:solidFill>
                <a:latin typeface="Arial"/>
              </a:rPr>
              <a:t> European Semantic Web Conference (ESWC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484"/>
                </a:solidFill>
                <a:latin typeface="Arial"/>
              </a:rPr>
              <a:t>1 June 2005, Crete, Gre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987720"/>
            <a:ext cx="69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work in collaboration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Fausto Giunchiglia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ulo Pinheiro da Silva</a:t>
            </a:r>
            <a:r>
              <a:rPr b="0" lang="en-GB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borah L. McGuin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5840" y="3254400"/>
            <a:ext cx="961920" cy="1238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03240" y="4049640"/>
            <a:ext cx="936720" cy="1306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32080" y="4756320"/>
            <a:ext cx="949320" cy="1184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149560" y="5477040"/>
            <a:ext cx="9698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17440" y="2768400"/>
            <a:ext cx="79646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xplaining Semantic Matching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ing IW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7316-3627-45DF-8C0C-C7EF0A0038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ducing Explanation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40" y="1739880"/>
            <a:ext cx="850752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In order to explain mappings produced by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-Match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nd thereby increase the trust level of its users, we need to provide information about:</a:t>
            </a:r>
            <a:r>
              <a:rPr b="0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background theorie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(e.g., Word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JSAT manipulation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f propositional for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4206960" y="3173400"/>
            <a:ext cx="12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or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AC78-12B9-4DC6-96F7-8FCC5B59EA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fault Explanati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3120" y="1574640"/>
            <a:ext cx="832968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 default explanation of mappings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-Match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ystem produces is a short, natural language, high-level explanation without any technical details. It is designed to be intuitive and understandable by ordinary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Query: find  "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uropean picture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723960" y="3041640"/>
            <a:ext cx="10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625760" y="3443400"/>
            <a:ext cx="71755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09DE-4231-4409-A139-494FF07AB8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xplaining Background Knowledg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3760" y="1536840"/>
            <a:ext cx="82659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10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uppose that the agent still does not trust the answer and may want to see the sources of metadata information behind th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98520" y="2473200"/>
            <a:ext cx="6027840" cy="388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D662-A6BF-4324-AB1A-9A89DC8962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xplaining Logical Reason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6040" y="1574640"/>
            <a:ext cx="83296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11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f the mappings derivation process needs to be explained, using the JSAT SAT engine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S-Match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produces a trace of the DPLL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77960" y="2367000"/>
            <a:ext cx="5359680" cy="40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6D90-1428-4265-850A-4626297816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921240"/>
            <a:ext cx="716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79640" y="2768760"/>
            <a:ext cx="7964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00" indent="-324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xperimental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A0E1-1E0A-4A39-8B21-590FC2361F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eliminary Result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0960" y="1612800"/>
            <a:ext cx="8037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: to obtain a vision of how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-Match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explanations potentially scale to requirements of the Semantic Web</a:t>
            </a:r>
            <a:r>
              <a:rPr b="0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85800" y="2370240"/>
            <a:ext cx="7353360" cy="40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0140-245E-41A6-8A66-5B792865A6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70172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We use the Proof Mark-up Language for representing      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-Match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proofs, thus facilitating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interoperability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We use meaningful terms rather than numbers in the DIMACS format, thus facilitating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understandability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We use the IW tools, thus facilitating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ustomizable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interactive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proof and explanation presentation and abstraction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Our solution is potentially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calable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to the Semantic Web requirements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DB7B-92DE-484B-8EA2-C3213468DD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650960"/>
            <a:ext cx="80773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Developing an 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environment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, which efficiently exploits the IW proofs and explanations, in order to make th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-Match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matching process (fully-fledged)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interactive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iterative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Improving th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-Match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proofs and explanations by using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abstraction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techniques more extensively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Conducting a user satisfaction study of the explanations 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Extending explanations to other SAT engines as well as to other non-SAT DPLL-based inference engines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1C6C-9141-411B-9552-F437C2B085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8762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360" y="1473120"/>
            <a:ext cx="83707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17520" indent="-317520">
              <a:spcBef>
                <a:spcPts val="624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roject website at DIT - ACCORD: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dit.unitn.it/~accord/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17520" indent="-31752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roject website at KSL - IW: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http://iw.stanford.edu/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17520" indent="-31752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F. Giunchiglia, P. Shvaiko: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.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</a:rPr>
              <a:t>The Knowledge Engineering Review Journal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, 18(3):265-280, 2003.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17520" indent="-31752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F. Giunchiglia, P. Shvaiko, M. Yatskevich: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S-Match: an algorithm and an implementation of semantic matching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.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</a:rPr>
              <a:t>In Proceedings of ESWS, pages 61-75, 2004.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17520" indent="-31752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D. McGuinness, P. Pinheiro da Silva: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xplaining Answers from the Semantic Web: The Inference Web Approach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Journal of Web Semantic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, 1(4): 397- 413, 2004.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C856-CC77-472B-BC47-0FE8CBE1BC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12520" y="1778040"/>
            <a:ext cx="7962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Inference Web (IW) Framework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xplaining Semantic Matching using IW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xperimental Study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 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7308-73A0-4119-9DAA-767A500C8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93760" y="1600200"/>
            <a:ext cx="7228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C73E-50CC-4AD1-93CB-D1463E72E6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4200" y="1714680"/>
            <a:ext cx="813924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tion source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(e.g., database schemas, classifications or ontologies) can be viewed as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graph-like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structures containing terms and their inter-relationsh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is one of the key operations for enabling the Semantic Web since it takes two graph-like structures and produces a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mapping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between the nodes of the graphs that correspond semantically to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Matching, however, requir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lanation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because mappings between terms are not always intuitively obvious to human 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2DDE-3125-4290-BD50-C35C541495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7747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4E5E-7E12-4BF6-A859-ADA4274D13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4600" y="1689120"/>
            <a:ext cx="821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: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Given two graphs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for any 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ind the strongest semantic relation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R’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holding wit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4600" y="2435400"/>
            <a:ext cx="7683480" cy="1362960"/>
            <a:chOff x="444600" y="2435400"/>
            <a:chExt cx="7683480" cy="1362960"/>
          </a:xfrm>
        </p:grpSpPr>
        <p:sp>
          <p:nvSpPr>
            <p:cNvPr id="122" name=""/>
            <p:cNvSpPr/>
            <p:nvPr/>
          </p:nvSpPr>
          <p:spPr>
            <a:xfrm>
              <a:off x="444600" y="2435400"/>
              <a:ext cx="7683480" cy="13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mputed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en-GB" sz="1800" spc="-1" strike="noStrike">
                  <a:solidFill>
                    <a:srgbClr val="777777"/>
                  </a:solidFill>
                  <a:latin typeface="Arial"/>
                </a:rPr>
                <a:t>R’s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, listed in the decreasing binding strength orde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equivalence { =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ore general/specific {    ,    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disjointness { </a:t>
              </a:r>
              <a:r>
                <a:rPr b="1" lang="en-GB" sz="18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938840" y="3244680"/>
              <a:ext cx="501480" cy="133560"/>
              <a:chOff x="4938840" y="3244680"/>
              <a:chExt cx="501480" cy="1335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4938840" y="3244680"/>
                <a:ext cx="108000" cy="131760"/>
                <a:chOff x="4938840" y="3244680"/>
                <a:chExt cx="108000" cy="13176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4938840" y="3244680"/>
                  <a:ext cx="107640" cy="103680"/>
                  <a:chOff x="4938840" y="3244680"/>
                  <a:chExt cx="107640" cy="10368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4941000" y="3348360"/>
                    <a:ext cx="1051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938840" y="3244680"/>
                    <a:ext cx="10728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046120" y="3244680"/>
                    <a:ext cx="360" cy="9864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4938840" y="3376440"/>
                  <a:ext cx="1080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330880" y="3246480"/>
                <a:ext cx="109440" cy="131760"/>
                <a:chOff x="5330880" y="3246480"/>
                <a:chExt cx="109440" cy="1317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5331240" y="3246480"/>
                  <a:ext cx="109080" cy="103680"/>
                  <a:chOff x="5331240" y="3246480"/>
                  <a:chExt cx="109080" cy="1036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>
                    <a:off x="5331600" y="3246480"/>
                    <a:ext cx="10656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5331600" y="3350160"/>
                    <a:ext cx="1087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 flipV="1">
                    <a:off x="5331240" y="3251520"/>
                    <a:ext cx="360" cy="9864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 flipH="1">
                  <a:off x="5330880" y="3378240"/>
                  <a:ext cx="10944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6" name=""/>
          <p:cNvSpPr/>
          <p:nvPr/>
        </p:nvSpPr>
        <p:spPr>
          <a:xfrm>
            <a:off x="507960" y="392436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e compute semantic relations by analyz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i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ncept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not label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hich 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is codified in the elements and the structures of schemas/class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84200" y="5067360"/>
            <a:ext cx="75056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ly, labels at nodes written in natural language are translated into propositional logical formulas which explicitly codify the label’s intended meaning. This allows us to codify the matching problem into a propositional validity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B90F-1A9B-4BE3-BC7F-9255AEDA1B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xample: Two simple classification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523880" y="2870280"/>
            <a:ext cx="4953240" cy="466200"/>
            <a:chOff x="1523880" y="2870280"/>
            <a:chExt cx="4953240" cy="466200"/>
          </a:xfrm>
        </p:grpSpPr>
        <p:sp>
          <p:nvSpPr>
            <p:cNvPr id="140" name=""/>
            <p:cNvSpPr/>
            <p:nvPr/>
          </p:nvSpPr>
          <p:spPr>
            <a:xfrm>
              <a:off x="1523880" y="2883600"/>
              <a:ext cx="1689120" cy="3708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40280" y="2911320"/>
              <a:ext cx="1536840" cy="3837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130920"/>
              <a:ext cx="1612800" cy="205560"/>
            </a:xfrm>
            <a:custGeom>
              <a:avLst/>
              <a:gdLst/>
              <a:ahLst/>
              <a:rect l="l" t="t" r="r" b="b"/>
              <a:pathLst>
                <a:path w="1016" h="120">
                  <a:moveTo>
                    <a:pt x="0" y="0"/>
                  </a:moveTo>
                  <a:cubicBezTo>
                    <a:pt x="85" y="19"/>
                    <a:pt x="343" y="120"/>
                    <a:pt x="512" y="120"/>
                  </a:cubicBezTo>
                  <a:cubicBezTo>
                    <a:pt x="681" y="120"/>
                    <a:pt x="911" y="25"/>
                    <a:pt x="1016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24360" y="287028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434960" y="2844720"/>
            <a:ext cx="3378240" cy="2222640"/>
            <a:chOff x="1434960" y="2844720"/>
            <a:chExt cx="3378240" cy="2222640"/>
          </a:xfrm>
        </p:grpSpPr>
        <p:sp>
          <p:nvSpPr>
            <p:cNvPr id="145" name=""/>
            <p:cNvSpPr/>
            <p:nvPr/>
          </p:nvSpPr>
          <p:spPr>
            <a:xfrm>
              <a:off x="1434960" y="469908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98800" y="2844720"/>
              <a:ext cx="44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0" y="1658880"/>
            <a:ext cx="9309240" cy="2885040"/>
            <a:chOff x="0" y="1658880"/>
            <a:chExt cx="9309240" cy="2885040"/>
          </a:xfrm>
        </p:grpSpPr>
        <p:grpSp>
          <p:nvGrpSpPr>
            <p:cNvPr id="148" name=""/>
            <p:cNvGrpSpPr/>
            <p:nvPr/>
          </p:nvGrpSpPr>
          <p:grpSpPr>
            <a:xfrm>
              <a:off x="4807080" y="1709640"/>
              <a:ext cx="4502160" cy="2811960"/>
              <a:chOff x="4807080" y="1709640"/>
              <a:chExt cx="4502160" cy="2811960"/>
            </a:xfrm>
          </p:grpSpPr>
          <p:sp>
            <p:nvSpPr>
              <p:cNvPr id="149" name=""/>
              <p:cNvSpPr/>
              <p:nvPr/>
            </p:nvSpPr>
            <p:spPr>
              <a:xfrm>
                <a:off x="7167600" y="2631960"/>
                <a:ext cx="2141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Cyberspac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n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Virtual Real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0" name=""/>
              <p:cNvCxnSpPr>
                <a:stCxn id="151" idx="2"/>
                <a:endCxn id="149" idx="0"/>
              </p:cNvCxnSpPr>
              <p:nvPr/>
            </p:nvCxnSpPr>
            <p:spPr>
              <a:xfrm>
                <a:off x="6594480" y="2106360"/>
                <a:ext cx="1645200" cy="5259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52" name=""/>
              <p:cNvGrpSpPr/>
              <p:nvPr/>
            </p:nvGrpSpPr>
            <p:grpSpPr>
              <a:xfrm>
                <a:off x="4807080" y="1709640"/>
                <a:ext cx="2711160" cy="2811960"/>
                <a:chOff x="4807080" y="1709640"/>
                <a:chExt cx="2711160" cy="28119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822920" y="4122720"/>
                  <a:ext cx="1958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       </a:t>
                  </a: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Italy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68920" y="1709640"/>
                  <a:ext cx="1849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Europ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5" idx="2"/>
                </p:cNvCxnSpPr>
                <p:nvPr/>
              </p:nvCxnSpPr>
              <p:spPr>
                <a:xfrm>
                  <a:off x="5689080" y="3287520"/>
                  <a:ext cx="11880" cy="8355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55" name=""/>
                <p:cNvSpPr/>
                <p:nvPr/>
              </p:nvSpPr>
              <p:spPr>
                <a:xfrm>
                  <a:off x="4807080" y="2890800"/>
                  <a:ext cx="176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    </a:t>
                  </a: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Pictu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6" name=""/>
                <p:cNvCxnSpPr>
                  <a:stCxn id="151" idx="2"/>
                </p:cNvCxnSpPr>
                <p:nvPr/>
              </p:nvCxnSpPr>
              <p:spPr>
                <a:xfrm flipH="1">
                  <a:off x="5727240" y="2106720"/>
                  <a:ext cx="867600" cy="7596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  <p:grpSp>
          <p:nvGrpSpPr>
            <p:cNvPr id="157" name=""/>
            <p:cNvGrpSpPr/>
            <p:nvPr/>
          </p:nvGrpSpPr>
          <p:grpSpPr>
            <a:xfrm>
              <a:off x="0" y="1658880"/>
              <a:ext cx="3543480" cy="2885040"/>
              <a:chOff x="0" y="1658880"/>
              <a:chExt cx="3543480" cy="2885040"/>
            </a:xfrm>
          </p:grpSpPr>
          <p:sp>
            <p:nvSpPr>
              <p:cNvPr id="158" name=""/>
              <p:cNvSpPr/>
              <p:nvPr/>
            </p:nvSpPr>
            <p:spPr>
              <a:xfrm>
                <a:off x="1082520" y="16588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m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98480" y="2840040"/>
                <a:ext cx="134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0" name=""/>
              <p:cNvCxnSpPr>
                <a:stCxn id="158" idx="2"/>
                <a:endCxn id="159" idx="0"/>
              </p:cNvCxnSpPr>
              <p:nvPr/>
            </p:nvCxnSpPr>
            <p:spPr>
              <a:xfrm>
                <a:off x="1816200" y="2055960"/>
                <a:ext cx="558000" cy="784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1" name=""/>
              <p:cNvSpPr/>
              <p:nvPr/>
            </p:nvSpPr>
            <p:spPr>
              <a:xfrm>
                <a:off x="2581200" y="412920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47840" y="414504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Tren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3" name=""/>
              <p:cNvCxnSpPr>
                <a:stCxn id="159" idx="2"/>
                <a:endCxn id="161" idx="0"/>
              </p:cNvCxnSpPr>
              <p:nvPr/>
            </p:nvCxnSpPr>
            <p:spPr>
              <a:xfrm>
                <a:off x="2373120" y="3236400"/>
                <a:ext cx="689400" cy="8931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64" name=""/>
              <p:cNvCxnSpPr>
                <a:stCxn id="159" idx="2"/>
                <a:endCxn id="162" idx="0"/>
              </p:cNvCxnSpPr>
              <p:nvPr/>
            </p:nvCxnSpPr>
            <p:spPr>
              <a:xfrm flipH="1">
                <a:off x="1950480" y="3236400"/>
                <a:ext cx="423000" cy="909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165" name=""/>
              <p:cNvSpPr/>
              <p:nvPr/>
            </p:nvSpPr>
            <p:spPr>
              <a:xfrm>
                <a:off x="0" y="2611440"/>
                <a:ext cx="15937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Computers and 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6" name=""/>
              <p:cNvCxnSpPr>
                <a:stCxn id="158" idx="2"/>
                <a:endCxn id="165" idx="0"/>
              </p:cNvCxnSpPr>
              <p:nvPr/>
            </p:nvCxnSpPr>
            <p:spPr>
              <a:xfrm flipH="1">
                <a:off x="796320" y="2055600"/>
                <a:ext cx="1019880" cy="5562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330120" y="41911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7960" y="165096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46840" y="1714680"/>
            <a:ext cx="5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88640" y="4737240"/>
            <a:ext cx="522468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8484"/>
                </a:solidFill>
                <a:latin typeface="Arial"/>
              </a:rPr>
              <a:t>Axioms </a:t>
            </a:r>
            <a:r>
              <a:rPr b="1" lang="it-IT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it-IT" sz="21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it-IT" sz="2100" spc="-1" strike="noStrike">
                <a:solidFill>
                  <a:srgbClr val="800000"/>
                </a:solidFill>
                <a:latin typeface="Arial"/>
              </a:rPr>
              <a:t>rel</a:t>
            </a:r>
            <a:r>
              <a:rPr b="1" lang="it-IT" sz="21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08484"/>
                </a:solidFill>
                <a:latin typeface="Arial"/>
              </a:rPr>
              <a:t>(Context</a:t>
            </a:r>
            <a:r>
              <a:rPr b="1" lang="it-IT" sz="2100" spc="-1" strike="noStrike" baseline="-25000">
                <a:solidFill>
                  <a:srgbClr val="008484"/>
                </a:solidFill>
                <a:latin typeface="Arial"/>
              </a:rPr>
              <a:t>1</a:t>
            </a:r>
            <a:r>
              <a:rPr b="1" lang="it-IT" sz="2100" spc="-1" strike="noStrike">
                <a:solidFill>
                  <a:srgbClr val="008484"/>
                </a:solidFill>
                <a:latin typeface="Arial"/>
              </a:rPr>
              <a:t>, Context</a:t>
            </a:r>
            <a:r>
              <a:rPr b="1" lang="it-IT" sz="2100" spc="-1" strike="noStrike" baseline="-25000">
                <a:solidFill>
                  <a:srgbClr val="008484"/>
                </a:solidFill>
                <a:latin typeface="Arial"/>
              </a:rPr>
              <a:t>2</a:t>
            </a:r>
            <a:r>
              <a:rPr b="1" lang="it-IT" sz="2100" spc="-1" strike="noStrike">
                <a:solidFill>
                  <a:srgbClr val="008484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3040" y="5372280"/>
            <a:ext cx="894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(Images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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Pictures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(Europe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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Europe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(Images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Europe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(Europe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Pictures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0120" y="5772240"/>
            <a:ext cx="8658000" cy="564480"/>
            <a:chOff x="330120" y="5772240"/>
            <a:chExt cx="8658000" cy="564480"/>
          </a:xfrm>
        </p:grpSpPr>
        <p:sp>
          <p:nvSpPr>
            <p:cNvPr id="173" name=""/>
            <p:cNvSpPr/>
            <p:nvPr/>
          </p:nvSpPr>
          <p:spPr>
            <a:xfrm rot="5400000">
              <a:off x="2316240" y="3798720"/>
              <a:ext cx="101520" cy="4073760"/>
            </a:xfrm>
            <a:custGeom>
              <a:avLst/>
              <a:gdLst>
                <a:gd name="textAreaLeft" fmla="*/ 0 w 101520"/>
                <a:gd name="textAreaRight" fmla="*/ 36720 w 101520"/>
                <a:gd name="textAreaTop" fmla="*/ 106200 h 4073760"/>
                <a:gd name="textAreaBottom" fmla="*/ 3967560 h 40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120"/>
                  </a:lnTo>
                  <a:cubicBezTo>
                    <a:pt x="10800" y="10020"/>
                    <a:pt x="16200" y="10920"/>
                    <a:pt x="21600" y="10920"/>
                  </a:cubicBezTo>
                  <a:cubicBezTo>
                    <a:pt x="16200" y="10920"/>
                    <a:pt x="10800" y="11820"/>
                    <a:pt x="10800" y="1272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920" y="5956200"/>
              <a:ext cx="17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Axio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662800" y="4897440"/>
              <a:ext cx="101520" cy="1851120"/>
            </a:xfrm>
            <a:custGeom>
              <a:avLst/>
              <a:gdLst>
                <a:gd name="textAreaLeft" fmla="*/ 0 w 101520"/>
                <a:gd name="textAreaRight" fmla="*/ 36720 w 101520"/>
                <a:gd name="textAreaTop" fmla="*/ 48240 h 1851120"/>
                <a:gd name="textAreaBottom" fmla="*/ 1802880 h 18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120"/>
                  </a:lnTo>
                  <a:cubicBezTo>
                    <a:pt x="10800" y="10020"/>
                    <a:pt x="16200" y="10920"/>
                    <a:pt x="21600" y="10920"/>
                  </a:cubicBezTo>
                  <a:cubicBezTo>
                    <a:pt x="16200" y="10920"/>
                    <a:pt x="10800" y="11820"/>
                    <a:pt x="10800" y="1272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7954560" y="4852800"/>
              <a:ext cx="101520" cy="1965240"/>
            </a:xfrm>
            <a:custGeom>
              <a:avLst/>
              <a:gdLst>
                <a:gd name="textAreaLeft" fmla="*/ 0 w 101520"/>
                <a:gd name="textAreaRight" fmla="*/ 36720 w 101520"/>
                <a:gd name="textAreaTop" fmla="*/ 51120 h 1965240"/>
                <a:gd name="textAreaBottom" fmla="*/ 1914120 h 19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120"/>
                  </a:lnTo>
                  <a:cubicBezTo>
                    <a:pt x="10800" y="10020"/>
                    <a:pt x="16200" y="10920"/>
                    <a:pt x="21600" y="10920"/>
                  </a:cubicBezTo>
                  <a:cubicBezTo>
                    <a:pt x="16200" y="10920"/>
                    <a:pt x="10800" y="11820"/>
                    <a:pt x="10800" y="1272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13200" y="5931000"/>
              <a:ext cx="1784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8484"/>
                  </a:solidFill>
                  <a:latin typeface="Arial"/>
                </a:rPr>
                <a:t>Context</a:t>
              </a:r>
              <a:r>
                <a:rPr b="1" lang="it-IT" sz="1800" spc="-1" strike="noStrike" baseline="-25000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37360" y="5931000"/>
              <a:ext cx="1784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8484"/>
                  </a:solidFill>
                  <a:latin typeface="Arial"/>
                </a:rPr>
                <a:t>Context</a:t>
              </a:r>
              <a:r>
                <a:rPr b="1" lang="it-IT" sz="1800" spc="-1" strike="noStrike" baseline="-25000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A7F5-E843-4BF6-A5D0-C08827E166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-Match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36840" y="1663560"/>
            <a:ext cx="690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330120" y="551196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49440" y="1625760"/>
            <a:ext cx="7264440" cy="45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8036-ADCE-4890-9651-83918E59F3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53648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ference Web (IW) Framework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E51C-039C-4B1C-A4DA-10BEADCD43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he IW Framework Overview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0960" y="1612800"/>
            <a:ext cx="80373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erence Web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is a framework enabling applications to generate portable and distributed explanations for their answers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384200" y="2535120"/>
            <a:ext cx="7594560" cy="384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6303-D6DE-4A93-ABC6-95AE74FF9C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/>
  <dc:language>en-US</dc:language>
  <cp:lastModifiedBy>server</cp:lastModifiedBy>
  <dcterms:modified xsi:type="dcterms:W3CDTF">2005-05-31T15:01:52Z</dcterms:modified>
  <cp:revision>709</cp:revision>
  <dc:subject/>
  <dc:title>S-Match ESWS</dc:title>
</cp:coreProperties>
</file>