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8.wmf" ContentType="image/x-wmf"/>
  <Override PartName="/ppt/media/image27.wmf" ContentType="image/x-wmf"/>
  <Override PartName="/ppt/media/image21.jpeg" ContentType="image/jpeg"/>
  <Override PartName="/ppt/media/image16.png" ContentType="image/png"/>
  <Override PartName="/ppt/media/image22.wmf" ContentType="image/x-wmf"/>
  <Override PartName="/ppt/media/image20.png" ContentType="image/png"/>
  <Override PartName="/ppt/media/image18.jpeg" ContentType="image/jpeg"/>
  <Override PartName="/ppt/media/image26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media/image25.wmf" ContentType="image/x-wmf"/>
  <Override PartName="/ppt/media/image2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DBD7-0B09-4B66-82A2-7B6321F1A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DB34-5E7D-4399-A80B-27B62DE5B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25CC-BD7D-4C35-97F9-43C9748C2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EE0E-7FEE-43F9-B7D9-E239DD2ED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93C4-4F22-44FB-B26A-723C978D8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D7D2-B3DF-4525-BB8D-9F2A0E9FB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41F5-59DB-49F6-80C2-8F5F95AE7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9AC8-5A46-4A80-B84F-853CC08F5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7080-EC2B-438F-8088-8B9A8978C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6701-A391-42B6-9DFF-759B4CE39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C078-CA67-4ED0-A2B5-5FA538B55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0F92-1B8A-470D-8433-D2C6B8E1E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705F-4FBD-4222-9D17-021D012D563A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34960" y="6521400"/>
            <a:ext cx="7150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ECAI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, 30 August 2006, Riva del Garda, Ita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6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60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png"/><Relationship Id="rId3" Type="http://schemas.openxmlformats.org/officeDocument/2006/relationships/image" Target="../media/image11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1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it.unitn.it/~knowdive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hyperlink" Target="http://www.ontologymatching.org/" TargetMode="Externa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609200"/>
            <a:ext cx="914400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Arial"/>
              </a:rPr>
              <a:t>Discovering Missing Background Knowledge in Ontology Matching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3320" y="3687120"/>
            <a:ext cx="4213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5160" y="5530680"/>
            <a:ext cx="56149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17th European Conference on Artificial Intelligence (ECAI’0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30 August 2006, Riva del Garda, It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87800" y="4381560"/>
            <a:ext cx="57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joint work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Fausto Giunchiglia and Mikalai Yatskev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5840" y="3635280"/>
            <a:ext cx="961920" cy="1238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30320" y="4524480"/>
            <a:ext cx="898560" cy="125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58960" y="5473800"/>
            <a:ext cx="9223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06080"/>
            <a:ext cx="71629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mpute relations between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(atomic)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66960" y="5038560"/>
            <a:ext cx="6161040" cy="122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2600" y="1508040"/>
            <a:ext cx="82389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ploit a priori knowledge, e.g., lexical, domain knowledge, with the help of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lement level semantic mat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630440" y="2681280"/>
            <a:ext cx="6324480" cy="212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2C87-D361-4444-A00A-BA89D0367F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96800"/>
            <a:ext cx="71629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lement level semantic matcher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81756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se-based matcher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ave two WordNet senses in input and produce semantic relations exploiting (direct) lexical relations of WordNet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8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ing-based matcher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ave two labels in input and produce semantic relations exploiting string comparison techniques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03280" y="4025880"/>
            <a:ext cx="7669440" cy="20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D570-1E77-465C-98D3-288F5FEF00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57200" y="525600"/>
            <a:ext cx="7134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mpute relations between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2600" y="1508040"/>
            <a:ext cx="82389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Decompose the graph (tree) matching problem into the set of </a:t>
            </a:r>
            <a:r>
              <a:rPr b="1" lang="it-IT" sz="2200" spc="-1" strike="noStrike">
                <a:solidFill>
                  <a:srgbClr val="800000"/>
                </a:solidFill>
                <a:latin typeface="Arial"/>
              </a:rPr>
              <a:t>node matching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Translate each node matching problem, namely pairs of nodes with possible relations between them, into a propositional form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Check the propositional formula for valid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319D-075B-4669-AE43-A4DA6682FC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469440"/>
            <a:ext cx="71629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4: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ample of a node matching task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57320" y="2513160"/>
            <a:ext cx="5907240" cy="1952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433600" y="1809720"/>
            <a:ext cx="4876920" cy="3873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2095560" y="3936960"/>
            <a:ext cx="5410080" cy="520560"/>
            <a:chOff x="2095560" y="3936960"/>
            <a:chExt cx="5410080" cy="520560"/>
          </a:xfrm>
        </p:grpSpPr>
        <p:sp>
          <p:nvSpPr>
            <p:cNvPr id="223" name=""/>
            <p:cNvSpPr/>
            <p:nvPr/>
          </p:nvSpPr>
          <p:spPr>
            <a:xfrm>
              <a:off x="2095560" y="3936960"/>
              <a:ext cx="2336760" cy="279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87920" y="4178160"/>
              <a:ext cx="1917720" cy="279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21240" y="3848040"/>
            <a:ext cx="990720" cy="393480"/>
            <a:chOff x="4521240" y="3848040"/>
            <a:chExt cx="990720" cy="393480"/>
          </a:xfrm>
        </p:grpSpPr>
        <p:sp>
          <p:nvSpPr>
            <p:cNvPr id="226" name=""/>
            <p:cNvSpPr/>
            <p:nvPr/>
          </p:nvSpPr>
          <p:spPr>
            <a:xfrm>
              <a:off x="4521240" y="4076640"/>
              <a:ext cx="99072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89520" y="384804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9144000" cy="153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14720" y="2619360"/>
            <a:ext cx="649080" cy="1463760"/>
          </a:xfrm>
          <a:custGeom>
            <a:avLst/>
            <a:gdLst/>
            <a:ahLst/>
            <a:rect l="l" t="t" r="r" b="b"/>
            <a:pathLst>
              <a:path w="409" h="922">
                <a:moveTo>
                  <a:pt x="0" y="0"/>
                </a:moveTo>
                <a:cubicBezTo>
                  <a:pt x="0" y="12"/>
                  <a:pt x="21" y="6"/>
                  <a:pt x="149" y="6"/>
                </a:cubicBezTo>
                <a:lnTo>
                  <a:pt x="149" y="770"/>
                </a:lnTo>
                <a:lnTo>
                  <a:pt x="277" y="770"/>
                </a:lnTo>
                <a:lnTo>
                  <a:pt x="277" y="922"/>
                </a:lnTo>
                <a:lnTo>
                  <a:pt x="409" y="91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48640" y="2638440"/>
            <a:ext cx="647640" cy="1700280"/>
          </a:xfrm>
          <a:custGeom>
            <a:avLst/>
            <a:gdLst/>
            <a:ahLst/>
            <a:rect l="l" t="t" r="r" b="b"/>
            <a:pathLst>
              <a:path w="408" h="1071">
                <a:moveTo>
                  <a:pt x="408" y="0"/>
                </a:moveTo>
                <a:lnTo>
                  <a:pt x="261" y="0"/>
                </a:lnTo>
                <a:lnTo>
                  <a:pt x="261" y="612"/>
                </a:lnTo>
                <a:lnTo>
                  <a:pt x="129" y="612"/>
                </a:lnTo>
                <a:lnTo>
                  <a:pt x="129" y="1071"/>
                </a:lnTo>
                <a:lnTo>
                  <a:pt x="0" y="107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5ADF-570E-4CDC-8A09-516C41C99C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68360" y="2971800"/>
            <a:ext cx="7121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0000"/>
                </a:solidFill>
                <a:latin typeface="Arial"/>
              </a:rPr>
              <a:t>Lack of Knowledge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ABFD-D639-46BD-A317-0D9DD2DBB0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Problem of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low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recall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(incompletness) - I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98320"/>
            <a:ext cx="825516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Matching has two components: element level matching and structure level matching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Contrarily to many other systems, the S-Match structure level algorithm is correct and complete 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ill, the quality of results is not very good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0" y="4786200"/>
            <a:ext cx="9144000" cy="1536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95360" y="3733920"/>
            <a:ext cx="77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1" i="1" lang="it-IT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... the problem of lack of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360" y="4292640"/>
            <a:ext cx="77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17920" y="5143680"/>
            <a:ext cx="2705040" cy="41904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43D1-A3F5-4ED5-831F-627AF8D57E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Problem of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low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recall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(incompletness) - II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5176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liminary (analytical) 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371600" y="3097080"/>
            <a:ext cx="7364520" cy="3759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0560" y="2077920"/>
            <a:ext cx="5527800" cy="927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210360" y="2146320"/>
            <a:ext cx="288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vesani et al., ISWC’0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1F68-1E84-41DF-A08D-9CACC64A5D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n increasing the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recall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: an overview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3880" y="1695600"/>
            <a:ext cx="801360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Strengthen element level matc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Reuse of previous match results from the same domain of inter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10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PO = Purchase Order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Use general knowledge sources (unlikely to hel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10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W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Use, if available (!), domain specific sources of knowled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0840" indent="-3510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UM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5E7B-E5BC-4078-8E84-A64B04DE89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368360" y="3124080"/>
            <a:ext cx="7121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0000"/>
                </a:solidFill>
                <a:latin typeface="Arial"/>
              </a:rPr>
              <a:t>Iterative Semantic Matching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DE25-1C1F-48A0-9741-A6CE798162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Iterative semantic matching (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M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0160" y="1730520"/>
            <a:ext cx="83930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d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Repeat 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Step 3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Step 4</a:t>
            </a:r>
            <a:r>
              <a:rPr b="1" i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of the matching algorithm for som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critical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(hard) matching ta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76240" y="3098880"/>
            <a:ext cx="78361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M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macro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Discover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critical point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in the matching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Generate candidate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missing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axiom(s)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Re-run SAT solver on a critical task taking into account the new axiom(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8484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If SAT returns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false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, save the newly discovered axiom(s)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for future re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9850-1383-4615-ACCD-ABF1D07585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2520" y="1815840"/>
            <a:ext cx="77850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Lack of Knowledge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terative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 and Future Work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CA52-D127-49C1-AF6F-B54CA0DABA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178000" y="1914480"/>
            <a:ext cx="6296040" cy="30718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558720"/>
            <a:ext cx="716292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M: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Discovering critical points -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ample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191120" y="5494320"/>
            <a:ext cx="4952880" cy="6336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2600" y="5504040"/>
            <a:ext cx="4102200" cy="820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666880" y="153828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gle (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80040" y="153828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ksmart (T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-58680" y="5194440"/>
            <a:ext cx="7956360" cy="368280"/>
            <a:chOff x="-58680" y="5194440"/>
            <a:chExt cx="7956360" cy="368280"/>
          </a:xfrm>
        </p:grpSpPr>
        <p:sp>
          <p:nvSpPr>
            <p:cNvPr id="258" name=""/>
            <p:cNvSpPr/>
            <p:nvPr/>
          </p:nvSpPr>
          <p:spPr>
            <a:xfrm>
              <a:off x="-58680" y="5194440"/>
              <a:ext cx="368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LabsMatrix </a:t>
              </a:r>
              <a:r>
                <a:rPr b="1" lang="en-US" sz="1800" spc="-1" strike="noStrike">
                  <a:solidFill>
                    <a:srgbClr val="777777"/>
                  </a:solidFill>
                  <a:latin typeface="Arial"/>
                </a:rPr>
                <a:t>(result of </a:t>
              </a:r>
              <a:r>
                <a:rPr b="1" i="1" lang="en-US" sz="1800" spc="-1" strike="noStrike">
                  <a:solidFill>
                    <a:srgbClr val="777777"/>
                  </a:solidFill>
                  <a:latin typeface="Arial"/>
                </a:rPr>
                <a:t>Step 3</a:t>
              </a:r>
              <a:r>
                <a:rPr b="1" lang="en-US" sz="1800" spc="-1" strike="noStrike">
                  <a:solidFill>
                    <a:srgbClr val="777777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3880" y="5194440"/>
              <a:ext cx="37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NodesMatrix </a:t>
              </a:r>
              <a:r>
                <a:rPr b="1" lang="en-US" sz="1800" spc="-1" strike="noStrike">
                  <a:solidFill>
                    <a:srgbClr val="777777"/>
                  </a:solidFill>
                  <a:latin typeface="Arial"/>
                </a:rPr>
                <a:t>(result of </a:t>
              </a:r>
              <a:r>
                <a:rPr b="1" i="1" lang="en-US" sz="1800" spc="-1" strike="noStrike">
                  <a:solidFill>
                    <a:srgbClr val="777777"/>
                  </a:solidFill>
                  <a:latin typeface="Arial"/>
                </a:rPr>
                <a:t>Step 4</a:t>
              </a:r>
              <a:r>
                <a:rPr b="1" lang="en-US" sz="1800" spc="-1" strike="noStrike">
                  <a:solidFill>
                    <a:srgbClr val="777777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796000" y="5872320"/>
            <a:ext cx="581040" cy="279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090880" y="2905200"/>
            <a:ext cx="6298920" cy="520560"/>
            <a:chOff x="2090880" y="2905200"/>
            <a:chExt cx="6298920" cy="520560"/>
          </a:xfrm>
        </p:grpSpPr>
        <p:sp>
          <p:nvSpPr>
            <p:cNvPr id="262" name=""/>
            <p:cNvSpPr/>
            <p:nvPr/>
          </p:nvSpPr>
          <p:spPr>
            <a:xfrm>
              <a:off x="2090880" y="3176640"/>
              <a:ext cx="2293920" cy="24912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05360" y="2905200"/>
              <a:ext cx="2584440" cy="304560"/>
            </a:xfrm>
            <a:prstGeom prst="ellipse">
              <a:avLst/>
            </a:pr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718240" y="5732640"/>
            <a:ext cx="698400" cy="552240"/>
            <a:chOff x="5718240" y="5732640"/>
            <a:chExt cx="698400" cy="552240"/>
          </a:xfrm>
        </p:grpSpPr>
        <p:sp>
          <p:nvSpPr>
            <p:cNvPr id="265" name=""/>
            <p:cNvSpPr/>
            <p:nvPr/>
          </p:nvSpPr>
          <p:spPr>
            <a:xfrm>
              <a:off x="5851440" y="5732640"/>
              <a:ext cx="565200" cy="55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718240" y="5833800"/>
              <a:ext cx="682560" cy="42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106720" y="3306600"/>
            <a:ext cx="4421160" cy="3041640"/>
            <a:chOff x="2106720" y="3306600"/>
            <a:chExt cx="4421160" cy="3041640"/>
          </a:xfrm>
        </p:grpSpPr>
        <p:sp>
          <p:nvSpPr>
            <p:cNvPr id="268" name=""/>
            <p:cNvSpPr/>
            <p:nvPr/>
          </p:nvSpPr>
          <p:spPr>
            <a:xfrm flipH="1" flipV="1">
              <a:off x="4642920" y="3587400"/>
              <a:ext cx="1870200" cy="227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3848040" y="3306600"/>
              <a:ext cx="2679840" cy="503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06720" y="6081840"/>
              <a:ext cx="666720" cy="2664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10040" y="6081840"/>
              <a:ext cx="666720" cy="26640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CEB4-9003-420B-BEEB-7B80E6E363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434520"/>
            <a:ext cx="71629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M: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Generating candidate axiom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6880" y="1668600"/>
            <a:ext cx="85471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550"/>
              </a:spcBef>
              <a:buClr>
                <a:srgbClr val="0000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Sense-based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ave two WordNet senses in input and produce semantic relations exploiting structural properties of WordNet hierarch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Gloss-based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</a:rPr>
              <a:t> matcher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ave two WordNet senses as input and produce relations exploiting gloss comparis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9760" y="4021200"/>
            <a:ext cx="7089840" cy="189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781C-A09A-4852-B753-BB0887D230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71160" y="52236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M: generating candidate axioms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 Hierarchy distanc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4708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07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y distance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returns the equivalence relation if the distance between two input senses in WordNet hierarchy is less than a given threshold value (e.g.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) and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</a:rPr>
              <a:t>Idk</a:t>
            </a:r>
            <a:r>
              <a:rPr b="1" lang="en-US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otherwise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9200" y="3863880"/>
            <a:ext cx="467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58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istance between these concepts is 2 (1 more general link and 1 less general). Thus, we can conclude that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games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ntertainment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re close in their meaning and return the equivalence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3320" y="3309840"/>
            <a:ext cx="20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i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575400" y="3801960"/>
            <a:ext cx="565200" cy="63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39160" y="3814920"/>
            <a:ext cx="1058760" cy="1292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64200" y="45417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764480" y="519120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3560" y="2946240"/>
            <a:ext cx="503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ere is no direct relation between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game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entertainment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ord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335D-D1DE-4213-8460-033BDFAF3C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73120" y="2933280"/>
            <a:ext cx="669312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valuation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8EE9-C7A6-481B-B5D0-CA5D5350C7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esting methodology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12880" y="15368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s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Avesani et al., ISWC’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333440" y="2023920"/>
            <a:ext cx="6881760" cy="1152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25480" y="3403440"/>
            <a:ext cx="8255160" cy="29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ing match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ecision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, [0,1];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call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,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By construction in that dataset reference mappings represent only true positives, thus allowing us to estimat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only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Higher values of recall can be obtained at the expense of lower values of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3960" indent="-2667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dditional tests to ensure that precision does not decr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7" action="ppaction://hlinksldjump"/>
          </p:cNvPr>
          <p:cNvSpPr/>
          <p:nvPr/>
        </p:nvSpPr>
        <p:spPr>
          <a:xfrm>
            <a:off x="1015920" y="3822840"/>
            <a:ext cx="19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E750-63A6-43C0-ACC7-C7187E5DCA1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perimental result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98680" y="1676520"/>
            <a:ext cx="6921360" cy="32288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95360" y="3556080"/>
            <a:ext cx="125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638360" y="5194440"/>
            <a:ext cx="6724440" cy="84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8156-85DE-471C-9789-15F89A7F86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63280" y="2768400"/>
            <a:ext cx="79642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onclusions and Future Work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CD587-FDF8-4209-B661-96837446FA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34680" y="1599840"/>
            <a:ext cx="807732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275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The problem of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missing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omain knowledge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is a major problem of all (!) matching system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396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This problem on the industrial size matching  tasks is very hard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396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We have investigated it by examples of light weight ontologies, such as Google and Yahoo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72396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Partial solution </a:t>
            </a:r>
            <a:r>
              <a:rPr b="1" lang="it-IT" sz="2300" spc="-1" strike="noStrike">
                <a:solidFill>
                  <a:srgbClr val="008484"/>
                </a:solidFill>
                <a:latin typeface="Arial"/>
              </a:rPr>
              <a:t>by </a:t>
            </a: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applying semantic matching iteratively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C392-201D-478D-8CEB-D2FAE4D176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Future work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terative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New element level matcher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eractive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utomizing technology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Extensive 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Testing methodology 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dustry-strength task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5C3C-3BDD-43A5-B7F0-EF848F9B82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8762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155600"/>
            <a:ext cx="825516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142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14280" indent="-31428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roject website - KNOWDIVE: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dit.unitn.it/~knowdive/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14280" indent="-31428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F. Giunchiglia, P. Shvaiko: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 Knowledge Engineering Review Journal, 18(3), 2003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14280" indent="-314280">
              <a:spcBef>
                <a:spcPts val="451"/>
              </a:spcBef>
              <a:spcAft>
                <a:spcPts val="113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F. Giunchiglia, P.Shvaiko, M. Yatskevich: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schema matching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 In Proceedings of CoopIS’05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14280" indent="-31428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. Bouquet, L. Serafini, S. Zanobini: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emantic coordination: a new approach and an application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. In Proceedings of ISWC, 2003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14280" indent="-31428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. Avesani, F. Giunchiglia, M. Yatskevich: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 large scale taxonomy mapping evaluation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In Proceedings of ISWC, 2005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14280" indent="-31428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C. Ghidini, F. Giunchiglia: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ocal models semantics, or contextual reasoning = locality + compatibility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. Artificial Intelligence Journal, 127(3), 2001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14280" indent="-31428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Ontology Matching: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http://www.OntologyMatching.org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14280" indent="-31428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P. Shvaiko and J. Euzenat: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A survey of schema-based matching approaches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 Journal on Data Semantics, IV, 2005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1098-A639-411E-AD0D-A731C9330D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040" y="1536840"/>
            <a:ext cx="8913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2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source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(e.g., ontologies) can be viewed 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ph-like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structures containing terms and their inter-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6000" y="21081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260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takes two graph-like structures and produce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ping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etween the nodes of the graphs that correspond semantically to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39840" y="2714760"/>
            <a:ext cx="5799240" cy="37400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162240" y="2806560"/>
            <a:ext cx="3619440" cy="3086280"/>
            <a:chOff x="3162240" y="2806560"/>
            <a:chExt cx="3619440" cy="3086280"/>
          </a:xfrm>
        </p:grpSpPr>
        <p:sp>
          <p:nvSpPr>
            <p:cNvPr id="119" name=""/>
            <p:cNvSpPr/>
            <p:nvPr/>
          </p:nvSpPr>
          <p:spPr>
            <a:xfrm>
              <a:off x="3162240" y="2806560"/>
              <a:ext cx="361944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68680" y="3057480"/>
              <a:ext cx="280656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72080" y="5892840"/>
              <a:ext cx="238752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2200" y="5641560"/>
              <a:ext cx="179064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4381560" y="4223880"/>
              <a:ext cx="1752480" cy="200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355640" y="4524840"/>
              <a:ext cx="1778040" cy="163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02200" y="3308400"/>
              <a:ext cx="171432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C19B-20E5-4D0E-B812-3E9C854A70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193760" y="1600200"/>
            <a:ext cx="7228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5C56-D849-48F5-BDA1-426FDED7A2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1" action="ppaction://hlinksldjump"/>
          </p:cNvPr>
          <p:cNvSpPr/>
          <p:nvPr/>
        </p:nvSpPr>
        <p:spPr>
          <a:xfrm>
            <a:off x="8178840" y="6350040"/>
            <a:ext cx="965160" cy="507960"/>
          </a:xfrm>
          <a:custGeom>
            <a:avLst/>
            <a:gdLst>
              <a:gd name="textAreaLeft" fmla="*/ 32760 w 965160"/>
              <a:gd name="textAreaRight" fmla="*/ 932400 w 965160"/>
              <a:gd name="textAreaTop" fmla="*/ 32760 h 507960"/>
              <a:gd name="textAreaBottom" fmla="*/ 475200 h 50796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20514" y="3837"/>
                </a:moveTo>
                <a:lnTo>
                  <a:pt x="23090" y="6448"/>
                </a:ln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lnTo>
                  <a:pt x="27477" y="10800"/>
                </a:lnTo>
                <a:lnTo>
                  <a:pt x="25823" y="10800"/>
                </a:lnTo>
                <a:lnTo>
                  <a:pt x="25823" y="17989"/>
                </a:lnTo>
                <a:lnTo>
                  <a:pt x="15205" y="17989"/>
                </a:lnTo>
                <a:lnTo>
                  <a:pt x="15205" y="10800"/>
                </a:lnTo>
                <a:lnTo>
                  <a:pt x="13551" y="10800"/>
                </a:lnTo>
                <a:close/>
              </a:path>
              <a:path fill="darkenLess" w="41028" h="21600">
                <a:moveTo>
                  <a:pt x="23090" y="6448"/>
                </a:move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close/>
              </a:path>
              <a:path fill="darkenLess" w="41028" h="21600">
                <a:moveTo>
                  <a:pt x="19591" y="14299"/>
                </a:moveTo>
                <a:lnTo>
                  <a:pt x="21436" y="14299"/>
                </a:lnTo>
                <a:lnTo>
                  <a:pt x="21436" y="17989"/>
                </a:lnTo>
                <a:lnTo>
                  <a:pt x="25823" y="17989"/>
                </a:lnTo>
                <a:lnTo>
                  <a:pt x="25823" y="10800"/>
                </a:lnTo>
                <a:lnTo>
                  <a:pt x="15205" y="10800"/>
                </a:lnTo>
                <a:lnTo>
                  <a:pt x="15205" y="17989"/>
                </a:lnTo>
                <a:lnTo>
                  <a:pt x="19591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82840" y="4371840"/>
            <a:ext cx="280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N – False 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– True 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 – False 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 – True 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60600" y="1006560"/>
            <a:ext cx="6272280" cy="28432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01840" y="2071800"/>
            <a:ext cx="2592360" cy="1295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1560" y="2071800"/>
            <a:ext cx="2592360" cy="1295280"/>
          </a:xfrm>
          <a:prstGeom prst="ellipse">
            <a:avLst/>
          </a:prstGeom>
          <a:solidFill>
            <a:srgbClr val="dbd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90920" y="2243160"/>
            <a:ext cx="501840" cy="987480"/>
          </a:xfrm>
          <a:custGeom>
            <a:avLst/>
            <a:gdLst/>
            <a:ahLst/>
            <a:rect l="l" t="t" r="r" b="b"/>
            <a:pathLst>
              <a:path w="316" h="622">
                <a:moveTo>
                  <a:pt x="50" y="0"/>
                </a:moveTo>
                <a:cubicBezTo>
                  <a:pt x="66" y="8"/>
                  <a:pt x="114" y="29"/>
                  <a:pt x="144" y="49"/>
                </a:cubicBezTo>
                <a:cubicBezTo>
                  <a:pt x="174" y="69"/>
                  <a:pt x="206" y="95"/>
                  <a:pt x="230" y="120"/>
                </a:cubicBezTo>
                <a:cubicBezTo>
                  <a:pt x="254" y="145"/>
                  <a:pt x="278" y="177"/>
                  <a:pt x="292" y="203"/>
                </a:cubicBezTo>
                <a:cubicBezTo>
                  <a:pt x="306" y="229"/>
                  <a:pt x="309" y="258"/>
                  <a:pt x="312" y="279"/>
                </a:cubicBezTo>
                <a:cubicBezTo>
                  <a:pt x="315" y="300"/>
                  <a:pt x="316" y="310"/>
                  <a:pt x="312" y="330"/>
                </a:cubicBezTo>
                <a:cubicBezTo>
                  <a:pt x="308" y="350"/>
                  <a:pt x="304" y="375"/>
                  <a:pt x="291" y="400"/>
                </a:cubicBezTo>
                <a:cubicBezTo>
                  <a:pt x="278" y="425"/>
                  <a:pt x="260" y="454"/>
                  <a:pt x="232" y="481"/>
                </a:cubicBezTo>
                <a:cubicBezTo>
                  <a:pt x="204" y="508"/>
                  <a:pt x="162" y="541"/>
                  <a:pt x="123" y="565"/>
                </a:cubicBezTo>
                <a:cubicBezTo>
                  <a:pt x="84" y="589"/>
                  <a:pt x="26" y="610"/>
                  <a:pt x="0" y="6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36880" y="25686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75280" y="249228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02240" y="258768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10480" y="322272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60680" y="1177920"/>
            <a:ext cx="26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Mat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72080" y="117144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M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17680" y="1577880"/>
            <a:ext cx="53352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251400" y="1549440"/>
            <a:ext cx="619200" cy="60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390920" y="3849840"/>
                <a:ext cx="3443400" cy="28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ecision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P</m:t>
                                </m:r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al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N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veral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-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recision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-Measure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ecision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cal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ecision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cal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94D7-2FBA-4248-87C9-6F146F4981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88840" y="2971800"/>
            <a:ext cx="7747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94D2-1E6A-41BF-9768-5EEB68C66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4600" y="1689120"/>
            <a:ext cx="821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: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Given two graphs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for any 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ind the strongest semantic relation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R’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holding wit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4600" y="2435400"/>
            <a:ext cx="7683480" cy="1694520"/>
            <a:chOff x="444600" y="2435400"/>
            <a:chExt cx="7683480" cy="1694520"/>
          </a:xfrm>
        </p:grpSpPr>
        <p:sp>
          <p:nvSpPr>
            <p:cNvPr id="131" name=""/>
            <p:cNvSpPr/>
            <p:nvPr/>
          </p:nvSpPr>
          <p:spPr>
            <a:xfrm>
              <a:off x="444600" y="2435400"/>
              <a:ext cx="76834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mputed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en-GB" sz="1800" spc="-1" strike="noStrike">
                  <a:solidFill>
                    <a:srgbClr val="777777"/>
                  </a:solidFill>
                  <a:latin typeface="Arial"/>
                </a:rPr>
                <a:t>R’s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, listed in the decreasing binding strength orde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equivalence { =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ore general/specific {    ,    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disjointness { </a:t>
              </a:r>
              <a:r>
                <a:rPr b="1" lang="en-GB" sz="18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I don’t know {idk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938840" y="3219480"/>
              <a:ext cx="501480" cy="158040"/>
              <a:chOff x="4938840" y="3219480"/>
              <a:chExt cx="501480" cy="1580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4938840" y="3219480"/>
                <a:ext cx="108000" cy="156240"/>
                <a:chOff x="4938840" y="3219480"/>
                <a:chExt cx="108000" cy="1562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4938840" y="3219480"/>
                  <a:ext cx="107640" cy="123120"/>
                  <a:chOff x="4938840" y="3219480"/>
                  <a:chExt cx="107640" cy="12312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941000" y="3342600"/>
                    <a:ext cx="10512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938840" y="3219480"/>
                    <a:ext cx="10728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046120" y="3219840"/>
                    <a:ext cx="360" cy="11700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" name=""/>
                <p:cNvSpPr/>
                <p:nvPr/>
              </p:nvSpPr>
              <p:spPr>
                <a:xfrm>
                  <a:off x="4938840" y="3375720"/>
                  <a:ext cx="10800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5330880" y="3221280"/>
                <a:ext cx="109440" cy="156240"/>
                <a:chOff x="5330880" y="3221280"/>
                <a:chExt cx="109440" cy="15624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5331240" y="3221280"/>
                  <a:ext cx="109080" cy="123120"/>
                  <a:chOff x="5331240" y="3221280"/>
                  <a:chExt cx="109080" cy="1231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>
                    <a:off x="5331600" y="3221280"/>
                    <a:ext cx="10656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>
                    <a:off x="5331600" y="3344400"/>
                    <a:ext cx="10872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flipV="1">
                    <a:off x="5331240" y="3227040"/>
                    <a:ext cx="360" cy="11700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 flipH="1">
                  <a:off x="5330880" y="3377520"/>
                  <a:ext cx="10944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482760" y="4254480"/>
            <a:ext cx="8127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e compute semantic relations by analyz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i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ncept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not label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hich 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is codified in the elements and the structures of 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4200" y="5067360"/>
            <a:ext cx="75056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ly, labels at nodes written in natural language are translated into propositional logical formulas which explicitly codify the labels’ intended meaning. This allows us to codify the matching problem into a propositional validity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1CFE-5EA4-441E-83AE-5C123C1D8E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55400" y="9954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oncept of a label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&amp;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ncept of a nod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54080" y="4038480"/>
            <a:ext cx="8089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64280" y="2247840"/>
            <a:ext cx="255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Hobbies and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11440" y="1546200"/>
            <a:ext cx="5973480" cy="2070720"/>
            <a:chOff x="1711440" y="1546200"/>
            <a:chExt cx="5973480" cy="2070720"/>
          </a:xfrm>
        </p:grpSpPr>
        <p:sp>
          <p:nvSpPr>
            <p:cNvPr id="151" name=""/>
            <p:cNvSpPr/>
            <p:nvPr/>
          </p:nvSpPr>
          <p:spPr>
            <a:xfrm>
              <a:off x="2519280" y="3213000"/>
              <a:ext cx="199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Mu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55880" y="1546200"/>
              <a:ext cx="162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54" idx="4"/>
              <a:endCxn id="155" idx="0"/>
            </p:cNvCxnSpPr>
            <p:nvPr/>
          </p:nvCxnSpPr>
          <p:spPr>
            <a:xfrm>
              <a:off x="3979440" y="2735280"/>
              <a:ext cx="1080" cy="573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57" idx="4"/>
              <a:endCxn id="154" idx="0"/>
            </p:cNvCxnSpPr>
            <p:nvPr/>
          </p:nvCxnSpPr>
          <p:spPr>
            <a:xfrm flipH="1">
              <a:off x="3979440" y="2120400"/>
              <a:ext cx="580320" cy="383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"/>
            <p:cNvSpPr/>
            <p:nvPr/>
          </p:nvSpPr>
          <p:spPr>
            <a:xfrm>
              <a:off x="4908600" y="3218040"/>
              <a:ext cx="277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Boo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60" idx="4"/>
              <a:endCxn id="161" idx="0"/>
            </p:cNvCxnSpPr>
            <p:nvPr/>
          </p:nvCxnSpPr>
          <p:spPr>
            <a:xfrm>
              <a:off x="5194080" y="2735280"/>
              <a:ext cx="14760" cy="573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2" name=""/>
            <p:cNvSpPr/>
            <p:nvPr/>
          </p:nvSpPr>
          <p:spPr>
            <a:xfrm>
              <a:off x="1711440" y="2411280"/>
              <a:ext cx="24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Entertai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7" idx="4"/>
              <a:endCxn id="160" idx="0"/>
            </p:cNvCxnSpPr>
            <p:nvPr/>
          </p:nvCxnSpPr>
          <p:spPr>
            <a:xfrm>
              <a:off x="4559400" y="2120400"/>
              <a:ext cx="635760" cy="383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"/>
            <p:cNvSpPr/>
            <p:nvPr/>
          </p:nvSpPr>
          <p:spPr>
            <a:xfrm>
              <a:off x="4443480" y="1889280"/>
              <a:ext cx="231840" cy="23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63880" y="2503440"/>
              <a:ext cx="23184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9960" y="2503440"/>
              <a:ext cx="23184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63880" y="3308400"/>
              <a:ext cx="23184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9680" y="3308400"/>
              <a:ext cx="23472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62040" y="3919680"/>
            <a:ext cx="79358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ncept of a label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propositional formula which stands for the set of documents that one would classify unde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t en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propositional formula which represents the set of documents which one would classify under a node, given that it has a certain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that it is in a cert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in a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7FC9-E972-40E5-9D68-3D5ED0206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7988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labels in T1 and T2 compute 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nodes in T1 and T2 comput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labels in T1 and T2 comput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elations between concepts at labels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background knowledge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nodes in T1 and T2 compute 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relations between 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1 and 2 constitute the preprocessing phase, and are executed once and each time after the ontology is chang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FF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3 and 4 constitute the matching phase, and are executed every time two ontologies are to be matched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N 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75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Four macro step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444600" y="176688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ven two labeled trees T1 and T2,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1DF3-0BA1-43DB-B9F9-68FD0D8F4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compute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9040" y="1658520"/>
            <a:ext cx="85327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ranslate labels at nodes written in natural language into propositional logical formulas which explicitly codify the labels’ intended meaning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process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Tokenization.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Labels (according to punctuation, spaces, etc.) are parsed into tokens. E.g.,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Hobbies and Interests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&lt;Hobbies, and, Interests&gt;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Lemmatization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. Tokens are further morphologically analyzed in order to find all their possible basic forms. E.g.,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Hobbies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Hobby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  <a:ea typeface="Arial"/>
              </a:rPr>
              <a:t>Building atomic concepts.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An oracle (WordNet) is used to extract senses of lemmas. E.g.,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Hobby has 3 sense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  <a:ea typeface="Arial"/>
              </a:rPr>
              <a:t>Building complex concepts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. Prepositions, conjunctions are translated into logical connectives and used to build complex concepts</a:t>
            </a:r>
            <a:br>
              <a:rPr sz="1700"/>
            </a:b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out of the atomic concept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 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E.g.,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i="1" lang="en-US" sz="1700" spc="-1" strike="noStrike">
                <a:solidFill>
                  <a:srgbClr val="000099"/>
                </a:solidFill>
                <a:latin typeface="Arial"/>
                <a:ea typeface="Arial"/>
              </a:rPr>
              <a:t>C</a:t>
            </a:r>
            <a:r>
              <a:rPr b="1" i="1" lang="en-US" sz="17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Hobbies</a:t>
            </a:r>
            <a:r>
              <a:rPr b="1" i="1" lang="it-IT" sz="17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_</a:t>
            </a:r>
            <a:r>
              <a:rPr b="1" i="1" lang="en-US" sz="17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and_Interests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= &lt;Hobby, 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  <a:ea typeface="Arial"/>
              </a:rPr>
              <a:t>U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(WN</a:t>
            </a:r>
            <a:r>
              <a:rPr b="1" lang="en-US" sz="17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Hobby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)&gt;     &lt;Interest, 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  <a:ea typeface="Arial"/>
              </a:rPr>
              <a:t>U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(WN</a:t>
            </a:r>
            <a:r>
              <a:rPr b="1" lang="en-US" sz="17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Iterest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)&gt;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,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where 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  <a:ea typeface="Arial"/>
              </a:rPr>
              <a:t>U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is a union of the senses that WordNet attaches to lemma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743080" y="5613480"/>
            <a:ext cx="176760" cy="187560"/>
            <a:chOff x="5743080" y="5613480"/>
            <a:chExt cx="176760" cy="187560"/>
          </a:xfrm>
        </p:grpSpPr>
        <p:sp>
          <p:nvSpPr>
            <p:cNvPr id="171" name=""/>
            <p:cNvSpPr/>
            <p:nvPr/>
          </p:nvSpPr>
          <p:spPr>
            <a:xfrm flipV="1">
              <a:off x="5919840" y="5613480"/>
              <a:ext cx="0" cy="1843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743440" y="5613480"/>
              <a:ext cx="0" cy="1843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71" idx="0"/>
              <a:endCxn id="172" idx="0"/>
            </p:cNvCxnSpPr>
            <p:nvPr/>
          </p:nvCxnSpPr>
          <p:spPr>
            <a:xfrm flipH="1" flipV="1">
              <a:off x="5743080" y="5800320"/>
              <a:ext cx="177120" cy="10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E96C-555B-4A20-97FF-9A6124E45C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mpute concepts at nodes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1640" y="1514520"/>
            <a:ext cx="806472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he idea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Extend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by capturing the knowledge residing in a structure of a tree in order to define a context in which the given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ept at a label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occur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omputation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for some nod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is computed as a conjunction of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located above the given node, including the node itself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7840" y="4745160"/>
            <a:ext cx="3784680" cy="475200"/>
            <a:chOff x="177840" y="4745160"/>
            <a:chExt cx="3784680" cy="475200"/>
          </a:xfrm>
        </p:grpSpPr>
        <p:sp>
          <p:nvSpPr>
            <p:cNvPr id="177" name=""/>
            <p:cNvSpPr/>
            <p:nvPr/>
          </p:nvSpPr>
          <p:spPr>
            <a:xfrm>
              <a:off x="177840" y="4745160"/>
              <a:ext cx="37846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    </a:t>
              </a: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C</a:t>
              </a:r>
              <a:r>
                <a:rPr b="1" i="1" lang="it-IT" sz="2200" spc="-1" strike="noStrike" baseline="-25000">
                  <a:solidFill>
                    <a:srgbClr val="800000"/>
                  </a:solidFill>
                  <a:latin typeface="Arial"/>
                </a:rPr>
                <a:t>2</a:t>
              </a:r>
              <a:r>
                <a:rPr b="1" lang="it-IT" sz="2200" spc="-1" strike="noStrike" baseline="-25000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777777"/>
                  </a:solidFill>
                  <a:latin typeface="Arial"/>
                </a:rPr>
                <a:t>= 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Top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Entertain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817280" y="4884480"/>
              <a:ext cx="227520" cy="211320"/>
              <a:chOff x="1817280" y="4884480"/>
              <a:chExt cx="227520" cy="211320"/>
            </a:xfrm>
          </p:grpSpPr>
          <p:sp>
            <p:nvSpPr>
              <p:cNvPr id="179" name=""/>
              <p:cNvSpPr/>
              <p:nvPr/>
            </p:nvSpPr>
            <p:spPr>
              <a:xfrm>
                <a:off x="1817640" y="4888080"/>
                <a:ext cx="0" cy="207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044800" y="4888080"/>
                <a:ext cx="0" cy="207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1" name=""/>
              <p:cNvCxnSpPr>
                <a:stCxn id="179" idx="0"/>
                <a:endCxn id="180" idx="0"/>
              </p:cNvCxnSpPr>
              <p:nvPr/>
            </p:nvCxnSpPr>
            <p:spPr>
              <a:xfrm>
                <a:off x="1817280" y="4884480"/>
                <a:ext cx="227880" cy="1080"/>
              </a:xfrm>
              <a:prstGeom prst="straightConnector1">
                <a:avLst/>
              </a:prstGeom>
              <a:ln w="25560">
                <a:solidFill>
                  <a:srgbClr val="808080"/>
                </a:solidFill>
                <a:miter/>
              </a:ln>
            </p:spPr>
          </p:cxnSp>
        </p:grpSp>
      </p:grpSp>
      <p:grpSp>
        <p:nvGrpSpPr>
          <p:cNvPr id="182" name=""/>
          <p:cNvGrpSpPr/>
          <p:nvPr/>
        </p:nvGrpSpPr>
        <p:grpSpPr>
          <a:xfrm>
            <a:off x="181080" y="5361120"/>
            <a:ext cx="7162560" cy="475200"/>
            <a:chOff x="181080" y="5361120"/>
            <a:chExt cx="7162560" cy="475200"/>
          </a:xfrm>
        </p:grpSpPr>
        <p:sp>
          <p:nvSpPr>
            <p:cNvPr id="183" name=""/>
            <p:cNvSpPr/>
            <p:nvPr/>
          </p:nvSpPr>
          <p:spPr>
            <a:xfrm>
              <a:off x="181080" y="5361120"/>
              <a:ext cx="71625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    </a:t>
              </a: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C</a:t>
              </a:r>
              <a:r>
                <a:rPr b="1" i="1" lang="it-IT" sz="2200" spc="-1" strike="noStrike" baseline="-25000">
                  <a:solidFill>
                    <a:srgbClr val="800000"/>
                  </a:solidFill>
                  <a:latin typeface="Arial"/>
                </a:rPr>
                <a:t>4</a:t>
              </a:r>
              <a:r>
                <a:rPr b="1" lang="it-IT" sz="2200" spc="-1" strike="noStrike" baseline="-25000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777777"/>
                  </a:solidFill>
                  <a:latin typeface="Arial"/>
                </a:rPr>
                <a:t>= 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Top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0" lang="it-IT" sz="2200" spc="-1" strike="noStrike">
                  <a:solidFill>
                    <a:srgbClr val="000099"/>
                  </a:solidFill>
                  <a:latin typeface="Arial"/>
                </a:rPr>
                <a:t>(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Hobbies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Interests</a:t>
              </a:r>
              <a:r>
                <a:rPr b="0" lang="it-IT" sz="2200" spc="-1" strike="noStrike">
                  <a:solidFill>
                    <a:srgbClr val="000099"/>
                  </a:solidFill>
                  <a:latin typeface="Arial"/>
                </a:rPr>
                <a:t>)    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Book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804680" y="5501880"/>
              <a:ext cx="259200" cy="211680"/>
              <a:chOff x="1804680" y="5501880"/>
              <a:chExt cx="259200" cy="211680"/>
            </a:xfrm>
          </p:grpSpPr>
          <p:sp>
            <p:nvSpPr>
              <p:cNvPr id="185" name=""/>
              <p:cNvSpPr/>
              <p:nvPr/>
            </p:nvSpPr>
            <p:spPr>
              <a:xfrm>
                <a:off x="1805040" y="5505480"/>
                <a:ext cx="0" cy="2080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063880" y="5505480"/>
                <a:ext cx="0" cy="2080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7" name=""/>
              <p:cNvCxnSpPr>
                <a:stCxn id="185" idx="0"/>
                <a:endCxn id="186" idx="0"/>
              </p:cNvCxnSpPr>
              <p:nvPr/>
            </p:nvCxnSpPr>
            <p:spPr>
              <a:xfrm>
                <a:off x="1804680" y="5501880"/>
                <a:ext cx="259560" cy="1080"/>
              </a:xfrm>
              <a:prstGeom prst="straightConnector1">
                <a:avLst/>
              </a:prstGeom>
              <a:ln w="25560">
                <a:solidFill>
                  <a:srgbClr val="808080"/>
                </a:solidFill>
                <a:miter/>
              </a:ln>
            </p:spPr>
          </p:cxnSp>
        </p:grpSp>
        <p:grpSp>
          <p:nvGrpSpPr>
            <p:cNvPr id="188" name=""/>
            <p:cNvGrpSpPr/>
            <p:nvPr/>
          </p:nvGrpSpPr>
          <p:grpSpPr>
            <a:xfrm>
              <a:off x="4698720" y="5500440"/>
              <a:ext cx="259200" cy="211320"/>
              <a:chOff x="4698720" y="5500440"/>
              <a:chExt cx="259200" cy="211320"/>
            </a:xfrm>
          </p:grpSpPr>
          <p:sp>
            <p:nvSpPr>
              <p:cNvPr id="189" name=""/>
              <p:cNvSpPr/>
              <p:nvPr/>
            </p:nvSpPr>
            <p:spPr>
              <a:xfrm>
                <a:off x="4699080" y="5504040"/>
                <a:ext cx="0" cy="207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57920" y="5504040"/>
                <a:ext cx="0" cy="207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1" name=""/>
              <p:cNvCxnSpPr>
                <a:stCxn id="189" idx="0"/>
                <a:endCxn id="190" idx="0"/>
              </p:cNvCxnSpPr>
              <p:nvPr/>
            </p:nvCxnSpPr>
            <p:spPr>
              <a:xfrm>
                <a:off x="4698720" y="5500440"/>
                <a:ext cx="259560" cy="1080"/>
              </a:xfrm>
              <a:prstGeom prst="straightConnector1">
                <a:avLst/>
              </a:prstGeom>
              <a:ln w="25560">
                <a:solidFill>
                  <a:srgbClr val="808080"/>
                </a:solidFill>
                <a:miter/>
              </a:ln>
            </p:spPr>
          </p:cxnSp>
        </p:grpSp>
        <p:grpSp>
          <p:nvGrpSpPr>
            <p:cNvPr id="192" name=""/>
            <p:cNvGrpSpPr/>
            <p:nvPr/>
          </p:nvGrpSpPr>
          <p:grpSpPr>
            <a:xfrm>
              <a:off x="3288960" y="5500800"/>
              <a:ext cx="259200" cy="211320"/>
              <a:chOff x="3288960" y="5500800"/>
              <a:chExt cx="259200" cy="211320"/>
            </a:xfrm>
          </p:grpSpPr>
          <p:sp>
            <p:nvSpPr>
              <p:cNvPr id="193" name=""/>
              <p:cNvSpPr/>
              <p:nvPr/>
            </p:nvSpPr>
            <p:spPr>
              <a:xfrm flipV="1">
                <a:off x="3547800" y="5500800"/>
                <a:ext cx="0" cy="207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3288960" y="5500800"/>
                <a:ext cx="0" cy="2077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5" name=""/>
              <p:cNvCxnSpPr>
                <a:stCxn id="193" idx="0"/>
                <a:endCxn id="194" idx="0"/>
              </p:cNvCxnSpPr>
              <p:nvPr/>
            </p:nvCxnSpPr>
            <p:spPr>
              <a:xfrm flipH="1" flipV="1">
                <a:off x="3288960" y="5711400"/>
                <a:ext cx="259560" cy="1080"/>
              </a:xfrm>
              <a:prstGeom prst="straightConnector1">
                <a:avLst/>
              </a:prstGeom>
              <a:ln w="25560">
                <a:solidFill>
                  <a:srgbClr val="808080"/>
                </a:solidFill>
                <a:miter/>
              </a:ln>
            </p:spPr>
          </p:cxnSp>
        </p:grpSp>
      </p:grpSp>
      <p:sp>
        <p:nvSpPr>
          <p:cNvPr id="196" name=""/>
          <p:cNvSpPr/>
          <p:nvPr/>
        </p:nvSpPr>
        <p:spPr>
          <a:xfrm>
            <a:off x="441360" y="4143240"/>
            <a:ext cx="490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91040" y="3997440"/>
            <a:ext cx="5243400" cy="2027160"/>
            <a:chOff x="4091040" y="3997440"/>
            <a:chExt cx="5243400" cy="2027160"/>
          </a:xfrm>
        </p:grpSpPr>
        <p:sp>
          <p:nvSpPr>
            <p:cNvPr id="198" name=""/>
            <p:cNvSpPr/>
            <p:nvPr/>
          </p:nvSpPr>
          <p:spPr>
            <a:xfrm>
              <a:off x="7412040" y="468648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Hobbies and Intere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66040" y="5656320"/>
              <a:ext cx="186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oo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091040" y="3997440"/>
              <a:ext cx="3379680" cy="1981080"/>
              <a:chOff x="4091040" y="3997440"/>
              <a:chExt cx="3379680" cy="1981080"/>
            </a:xfrm>
          </p:grpSpPr>
          <p:sp>
            <p:nvSpPr>
              <p:cNvPr id="201" name=""/>
              <p:cNvSpPr/>
              <p:nvPr/>
            </p:nvSpPr>
            <p:spPr>
              <a:xfrm>
                <a:off x="5881680" y="3997440"/>
                <a:ext cx="158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T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2" name=""/>
              <p:cNvCxnSpPr>
                <a:stCxn id="203" idx="4"/>
                <a:endCxn id="204" idx="0"/>
              </p:cNvCxnSpPr>
              <p:nvPr/>
            </p:nvCxnSpPr>
            <p:spPr>
              <a:xfrm flipH="1">
                <a:off x="6136920" y="4559400"/>
                <a:ext cx="568800" cy="3830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05" name=""/>
              <p:cNvCxnSpPr>
                <a:stCxn id="206" idx="4"/>
                <a:endCxn id="207" idx="0"/>
              </p:cNvCxnSpPr>
              <p:nvPr/>
            </p:nvCxnSpPr>
            <p:spPr>
              <a:xfrm>
                <a:off x="7327800" y="5173560"/>
                <a:ext cx="13680" cy="5738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08" name=""/>
              <p:cNvSpPr/>
              <p:nvPr/>
            </p:nvSpPr>
            <p:spPr>
              <a:xfrm>
                <a:off x="4091040" y="4811760"/>
                <a:ext cx="21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Entertain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9" name=""/>
              <p:cNvCxnSpPr>
                <a:stCxn id="203" idx="4"/>
                <a:endCxn id="206" idx="0"/>
              </p:cNvCxnSpPr>
              <p:nvPr/>
            </p:nvCxnSpPr>
            <p:spPr>
              <a:xfrm>
                <a:off x="6705720" y="4559400"/>
                <a:ext cx="622800" cy="3830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03" name=""/>
              <p:cNvSpPr/>
              <p:nvPr/>
            </p:nvSpPr>
            <p:spPr>
              <a:xfrm>
                <a:off x="6591240" y="4327560"/>
                <a:ext cx="22860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22800" y="4941720"/>
                <a:ext cx="22716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215120" y="4941720"/>
                <a:ext cx="22716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24840" y="5746680"/>
                <a:ext cx="23004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A5AD-B41E-46A3-A3F1-374A2C5619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/>
  <dc:language>en-US</dc:language>
  <cp:lastModifiedBy>server</cp:lastModifiedBy>
  <dcterms:modified xsi:type="dcterms:W3CDTF">2006-08-30T09:34:41Z</dcterms:modified>
  <cp:revision>932</cp:revision>
  <dc:subject/>
  <dc:title>S-Match CoopIS'05</dc:title>
</cp:coreProperties>
</file>